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voltage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CD5-B7EA-45FA-9B5C-51F7FFA21D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СОШ №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056-99D7-4869-9ACC-1710103F1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У СОШ №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Верхний колонтитул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BA7-2562-4FD3-ADFE-2EA8810A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87A-A8D4-4CC8-A56C-02F570C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154-7200-4709-A650-56691196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689-1399-482B-96D6-480F01DF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711-BCC1-40A2-AA0B-7C6D1FF7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EB56-AE3C-4E61-8668-88E83D5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E26-718E-4A32-BB98-0FDC0DE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B2C-8BE7-4B36-A838-4D0DD538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6047-E44D-48EB-A22F-7E04A86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9399-AD9D-4056-AEAE-E7B5722F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6DF4-E9D0-4C51-A3CD-9AB7060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64C-D379-4D01-80BF-4BB37A2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23B-B931-4ADA-AB65-6371C60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4D4A-ADCB-4B27-B34B-060F172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C323-4AAD-41EE-AAB5-DCECA47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0EB-97AB-4F18-A34C-5AB868CD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820-3C60-4848-9701-D1FD7B21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423-76FB-4A23-9456-A6989C8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E67-B1CF-4133-BEB7-8F8064E2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B99-88DB-4C48-954B-DDF77372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ECA-84D1-4E77-95AB-50B91687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B12-29D8-4301-AC9F-EEC059AE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D37-E9D8-46A2-BB68-59853C9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72E-57D4-4528-BA93-3582DEE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8 - 2009 учебный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Ю.Б. Русск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B21-6BD1-4579-B698-2C65BC72F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8 - 2009 учебный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Ю.Б. Русск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3.gif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3.gif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3.gif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" Target="slide2.xml"/><Relationship Id="rId25" Type="http://schemas.openxmlformats.org/officeDocument/2006/relationships/image" Target="../media/image11.png"/><Relationship Id="rId26" Type="http://schemas.openxmlformats.org/officeDocument/2006/relationships/slide" Target=""/><Relationship Id="rId27" Type="http://schemas.openxmlformats.org/officeDocument/2006/relationships/image" Target="../media/image12.png"/><Relationship Id="rId28" Type="http://schemas.openxmlformats.org/officeDocument/2006/relationships/image" Target="../media/image13.gif"/><Relationship Id="rId29" Type="http://schemas.openxmlformats.org/officeDocument/2006/relationships/slide" Target="slide3.xml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3.gif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slide" Target="slide2.xml"/><Relationship Id="rId23" Type="http://schemas.openxmlformats.org/officeDocument/2006/relationships/image" Target="../media/image2.png"/><Relationship Id="rId24" Type="http://schemas.openxmlformats.org/officeDocument/2006/relationships/image" Target="../media/image13.gif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23.png"/><Relationship Id="rId5" Type="http://schemas.openxmlformats.org/officeDocument/2006/relationships/slide" Target="slide3.xml"/><Relationship Id="rId6" Type="http://schemas.openxmlformats.org/officeDocument/2006/relationships/image" Target="../media/image24.png"/><Relationship Id="rId7" Type="http://schemas.openxmlformats.org/officeDocument/2006/relationships/image" Target="../media/image13.gif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13"/>
          <p:cNvGrpSpPr/>
          <p:nvPr/>
        </p:nvGrpSpPr>
        <p:grpSpPr>
          <a:xfrm>
            <a:off x="7448400" y="6381720"/>
            <a:ext cx="1420560" cy="287280"/>
            <a:chOff x="7448400" y="6381720"/>
            <a:chExt cx="1420560" cy="287280"/>
          </a:xfrm>
        </p:grpSpPr>
        <p:pic>
          <p:nvPicPr>
            <p:cNvPr id="90" name="Rectangle 1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48400" y="6381720"/>
              <a:ext cx="14176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1280" y="6381720"/>
              <a:ext cx="1417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29"/>
          <p:cNvSpPr txBox="1"/>
          <p:nvPr/>
        </p:nvSpPr>
        <p:spPr>
          <a:xfrm>
            <a:off x="684360" y="1628640"/>
            <a:ext cx="78483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 «Химические  элементы"</a:t>
            </a:r>
            <a:endParaRPr b="0" i="1" lang="en-US" sz="2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6" descr="gallery_2_118_229"/>
          <p:cNvPicPr/>
          <p:nvPr/>
        </p:nvPicPr>
        <p:blipFill>
          <a:blip r:embed="rId6"/>
          <a:stretch/>
        </p:blipFill>
        <p:spPr>
          <a:xfrm>
            <a:off x="2987640" y="4292640"/>
            <a:ext cx="2808360" cy="1879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00040" y="62150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убрилова Е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AutoShape 8"/>
          <p:cNvSpPr/>
          <p:nvPr/>
        </p:nvSpPr>
        <p:spPr>
          <a:xfrm flipH="1">
            <a:off x="250200" y="189000"/>
            <a:ext cx="5545080" cy="3024000"/>
          </a:xfrm>
          <a:prstGeom prst="wedgeEllipseCallout">
            <a:avLst>
              <a:gd name="adj1" fmla="val -57995"/>
              <a:gd name="adj2" fmla="val 3911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слепительным пламенем ярки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 звездочка, чудо гори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талл тот и белый и лег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двенадцатой клетке стои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в сплавах легчайших, нашел применень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 стойкий и легкий метал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в деле самолетостро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видное место занял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468360" y="4292640"/>
            <a:ext cx="230328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M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26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29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7" name="AutoShape 8"/>
          <p:cNvSpPr/>
          <p:nvPr/>
        </p:nvSpPr>
        <p:spPr>
          <a:xfrm flipH="1">
            <a:off x="611280" y="476280"/>
            <a:ext cx="5184720" cy="230508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счисленны его соединения, какие образует о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них происходят изменения, которым имя легион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в чистом виде – черный, мрачный, не плавкий и едва гори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Бывает как кристалл прозрачный, в котором блещет солнца лу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395280" y="4292640"/>
            <a:ext cx="237636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43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46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4" name="AutoShape 8"/>
          <p:cNvSpPr/>
          <p:nvPr/>
        </p:nvSpPr>
        <p:spPr>
          <a:xfrm flipH="1">
            <a:off x="611280" y="476280"/>
            <a:ext cx="5184720" cy="208908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тверд, тяжел и тугоплавок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сталь прекрасную да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от небольших его добаво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Ржаветь она переста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Его валентность, нет сомнен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Бывает шесть лишь иногд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А у его соединений окраска разная всегд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539640" y="4221000"/>
            <a:ext cx="3095640" cy="9352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C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60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63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2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7"/>
          <p:cNvSpPr txBox="1"/>
          <p:nvPr/>
        </p:nvSpPr>
        <p:spPr>
          <a:xfrm>
            <a:off x="5867280" y="3213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AutoShape 8"/>
          <p:cNvSpPr/>
          <p:nvPr/>
        </p:nvSpPr>
        <p:spPr>
          <a:xfrm flipH="1">
            <a:off x="611280" y="476280"/>
            <a:ext cx="5184720" cy="237636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Достоин газ тот удивлен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Его применяют сейча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резки металлов и сталеварен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в доменных разных печах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едет его летчик в небесные дал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дводник с собою бер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 верно уже догадали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Что газ эт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468360" y="4292640"/>
            <a:ext cx="273528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77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80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5867280" y="3213000"/>
            <a:ext cx="86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AutoShape 8"/>
          <p:cNvSpPr/>
          <p:nvPr/>
        </p:nvSpPr>
        <p:spPr>
          <a:xfrm flipH="1">
            <a:off x="324000" y="476280"/>
            <a:ext cx="5543280" cy="259236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олях бесцветен, безопасен, полезе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зусловно все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Становится весьма опасен, когда свободен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совсем тогда он ядовит, окраше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ожет слаться по земле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Удушлив, казался страшен, как первый га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з отравляющих веще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468360" y="4292640"/>
            <a:ext cx="230328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94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97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38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38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4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7"/>
          <p:cNvSpPr txBox="1"/>
          <p:nvPr/>
        </p:nvSpPr>
        <p:spPr>
          <a:xfrm>
            <a:off x="5867280" y="3213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5" name="AutoShape 8"/>
          <p:cNvSpPr/>
          <p:nvPr/>
        </p:nvSpPr>
        <p:spPr>
          <a:xfrm flipH="1">
            <a:off x="611280" y="476280"/>
            <a:ext cx="5184720" cy="208908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нужен всем, когда лишь связан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вяжется с большим трудом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Весь мир живых существ обязан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Ему растительным белк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спространен во всех трех царствах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свобождается в огн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ть он и в красках, и в лекарствах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нужен в мире и в вой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395280" y="4365720"/>
            <a:ext cx="273672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11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14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0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5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7"/>
          <p:cNvSpPr txBox="1"/>
          <p:nvPr/>
        </p:nvSpPr>
        <p:spPr>
          <a:xfrm>
            <a:off x="5940360" y="3213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2" name="AutoShape 8"/>
          <p:cNvSpPr/>
          <p:nvPr/>
        </p:nvSpPr>
        <p:spPr>
          <a:xfrm flipH="1">
            <a:off x="611280" y="476280"/>
            <a:ext cx="5184720" cy="2448000"/>
          </a:xfrm>
          <a:prstGeom prst="wedgeEllipseCallout">
            <a:avLst>
              <a:gd name="adj1" fmla="val -57995"/>
              <a:gd name="adj2" fmla="val 2940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воде обычно он хранитс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Свет излучает в темнот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скать в природе лучше не трудите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Свободным нет его ниг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оспламеняться сам он мож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К тому же сильно ядови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Так отвечай без промедлен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ль в пятой группе он стои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468360" y="4292640"/>
            <a:ext cx="266364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28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31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7"/>
          <p:cNvSpPr txBox="1"/>
          <p:nvPr/>
        </p:nvSpPr>
        <p:spPr>
          <a:xfrm>
            <a:off x="5867280" y="321300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9" name="AutoShape 8"/>
          <p:cNvSpPr/>
          <p:nvPr/>
        </p:nvSpPr>
        <p:spPr>
          <a:xfrm flipH="1">
            <a:off x="611280" y="476280"/>
            <a:ext cx="5184720" cy="208908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режется ножо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воде газует, выделяя водород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, исчезая в вес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растворе щелочь образуе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Горит лиловым в кислоро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ходят лишь в соединения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в нем нуждаются растения.</a:t>
            </a:r>
            <a:r>
              <a:rPr b="1" lang="ru-RU" sz="14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539640" y="4292640"/>
            <a:ext cx="2818080" cy="106524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45" name="Rectangle 17" descr=""/>
            <p:cNvPicPr/>
            <p:nvPr/>
          </p:nvPicPr>
          <p:blipFill>
            <a:blip r:embed="rId3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48" name="Rectangle 18" descr=""/>
            <p:cNvPicPr/>
            <p:nvPr/>
          </p:nvPicPr>
          <p:blipFill>
            <a:blip r:embed="rId4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20" descr="89"/>
          <p:cNvPicPr/>
          <p:nvPr/>
        </p:nvPicPr>
        <p:blipFill>
          <a:blip r:embed="rId5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7"/>
          <p:cNvSpPr txBox="1"/>
          <p:nvPr/>
        </p:nvSpPr>
        <p:spPr>
          <a:xfrm>
            <a:off x="5796000" y="3213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6" name="AutoShape 8"/>
          <p:cNvSpPr/>
          <p:nvPr/>
        </p:nvSpPr>
        <p:spPr>
          <a:xfrm flipH="1">
            <a:off x="611280" y="476280"/>
            <a:ext cx="5184720" cy="223200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лы его соединения, в воде бывает иногд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е вызывает то сомненья, что это жесткая вод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Финляндии и на Урале цветные карбонаты есть ег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белоснежные в Каррар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Таким в дворцах, большая че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468360" y="4000680"/>
            <a:ext cx="2663640" cy="137304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Ca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62" name="Rectangle 17" descr=""/>
            <p:cNvPicPr/>
            <p:nvPr/>
          </p:nvPicPr>
          <p:blipFill>
            <a:blip r:embed="rId3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65" name="Rectangle 18" descr=""/>
            <p:cNvPicPr/>
            <p:nvPr/>
          </p:nvPicPr>
          <p:blipFill>
            <a:blip r:embed="rId4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Picture 20" descr="89"/>
          <p:cNvPicPr/>
          <p:nvPr/>
        </p:nvPicPr>
        <p:blipFill>
          <a:blip r:embed="rId5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8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7"/>
          <p:cNvSpPr txBox="1"/>
          <p:nvPr/>
        </p:nvSpPr>
        <p:spPr>
          <a:xfrm>
            <a:off x="5867280" y="3213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3" name="AutoShape 8"/>
          <p:cNvSpPr/>
          <p:nvPr/>
        </p:nvSpPr>
        <p:spPr>
          <a:xfrm flipH="1">
            <a:off x="642960" y="571680"/>
            <a:ext cx="5184720" cy="1849320"/>
          </a:xfrm>
          <a:prstGeom prst="wedgeEllipseCallout">
            <a:avLst>
              <a:gd name="adj1" fmla="val -55791"/>
              <a:gd name="adj2" fmla="val 4987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Тяжелый, жидкий и пахучий, подвижен, сильно ядови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Удушлив и весьма летучий сквозь поры пробки он лети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олях почти везде бесцветен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ть в Сакском озере в Крыму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Лечебным действием замечен и всем известен пот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468360" y="4292640"/>
            <a:ext cx="230328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B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79" name="Rectangle 17" descr=""/>
            <p:cNvPicPr/>
            <p:nvPr/>
          </p:nvPicPr>
          <p:blipFill>
            <a:blip r:embed="rId3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82" name="Rectangle 18" descr=""/>
            <p:cNvPicPr/>
            <p:nvPr/>
          </p:nvPicPr>
          <p:blipFill>
            <a:blip r:embed="rId4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Picture 20" descr="89"/>
          <p:cNvPicPr/>
          <p:nvPr/>
        </p:nvPicPr>
        <p:blipFill>
          <a:blip r:embed="rId5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9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8"/>
          <p:cNvSpPr txBox="1"/>
          <p:nvPr/>
        </p:nvSpPr>
        <p:spPr>
          <a:xfrm>
            <a:off x="2916360" y="189000"/>
            <a:ext cx="33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6" name="Group 88"/>
          <p:cNvGrpSpPr/>
          <p:nvPr/>
        </p:nvGrpSpPr>
        <p:grpSpPr>
          <a:xfrm>
            <a:off x="2195640" y="1197000"/>
            <a:ext cx="4320720" cy="2952360"/>
            <a:chOff x="2195640" y="1197000"/>
            <a:chExt cx="4320720" cy="2952360"/>
          </a:xfrm>
        </p:grpSpPr>
        <p:grpSp>
          <p:nvGrpSpPr>
            <p:cNvPr id="97" name="Group 30"/>
            <p:cNvGrpSpPr/>
            <p:nvPr/>
          </p:nvGrpSpPr>
          <p:grpSpPr>
            <a:xfrm>
              <a:off x="2295000" y="1197000"/>
              <a:ext cx="4120920" cy="2855880"/>
              <a:chOff x="2295000" y="1197000"/>
              <a:chExt cx="4120920" cy="2855880"/>
            </a:xfrm>
          </p:grpSpPr>
          <p:sp>
            <p:nvSpPr>
              <p:cNvPr id="98" name="Freeform 31"/>
              <p:cNvSpPr/>
              <p:nvPr/>
            </p:nvSpPr>
            <p:spPr>
              <a:xfrm>
                <a:off x="2619000" y="1665000"/>
                <a:ext cx="735120" cy="44928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WordArt 32"/>
              <p:cNvSpPr txBox="1"/>
              <p:nvPr/>
            </p:nvSpPr>
            <p:spPr>
              <a:xfrm>
                <a:off x="2874600" y="1904040"/>
                <a:ext cx="1270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00" name="Freeform 33"/>
              <p:cNvSpPr/>
              <p:nvPr/>
            </p:nvSpPr>
            <p:spPr>
              <a:xfrm>
                <a:off x="4824360" y="1694520"/>
                <a:ext cx="734760" cy="44928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4"/>
              <p:cNvSpPr/>
              <p:nvPr/>
            </p:nvSpPr>
            <p:spPr>
              <a:xfrm>
                <a:off x="4089240" y="1665000"/>
                <a:ext cx="703080" cy="44928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5"/>
              <p:cNvSpPr/>
              <p:nvPr/>
            </p:nvSpPr>
            <p:spPr>
              <a:xfrm>
                <a:off x="3322440" y="1634400"/>
                <a:ext cx="735480" cy="449280"/>
              </a:xfrm>
              <a:custGeom>
                <a:avLst/>
                <a:gdLst>
                  <a:gd name="textAreaLeft" fmla="*/ 0 w 735480"/>
                  <a:gd name="textAreaRight" fmla="*/ 735840 w 73548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5560200" y="1814040"/>
                <a:ext cx="735120" cy="44928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7"/>
              <p:cNvSpPr/>
              <p:nvPr/>
            </p:nvSpPr>
            <p:spPr>
              <a:xfrm>
                <a:off x="2308320" y="2036520"/>
                <a:ext cx="4087080" cy="520560"/>
              </a:xfrm>
              <a:custGeom>
                <a:avLst/>
                <a:gdLst>
                  <a:gd name="textAreaLeft" fmla="*/ 0 w 4087080"/>
                  <a:gd name="textAreaRight" fmla="*/ 4087440 w 4087080"/>
                  <a:gd name="textAreaTop" fmla="*/ 0 h 520560"/>
                  <a:gd name="textAreaBottom" fmla="*/ 520920 h 520560"/>
                </a:gdLst>
                <a:ahLst/>
                <a:rect l="textAreaLeft" t="textAreaTop" r="textAreaRight" b="textAreaBottom"/>
                <a:pathLst>
                  <a:path w="5799" h="789">
                    <a:moveTo>
                      <a:pt x="0" y="350"/>
                    </a:moveTo>
                    <a:cubicBezTo>
                      <a:pt x="52" y="305"/>
                      <a:pt x="228" y="114"/>
                      <a:pt x="313" y="72"/>
                    </a:cubicBezTo>
                    <a:cubicBezTo>
                      <a:pt x="398" y="30"/>
                      <a:pt x="433" y="61"/>
                      <a:pt x="508" y="100"/>
                    </a:cubicBezTo>
                    <a:cubicBezTo>
                      <a:pt x="583" y="140"/>
                      <a:pt x="668" y="306"/>
                      <a:pt x="762" y="309"/>
                    </a:cubicBezTo>
                    <a:cubicBezTo>
                      <a:pt x="856" y="312"/>
                      <a:pt x="988" y="138"/>
                      <a:pt x="1074" y="116"/>
                    </a:cubicBezTo>
                    <a:cubicBezTo>
                      <a:pt x="1160" y="93"/>
                      <a:pt x="1193" y="132"/>
                      <a:pt x="1279" y="175"/>
                    </a:cubicBezTo>
                    <a:cubicBezTo>
                      <a:pt x="1365" y="218"/>
                      <a:pt x="1491" y="388"/>
                      <a:pt x="1592" y="368"/>
                    </a:cubicBezTo>
                    <a:cubicBezTo>
                      <a:pt x="1693" y="349"/>
                      <a:pt x="1800" y="113"/>
                      <a:pt x="1884" y="56"/>
                    </a:cubicBezTo>
                    <a:cubicBezTo>
                      <a:pt x="1968" y="0"/>
                      <a:pt x="2032" y="3"/>
                      <a:pt x="2099" y="27"/>
                    </a:cubicBezTo>
                    <a:cubicBezTo>
                      <a:pt x="2166" y="52"/>
                      <a:pt x="2207" y="149"/>
                      <a:pt x="2285" y="205"/>
                    </a:cubicBezTo>
                    <a:cubicBezTo>
                      <a:pt x="2363" y="262"/>
                      <a:pt x="2462" y="377"/>
                      <a:pt x="2568" y="368"/>
                    </a:cubicBezTo>
                    <a:cubicBezTo>
                      <a:pt x="2674" y="359"/>
                      <a:pt x="2818" y="198"/>
                      <a:pt x="2919" y="146"/>
                    </a:cubicBezTo>
                    <a:cubicBezTo>
                      <a:pt x="3020" y="94"/>
                      <a:pt x="3113" y="68"/>
                      <a:pt x="3173" y="56"/>
                    </a:cubicBezTo>
                    <a:cubicBezTo>
                      <a:pt x="3233" y="44"/>
                      <a:pt x="3244" y="59"/>
                      <a:pt x="3281" y="72"/>
                    </a:cubicBezTo>
                    <a:cubicBezTo>
                      <a:pt x="3318" y="84"/>
                      <a:pt x="3349" y="102"/>
                      <a:pt x="3398" y="131"/>
                    </a:cubicBezTo>
                    <a:cubicBezTo>
                      <a:pt x="3447" y="160"/>
                      <a:pt x="3498" y="202"/>
                      <a:pt x="3573" y="250"/>
                    </a:cubicBezTo>
                    <a:cubicBezTo>
                      <a:pt x="3648" y="297"/>
                      <a:pt x="3751" y="429"/>
                      <a:pt x="3847" y="414"/>
                    </a:cubicBezTo>
                    <a:cubicBezTo>
                      <a:pt x="3943" y="399"/>
                      <a:pt x="4030" y="196"/>
                      <a:pt x="4149" y="161"/>
                    </a:cubicBezTo>
                    <a:cubicBezTo>
                      <a:pt x="4268" y="126"/>
                      <a:pt x="4420" y="145"/>
                      <a:pt x="4559" y="205"/>
                    </a:cubicBezTo>
                    <a:cubicBezTo>
                      <a:pt x="4698" y="266"/>
                      <a:pt x="4856" y="501"/>
                      <a:pt x="4986" y="525"/>
                    </a:cubicBezTo>
                    <a:cubicBezTo>
                      <a:pt x="5116" y="549"/>
                      <a:pt x="5204" y="309"/>
                      <a:pt x="5340" y="353"/>
                    </a:cubicBezTo>
                    <a:cubicBezTo>
                      <a:pt x="5476" y="397"/>
                      <a:pt x="5704" y="698"/>
                      <a:pt x="5799" y="789"/>
                    </a:cubicBezTo>
                  </a:path>
                </a:pathLst>
              </a:custGeom>
              <a:noFill/>
              <a:ln w="69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8"/>
              <p:cNvSpPr/>
              <p:nvPr/>
            </p:nvSpPr>
            <p:spPr>
              <a:xfrm>
                <a:off x="2315160" y="2086920"/>
                <a:ext cx="4100760" cy="385920"/>
              </a:xfrm>
              <a:custGeom>
                <a:avLst/>
                <a:gdLst>
                  <a:gd name="textAreaLeft" fmla="*/ 0 w 4100760"/>
                  <a:gd name="textAreaRight" fmla="*/ 4101120 w 4100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5819" h="585">
                    <a:moveTo>
                      <a:pt x="0" y="546"/>
                    </a:moveTo>
                    <a:cubicBezTo>
                      <a:pt x="12" y="476"/>
                      <a:pt x="33" y="190"/>
                      <a:pt x="80" y="124"/>
                    </a:cubicBezTo>
                    <a:cubicBezTo>
                      <a:pt x="127" y="58"/>
                      <a:pt x="200" y="100"/>
                      <a:pt x="282" y="151"/>
                    </a:cubicBezTo>
                    <a:cubicBezTo>
                      <a:pt x="364" y="202"/>
                      <a:pt x="477" y="443"/>
                      <a:pt x="570" y="429"/>
                    </a:cubicBezTo>
                    <a:cubicBezTo>
                      <a:pt x="663" y="415"/>
                      <a:pt x="755" y="102"/>
                      <a:pt x="840" y="68"/>
                    </a:cubicBezTo>
                    <a:cubicBezTo>
                      <a:pt x="925" y="34"/>
                      <a:pt x="993" y="153"/>
                      <a:pt x="1081" y="223"/>
                    </a:cubicBezTo>
                    <a:cubicBezTo>
                      <a:pt x="1169" y="293"/>
                      <a:pt x="1286" y="514"/>
                      <a:pt x="1371" y="488"/>
                    </a:cubicBezTo>
                    <a:cubicBezTo>
                      <a:pt x="1456" y="462"/>
                      <a:pt x="1498" y="136"/>
                      <a:pt x="1591" y="68"/>
                    </a:cubicBezTo>
                    <a:cubicBezTo>
                      <a:pt x="1684" y="0"/>
                      <a:pt x="1842" y="50"/>
                      <a:pt x="1931" y="81"/>
                    </a:cubicBezTo>
                    <a:cubicBezTo>
                      <a:pt x="2020" y="112"/>
                      <a:pt x="2043" y="198"/>
                      <a:pt x="2124" y="252"/>
                    </a:cubicBezTo>
                    <a:cubicBezTo>
                      <a:pt x="2205" y="306"/>
                      <a:pt x="2307" y="417"/>
                      <a:pt x="2417" y="408"/>
                    </a:cubicBezTo>
                    <a:cubicBezTo>
                      <a:pt x="2527" y="400"/>
                      <a:pt x="2676" y="245"/>
                      <a:pt x="2781" y="195"/>
                    </a:cubicBezTo>
                    <a:cubicBezTo>
                      <a:pt x="2886" y="146"/>
                      <a:pt x="2982" y="121"/>
                      <a:pt x="3044" y="109"/>
                    </a:cubicBezTo>
                    <a:cubicBezTo>
                      <a:pt x="3106" y="97"/>
                      <a:pt x="3118" y="112"/>
                      <a:pt x="3156" y="124"/>
                    </a:cubicBezTo>
                    <a:cubicBezTo>
                      <a:pt x="3195" y="135"/>
                      <a:pt x="3227" y="153"/>
                      <a:pt x="3277" y="181"/>
                    </a:cubicBezTo>
                    <a:cubicBezTo>
                      <a:pt x="3328" y="208"/>
                      <a:pt x="3381" y="249"/>
                      <a:pt x="3459" y="294"/>
                    </a:cubicBezTo>
                    <a:cubicBezTo>
                      <a:pt x="3537" y="340"/>
                      <a:pt x="3643" y="467"/>
                      <a:pt x="3743" y="452"/>
                    </a:cubicBezTo>
                    <a:cubicBezTo>
                      <a:pt x="3842" y="437"/>
                      <a:pt x="3932" y="243"/>
                      <a:pt x="4056" y="210"/>
                    </a:cubicBezTo>
                    <a:cubicBezTo>
                      <a:pt x="4179" y="176"/>
                      <a:pt x="4337" y="194"/>
                      <a:pt x="4481" y="252"/>
                    </a:cubicBezTo>
                    <a:cubicBezTo>
                      <a:pt x="4625" y="310"/>
                      <a:pt x="4789" y="535"/>
                      <a:pt x="4923" y="559"/>
                    </a:cubicBezTo>
                    <a:cubicBezTo>
                      <a:pt x="5058" y="582"/>
                      <a:pt x="5141" y="390"/>
                      <a:pt x="5290" y="394"/>
                    </a:cubicBezTo>
                    <a:cubicBezTo>
                      <a:pt x="5439" y="398"/>
                      <a:pt x="5709" y="545"/>
                      <a:pt x="5819" y="585"/>
                    </a:cubicBezTo>
                  </a:path>
                </a:pathLst>
              </a:custGeom>
              <a:noFill/>
              <a:ln w="698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9"/>
              <p:cNvSpPr/>
              <p:nvPr/>
            </p:nvSpPr>
            <p:spPr>
              <a:xfrm>
                <a:off x="5271840" y="223380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0"/>
              <p:cNvSpPr/>
              <p:nvPr/>
            </p:nvSpPr>
            <p:spPr>
              <a:xfrm>
                <a:off x="2842560" y="214380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1"/>
              <p:cNvSpPr/>
              <p:nvPr/>
            </p:nvSpPr>
            <p:spPr>
              <a:xfrm>
                <a:off x="3610440" y="2174400"/>
                <a:ext cx="734400" cy="44892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2"/>
              <p:cNvSpPr/>
              <p:nvPr/>
            </p:nvSpPr>
            <p:spPr>
              <a:xfrm>
                <a:off x="4440960" y="217440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3"/>
              <p:cNvSpPr/>
              <p:nvPr/>
            </p:nvSpPr>
            <p:spPr>
              <a:xfrm>
                <a:off x="2300400" y="2434320"/>
                <a:ext cx="4074480" cy="405720"/>
              </a:xfrm>
              <a:custGeom>
                <a:avLst/>
                <a:gdLst>
                  <a:gd name="textAreaLeft" fmla="*/ 0 w 4074480"/>
                  <a:gd name="textAreaRight" fmla="*/ 4074840 w 407448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5781" h="615">
                    <a:moveTo>
                      <a:pt x="31" y="615"/>
                    </a:moveTo>
                    <a:cubicBezTo>
                      <a:pt x="33" y="566"/>
                      <a:pt x="0" y="433"/>
                      <a:pt x="41" y="332"/>
                    </a:cubicBezTo>
                    <a:cubicBezTo>
                      <a:pt x="82" y="231"/>
                      <a:pt x="219" y="22"/>
                      <a:pt x="279" y="11"/>
                    </a:cubicBezTo>
                    <a:cubicBezTo>
                      <a:pt x="339" y="0"/>
                      <a:pt x="360" y="262"/>
                      <a:pt x="402" y="267"/>
                    </a:cubicBezTo>
                    <a:cubicBezTo>
                      <a:pt x="443" y="273"/>
                      <a:pt x="460" y="68"/>
                      <a:pt x="525" y="46"/>
                    </a:cubicBezTo>
                    <a:cubicBezTo>
                      <a:pt x="591" y="24"/>
                      <a:pt x="717" y="95"/>
                      <a:pt x="795" y="138"/>
                    </a:cubicBezTo>
                    <a:cubicBezTo>
                      <a:pt x="872" y="181"/>
                      <a:pt x="904" y="269"/>
                      <a:pt x="993" y="303"/>
                    </a:cubicBezTo>
                    <a:cubicBezTo>
                      <a:pt x="1081" y="337"/>
                      <a:pt x="1221" y="368"/>
                      <a:pt x="1324" y="343"/>
                    </a:cubicBezTo>
                    <a:cubicBezTo>
                      <a:pt x="1427" y="318"/>
                      <a:pt x="1527" y="192"/>
                      <a:pt x="1612" y="154"/>
                    </a:cubicBezTo>
                    <a:cubicBezTo>
                      <a:pt x="1697" y="117"/>
                      <a:pt x="1750" y="103"/>
                      <a:pt x="1833" y="114"/>
                    </a:cubicBezTo>
                    <a:cubicBezTo>
                      <a:pt x="1916" y="125"/>
                      <a:pt x="2026" y="171"/>
                      <a:pt x="2110" y="221"/>
                    </a:cubicBezTo>
                    <a:cubicBezTo>
                      <a:pt x="2194" y="270"/>
                      <a:pt x="2240" y="420"/>
                      <a:pt x="2337" y="413"/>
                    </a:cubicBezTo>
                    <a:cubicBezTo>
                      <a:pt x="2434" y="407"/>
                      <a:pt x="2586" y="236"/>
                      <a:pt x="2688" y="180"/>
                    </a:cubicBezTo>
                    <a:cubicBezTo>
                      <a:pt x="2790" y="126"/>
                      <a:pt x="2885" y="95"/>
                      <a:pt x="2946" y="80"/>
                    </a:cubicBezTo>
                    <a:cubicBezTo>
                      <a:pt x="3007" y="65"/>
                      <a:pt x="3020" y="79"/>
                      <a:pt x="3059" y="89"/>
                    </a:cubicBezTo>
                    <a:cubicBezTo>
                      <a:pt x="3098" y="97"/>
                      <a:pt x="3131" y="114"/>
                      <a:pt x="3183" y="139"/>
                    </a:cubicBezTo>
                    <a:cubicBezTo>
                      <a:pt x="3235" y="163"/>
                      <a:pt x="3290" y="201"/>
                      <a:pt x="3371" y="242"/>
                    </a:cubicBezTo>
                    <a:cubicBezTo>
                      <a:pt x="3451" y="283"/>
                      <a:pt x="3564" y="404"/>
                      <a:pt x="3663" y="383"/>
                    </a:cubicBezTo>
                    <a:cubicBezTo>
                      <a:pt x="3761" y="363"/>
                      <a:pt x="3840" y="164"/>
                      <a:pt x="3962" y="124"/>
                    </a:cubicBezTo>
                    <a:cubicBezTo>
                      <a:pt x="4083" y="84"/>
                      <a:pt x="4242" y="93"/>
                      <a:pt x="4389" y="143"/>
                    </a:cubicBezTo>
                    <a:cubicBezTo>
                      <a:pt x="4536" y="192"/>
                      <a:pt x="4708" y="429"/>
                      <a:pt x="4847" y="424"/>
                    </a:cubicBezTo>
                    <a:cubicBezTo>
                      <a:pt x="4986" y="420"/>
                      <a:pt x="5068" y="125"/>
                      <a:pt x="5224" y="116"/>
                    </a:cubicBezTo>
                    <a:cubicBezTo>
                      <a:pt x="5380" y="107"/>
                      <a:pt x="5665" y="318"/>
                      <a:pt x="5781" y="371"/>
                    </a:cubicBezTo>
                  </a:path>
                </a:pathLst>
              </a:custGeom>
              <a:noFill/>
              <a:ln w="698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4"/>
              <p:cNvSpPr/>
              <p:nvPr/>
            </p:nvSpPr>
            <p:spPr>
              <a:xfrm>
                <a:off x="2301120" y="2528640"/>
                <a:ext cx="4089600" cy="424080"/>
              </a:xfrm>
              <a:custGeom>
                <a:avLst/>
                <a:gdLst>
                  <a:gd name="textAreaLeft" fmla="*/ 0 w 4089600"/>
                  <a:gd name="textAreaRight" fmla="*/ 4089960 w 408960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5803" h="642">
                    <a:moveTo>
                      <a:pt x="0" y="189"/>
                    </a:moveTo>
                    <a:cubicBezTo>
                      <a:pt x="68" y="160"/>
                      <a:pt x="316" y="28"/>
                      <a:pt x="420" y="14"/>
                    </a:cubicBezTo>
                    <a:cubicBezTo>
                      <a:pt x="524" y="0"/>
                      <a:pt x="546" y="55"/>
                      <a:pt x="622" y="103"/>
                    </a:cubicBezTo>
                    <a:cubicBezTo>
                      <a:pt x="698" y="151"/>
                      <a:pt x="780" y="300"/>
                      <a:pt x="873" y="303"/>
                    </a:cubicBezTo>
                    <a:cubicBezTo>
                      <a:pt x="966" y="306"/>
                      <a:pt x="1097" y="140"/>
                      <a:pt x="1182" y="118"/>
                    </a:cubicBezTo>
                    <a:cubicBezTo>
                      <a:pt x="1267" y="96"/>
                      <a:pt x="1299" y="134"/>
                      <a:pt x="1384" y="175"/>
                    </a:cubicBezTo>
                    <a:cubicBezTo>
                      <a:pt x="1469" y="216"/>
                      <a:pt x="1594" y="379"/>
                      <a:pt x="1694" y="360"/>
                    </a:cubicBezTo>
                    <a:cubicBezTo>
                      <a:pt x="1794" y="341"/>
                      <a:pt x="1899" y="115"/>
                      <a:pt x="1982" y="61"/>
                    </a:cubicBezTo>
                    <a:cubicBezTo>
                      <a:pt x="2066" y="7"/>
                      <a:pt x="2129" y="10"/>
                      <a:pt x="2195" y="33"/>
                    </a:cubicBezTo>
                    <a:cubicBezTo>
                      <a:pt x="2261" y="57"/>
                      <a:pt x="2302" y="150"/>
                      <a:pt x="2379" y="204"/>
                    </a:cubicBezTo>
                    <a:cubicBezTo>
                      <a:pt x="2456" y="258"/>
                      <a:pt x="2554" y="369"/>
                      <a:pt x="2659" y="360"/>
                    </a:cubicBezTo>
                    <a:cubicBezTo>
                      <a:pt x="2764" y="352"/>
                      <a:pt x="2906" y="197"/>
                      <a:pt x="3006" y="147"/>
                    </a:cubicBezTo>
                    <a:cubicBezTo>
                      <a:pt x="3106" y="98"/>
                      <a:pt x="3198" y="73"/>
                      <a:pt x="3257" y="61"/>
                    </a:cubicBezTo>
                    <a:cubicBezTo>
                      <a:pt x="3316" y="49"/>
                      <a:pt x="3327" y="64"/>
                      <a:pt x="3364" y="76"/>
                    </a:cubicBezTo>
                    <a:cubicBezTo>
                      <a:pt x="3400" y="87"/>
                      <a:pt x="3431" y="105"/>
                      <a:pt x="3479" y="133"/>
                    </a:cubicBezTo>
                    <a:cubicBezTo>
                      <a:pt x="3528" y="160"/>
                      <a:pt x="3578" y="201"/>
                      <a:pt x="3652" y="246"/>
                    </a:cubicBezTo>
                    <a:cubicBezTo>
                      <a:pt x="3727" y="292"/>
                      <a:pt x="3828" y="419"/>
                      <a:pt x="3923" y="404"/>
                    </a:cubicBezTo>
                    <a:cubicBezTo>
                      <a:pt x="4018" y="389"/>
                      <a:pt x="4104" y="195"/>
                      <a:pt x="4222" y="162"/>
                    </a:cubicBezTo>
                    <a:cubicBezTo>
                      <a:pt x="4340" y="128"/>
                      <a:pt x="4490" y="146"/>
                      <a:pt x="4627" y="204"/>
                    </a:cubicBezTo>
                    <a:cubicBezTo>
                      <a:pt x="4765" y="262"/>
                      <a:pt x="4921" y="487"/>
                      <a:pt x="5050" y="511"/>
                    </a:cubicBezTo>
                    <a:cubicBezTo>
                      <a:pt x="5178" y="534"/>
                      <a:pt x="5274" y="324"/>
                      <a:pt x="5400" y="346"/>
                    </a:cubicBezTo>
                    <a:cubicBezTo>
                      <a:pt x="5525" y="368"/>
                      <a:pt x="5719" y="581"/>
                      <a:pt x="5803" y="642"/>
                    </a:cubicBezTo>
                  </a:path>
                </a:pathLst>
              </a:custGeom>
              <a:noFill/>
              <a:ln w="69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5"/>
              <p:cNvSpPr/>
              <p:nvPr/>
            </p:nvSpPr>
            <p:spPr>
              <a:xfrm>
                <a:off x="3993480" y="262332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6"/>
              <p:cNvSpPr/>
              <p:nvPr/>
            </p:nvSpPr>
            <p:spPr>
              <a:xfrm>
                <a:off x="3194280" y="259380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7"/>
              <p:cNvSpPr/>
              <p:nvPr/>
            </p:nvSpPr>
            <p:spPr>
              <a:xfrm>
                <a:off x="2426760" y="253368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8"/>
              <p:cNvSpPr/>
              <p:nvPr/>
            </p:nvSpPr>
            <p:spPr>
              <a:xfrm>
                <a:off x="5623560" y="268344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9"/>
              <p:cNvSpPr/>
              <p:nvPr/>
            </p:nvSpPr>
            <p:spPr>
              <a:xfrm rot="21357600">
                <a:off x="4824360" y="265248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0"/>
              <p:cNvSpPr/>
              <p:nvPr/>
            </p:nvSpPr>
            <p:spPr>
              <a:xfrm>
                <a:off x="2295000" y="2905560"/>
                <a:ext cx="4093920" cy="295920"/>
              </a:xfrm>
              <a:custGeom>
                <a:avLst/>
                <a:gdLst>
                  <a:gd name="textAreaLeft" fmla="*/ 0 w 4093920"/>
                  <a:gd name="textAreaRight" fmla="*/ 4094280 w 409392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5809" h="449">
                    <a:moveTo>
                      <a:pt x="0" y="313"/>
                    </a:moveTo>
                    <a:cubicBezTo>
                      <a:pt x="51" y="284"/>
                      <a:pt x="212" y="183"/>
                      <a:pt x="295" y="141"/>
                    </a:cubicBezTo>
                    <a:cubicBezTo>
                      <a:pt x="378" y="99"/>
                      <a:pt x="422" y="55"/>
                      <a:pt x="498" y="59"/>
                    </a:cubicBezTo>
                    <a:cubicBezTo>
                      <a:pt x="574" y="63"/>
                      <a:pt x="661" y="171"/>
                      <a:pt x="751" y="166"/>
                    </a:cubicBezTo>
                    <a:cubicBezTo>
                      <a:pt x="841" y="161"/>
                      <a:pt x="965" y="53"/>
                      <a:pt x="1035" y="29"/>
                    </a:cubicBezTo>
                    <a:cubicBezTo>
                      <a:pt x="1105" y="5"/>
                      <a:pt x="1121" y="0"/>
                      <a:pt x="1171" y="20"/>
                    </a:cubicBezTo>
                    <a:cubicBezTo>
                      <a:pt x="1221" y="40"/>
                      <a:pt x="1268" y="89"/>
                      <a:pt x="1337" y="147"/>
                    </a:cubicBezTo>
                    <a:cubicBezTo>
                      <a:pt x="1406" y="205"/>
                      <a:pt x="1497" y="376"/>
                      <a:pt x="1587" y="371"/>
                    </a:cubicBezTo>
                    <a:cubicBezTo>
                      <a:pt x="1677" y="366"/>
                      <a:pt x="1798" y="163"/>
                      <a:pt x="1874" y="117"/>
                    </a:cubicBezTo>
                    <a:cubicBezTo>
                      <a:pt x="1950" y="71"/>
                      <a:pt x="1974" y="89"/>
                      <a:pt x="2040" y="98"/>
                    </a:cubicBezTo>
                    <a:cubicBezTo>
                      <a:pt x="2106" y="107"/>
                      <a:pt x="2184" y="135"/>
                      <a:pt x="2271" y="172"/>
                    </a:cubicBezTo>
                    <a:cubicBezTo>
                      <a:pt x="2358" y="209"/>
                      <a:pt x="2457" y="322"/>
                      <a:pt x="2562" y="321"/>
                    </a:cubicBezTo>
                    <a:cubicBezTo>
                      <a:pt x="2667" y="320"/>
                      <a:pt x="2825" y="197"/>
                      <a:pt x="2899" y="166"/>
                    </a:cubicBezTo>
                    <a:cubicBezTo>
                      <a:pt x="2973" y="135"/>
                      <a:pt x="2957" y="137"/>
                      <a:pt x="3007" y="137"/>
                    </a:cubicBezTo>
                    <a:cubicBezTo>
                      <a:pt x="3057" y="137"/>
                      <a:pt x="3137" y="158"/>
                      <a:pt x="3202" y="166"/>
                    </a:cubicBezTo>
                    <a:cubicBezTo>
                      <a:pt x="3267" y="174"/>
                      <a:pt x="3338" y="188"/>
                      <a:pt x="3397" y="186"/>
                    </a:cubicBezTo>
                    <a:cubicBezTo>
                      <a:pt x="3456" y="184"/>
                      <a:pt x="3485" y="132"/>
                      <a:pt x="3559" y="151"/>
                    </a:cubicBezTo>
                    <a:cubicBezTo>
                      <a:pt x="3633" y="170"/>
                      <a:pt x="3737" y="294"/>
                      <a:pt x="3842" y="301"/>
                    </a:cubicBezTo>
                    <a:cubicBezTo>
                      <a:pt x="3947" y="308"/>
                      <a:pt x="4101" y="224"/>
                      <a:pt x="4188" y="195"/>
                    </a:cubicBezTo>
                    <a:cubicBezTo>
                      <a:pt x="4275" y="166"/>
                      <a:pt x="4302" y="132"/>
                      <a:pt x="4364" y="127"/>
                    </a:cubicBezTo>
                    <a:cubicBezTo>
                      <a:pt x="4426" y="122"/>
                      <a:pt x="4456" y="128"/>
                      <a:pt x="4559" y="166"/>
                    </a:cubicBezTo>
                    <a:cubicBezTo>
                      <a:pt x="4662" y="204"/>
                      <a:pt x="4850" y="335"/>
                      <a:pt x="4985" y="353"/>
                    </a:cubicBezTo>
                    <a:cubicBezTo>
                      <a:pt x="5120" y="371"/>
                      <a:pt x="5232" y="257"/>
                      <a:pt x="5369" y="273"/>
                    </a:cubicBezTo>
                    <a:cubicBezTo>
                      <a:pt x="5506" y="289"/>
                      <a:pt x="5717" y="412"/>
                      <a:pt x="5809" y="449"/>
                    </a:cubicBezTo>
                  </a:path>
                </a:pathLst>
              </a:custGeom>
              <a:noFill/>
              <a:ln w="69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1"/>
              <p:cNvSpPr/>
              <p:nvPr/>
            </p:nvSpPr>
            <p:spPr>
              <a:xfrm>
                <a:off x="2315160" y="3012840"/>
                <a:ext cx="4100760" cy="434880"/>
              </a:xfrm>
              <a:custGeom>
                <a:avLst/>
                <a:gdLst>
                  <a:gd name="textAreaLeft" fmla="*/ 0 w 4100760"/>
                  <a:gd name="textAreaRight" fmla="*/ 4101120 w 41007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5819" h="659">
                    <a:moveTo>
                      <a:pt x="0" y="425"/>
                    </a:moveTo>
                    <a:cubicBezTo>
                      <a:pt x="34" y="371"/>
                      <a:pt x="137" y="143"/>
                      <a:pt x="205" y="92"/>
                    </a:cubicBezTo>
                    <a:cubicBezTo>
                      <a:pt x="273" y="41"/>
                      <a:pt x="325" y="96"/>
                      <a:pt x="407" y="119"/>
                    </a:cubicBezTo>
                    <a:cubicBezTo>
                      <a:pt x="489" y="142"/>
                      <a:pt x="606" y="246"/>
                      <a:pt x="699" y="232"/>
                    </a:cubicBezTo>
                    <a:cubicBezTo>
                      <a:pt x="792" y="218"/>
                      <a:pt x="886" y="58"/>
                      <a:pt x="965" y="36"/>
                    </a:cubicBezTo>
                    <a:cubicBezTo>
                      <a:pt x="1044" y="14"/>
                      <a:pt x="1131" y="77"/>
                      <a:pt x="1171" y="103"/>
                    </a:cubicBezTo>
                    <a:cubicBezTo>
                      <a:pt x="1211" y="129"/>
                      <a:pt x="1152" y="154"/>
                      <a:pt x="1206" y="191"/>
                    </a:cubicBezTo>
                    <a:cubicBezTo>
                      <a:pt x="1260" y="228"/>
                      <a:pt x="1409" y="353"/>
                      <a:pt x="1494" y="327"/>
                    </a:cubicBezTo>
                    <a:cubicBezTo>
                      <a:pt x="1579" y="301"/>
                      <a:pt x="1633" y="72"/>
                      <a:pt x="1716" y="36"/>
                    </a:cubicBezTo>
                    <a:cubicBezTo>
                      <a:pt x="1799" y="0"/>
                      <a:pt x="1920" y="69"/>
                      <a:pt x="1992" y="113"/>
                    </a:cubicBezTo>
                    <a:cubicBezTo>
                      <a:pt x="2064" y="157"/>
                      <a:pt x="2055" y="259"/>
                      <a:pt x="2148" y="298"/>
                    </a:cubicBezTo>
                    <a:cubicBezTo>
                      <a:pt x="2241" y="337"/>
                      <a:pt x="2424" y="360"/>
                      <a:pt x="2548" y="347"/>
                    </a:cubicBezTo>
                    <a:cubicBezTo>
                      <a:pt x="2672" y="334"/>
                      <a:pt x="2776" y="217"/>
                      <a:pt x="2890" y="220"/>
                    </a:cubicBezTo>
                    <a:cubicBezTo>
                      <a:pt x="3004" y="223"/>
                      <a:pt x="3151" y="371"/>
                      <a:pt x="3231" y="366"/>
                    </a:cubicBezTo>
                    <a:cubicBezTo>
                      <a:pt x="3311" y="361"/>
                      <a:pt x="3314" y="214"/>
                      <a:pt x="3368" y="191"/>
                    </a:cubicBezTo>
                    <a:cubicBezTo>
                      <a:pt x="3422" y="168"/>
                      <a:pt x="3502" y="211"/>
                      <a:pt x="3554" y="230"/>
                    </a:cubicBezTo>
                    <a:cubicBezTo>
                      <a:pt x="3606" y="249"/>
                      <a:pt x="3641" y="292"/>
                      <a:pt x="3680" y="308"/>
                    </a:cubicBezTo>
                    <a:cubicBezTo>
                      <a:pt x="3719" y="324"/>
                      <a:pt x="3755" y="328"/>
                      <a:pt x="3788" y="327"/>
                    </a:cubicBezTo>
                    <a:cubicBezTo>
                      <a:pt x="3821" y="326"/>
                      <a:pt x="3801" y="315"/>
                      <a:pt x="3881" y="300"/>
                    </a:cubicBezTo>
                    <a:cubicBezTo>
                      <a:pt x="3961" y="285"/>
                      <a:pt x="4150" y="224"/>
                      <a:pt x="4266" y="240"/>
                    </a:cubicBezTo>
                    <a:cubicBezTo>
                      <a:pt x="4382" y="256"/>
                      <a:pt x="4486" y="352"/>
                      <a:pt x="4579" y="396"/>
                    </a:cubicBezTo>
                    <a:cubicBezTo>
                      <a:pt x="4672" y="440"/>
                      <a:pt x="4749" y="500"/>
                      <a:pt x="4823" y="503"/>
                    </a:cubicBezTo>
                    <a:cubicBezTo>
                      <a:pt x="4897" y="506"/>
                      <a:pt x="4959" y="449"/>
                      <a:pt x="5024" y="417"/>
                    </a:cubicBezTo>
                    <a:cubicBezTo>
                      <a:pt x="5089" y="385"/>
                      <a:pt x="5148" y="317"/>
                      <a:pt x="5213" y="308"/>
                    </a:cubicBezTo>
                    <a:cubicBezTo>
                      <a:pt x="5278" y="299"/>
                      <a:pt x="5314" y="304"/>
                      <a:pt x="5415" y="362"/>
                    </a:cubicBezTo>
                    <a:cubicBezTo>
                      <a:pt x="5516" y="420"/>
                      <a:pt x="5735" y="597"/>
                      <a:pt x="5819" y="659"/>
                    </a:cubicBezTo>
                  </a:path>
                </a:pathLst>
              </a:custGeom>
              <a:noFill/>
              <a:ln w="698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2"/>
              <p:cNvSpPr/>
              <p:nvPr/>
            </p:nvSpPr>
            <p:spPr>
              <a:xfrm>
                <a:off x="5079960" y="3072240"/>
                <a:ext cx="735120" cy="448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3"/>
              <p:cNvSpPr/>
              <p:nvPr/>
            </p:nvSpPr>
            <p:spPr>
              <a:xfrm>
                <a:off x="4281120" y="310284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4"/>
              <p:cNvSpPr/>
              <p:nvPr/>
            </p:nvSpPr>
            <p:spPr>
              <a:xfrm>
                <a:off x="3418200" y="310284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5"/>
              <p:cNvSpPr/>
              <p:nvPr/>
            </p:nvSpPr>
            <p:spPr>
              <a:xfrm>
                <a:off x="2554920" y="3012840"/>
                <a:ext cx="734760" cy="44892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1374" h="838">
                    <a:moveTo>
                      <a:pt x="120" y="269"/>
                    </a:moveTo>
                    <a:cubicBezTo>
                      <a:pt x="139" y="298"/>
                      <a:pt x="22" y="208"/>
                      <a:pt x="41" y="236"/>
                    </a:cubicBezTo>
                    <a:cubicBezTo>
                      <a:pt x="64" y="305"/>
                      <a:pt x="49" y="277"/>
                      <a:pt x="79" y="323"/>
                    </a:cubicBezTo>
                    <a:cubicBezTo>
                      <a:pt x="100" y="402"/>
                      <a:pt x="75" y="324"/>
                      <a:pt x="108" y="390"/>
                    </a:cubicBezTo>
                    <a:cubicBezTo>
                      <a:pt x="130" y="434"/>
                      <a:pt x="127" y="457"/>
                      <a:pt x="166" y="496"/>
                    </a:cubicBezTo>
                    <a:cubicBezTo>
                      <a:pt x="169" y="505"/>
                      <a:pt x="170" y="516"/>
                      <a:pt x="175" y="524"/>
                    </a:cubicBezTo>
                    <a:cubicBezTo>
                      <a:pt x="180" y="532"/>
                      <a:pt x="190" y="536"/>
                      <a:pt x="194" y="544"/>
                    </a:cubicBezTo>
                    <a:cubicBezTo>
                      <a:pt x="220" y="596"/>
                      <a:pt x="218" y="636"/>
                      <a:pt x="262" y="678"/>
                    </a:cubicBezTo>
                    <a:cubicBezTo>
                      <a:pt x="289" y="764"/>
                      <a:pt x="249" y="646"/>
                      <a:pt x="290" y="736"/>
                    </a:cubicBezTo>
                    <a:cubicBezTo>
                      <a:pt x="298" y="754"/>
                      <a:pt x="303" y="774"/>
                      <a:pt x="310" y="793"/>
                    </a:cubicBezTo>
                    <a:cubicBezTo>
                      <a:pt x="313" y="803"/>
                      <a:pt x="312" y="815"/>
                      <a:pt x="319" y="822"/>
                    </a:cubicBezTo>
                    <a:cubicBezTo>
                      <a:pt x="326" y="829"/>
                      <a:pt x="338" y="829"/>
                      <a:pt x="348" y="832"/>
                    </a:cubicBezTo>
                    <a:cubicBezTo>
                      <a:pt x="549" y="806"/>
                      <a:pt x="788" y="825"/>
                      <a:pt x="994" y="838"/>
                    </a:cubicBezTo>
                    <a:cubicBezTo>
                      <a:pt x="1102" y="829"/>
                      <a:pt x="1014" y="798"/>
                      <a:pt x="1119" y="771"/>
                    </a:cubicBezTo>
                    <a:cubicBezTo>
                      <a:pt x="1157" y="694"/>
                      <a:pt x="1255" y="629"/>
                      <a:pt x="1292" y="541"/>
                    </a:cubicBezTo>
                    <a:cubicBezTo>
                      <a:pt x="1308" y="503"/>
                      <a:pt x="1355" y="486"/>
                      <a:pt x="1368" y="445"/>
                    </a:cubicBezTo>
                    <a:cubicBezTo>
                      <a:pt x="1374" y="406"/>
                      <a:pt x="1362" y="473"/>
                      <a:pt x="1340" y="435"/>
                    </a:cubicBezTo>
                    <a:cubicBezTo>
                      <a:pt x="1368" y="387"/>
                      <a:pt x="1330" y="394"/>
                      <a:pt x="1320" y="397"/>
                    </a:cubicBezTo>
                    <a:cubicBezTo>
                      <a:pt x="1205" y="394"/>
                      <a:pt x="1157" y="435"/>
                      <a:pt x="1004" y="435"/>
                    </a:cubicBezTo>
                    <a:cubicBezTo>
                      <a:pt x="960" y="416"/>
                      <a:pt x="1077" y="198"/>
                      <a:pt x="1039" y="169"/>
                    </a:cubicBezTo>
                    <a:cubicBezTo>
                      <a:pt x="996" y="136"/>
                      <a:pt x="930" y="176"/>
                      <a:pt x="876" y="179"/>
                    </a:cubicBezTo>
                    <a:cubicBezTo>
                      <a:pt x="849" y="261"/>
                      <a:pt x="834" y="290"/>
                      <a:pt x="821" y="387"/>
                    </a:cubicBezTo>
                    <a:cubicBezTo>
                      <a:pt x="779" y="384"/>
                      <a:pt x="734" y="409"/>
                      <a:pt x="706" y="378"/>
                    </a:cubicBezTo>
                    <a:cubicBezTo>
                      <a:pt x="704" y="375"/>
                      <a:pt x="741" y="106"/>
                      <a:pt x="742" y="92"/>
                    </a:cubicBezTo>
                    <a:cubicBezTo>
                      <a:pt x="739" y="22"/>
                      <a:pt x="747" y="102"/>
                      <a:pt x="716" y="39"/>
                    </a:cubicBezTo>
                    <a:lnTo>
                      <a:pt x="572" y="48"/>
                    </a:lnTo>
                    <a:cubicBezTo>
                      <a:pt x="538" y="26"/>
                      <a:pt x="500" y="47"/>
                      <a:pt x="485" y="48"/>
                    </a:cubicBezTo>
                    <a:cubicBezTo>
                      <a:pt x="470" y="49"/>
                      <a:pt x="486" y="0"/>
                      <a:pt x="482" y="54"/>
                    </a:cubicBezTo>
                    <a:cubicBezTo>
                      <a:pt x="470" y="159"/>
                      <a:pt x="493" y="269"/>
                      <a:pt x="463" y="371"/>
                    </a:cubicBezTo>
                    <a:cubicBezTo>
                      <a:pt x="458" y="390"/>
                      <a:pt x="425" y="364"/>
                      <a:pt x="406" y="361"/>
                    </a:cubicBezTo>
                    <a:cubicBezTo>
                      <a:pt x="378" y="335"/>
                      <a:pt x="356" y="332"/>
                      <a:pt x="319" y="323"/>
                    </a:cubicBezTo>
                    <a:cubicBezTo>
                      <a:pt x="251" y="279"/>
                      <a:pt x="137" y="250"/>
                      <a:pt x="60" y="217"/>
                    </a:cubicBezTo>
                    <a:cubicBezTo>
                      <a:pt x="0" y="192"/>
                      <a:pt x="59" y="213"/>
                      <a:pt x="53" y="212"/>
                    </a:cubicBezTo>
                    <a:cubicBezTo>
                      <a:pt x="47" y="211"/>
                      <a:pt x="11" y="198"/>
                      <a:pt x="22" y="208"/>
                    </a:cubicBezTo>
                    <a:cubicBezTo>
                      <a:pt x="22" y="208"/>
                      <a:pt x="120" y="269"/>
                      <a:pt x="120" y="269"/>
                    </a:cubicBez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WordArt 56"/>
              <p:cNvSpPr txBox="1"/>
              <p:nvPr/>
            </p:nvSpPr>
            <p:spPr>
              <a:xfrm>
                <a:off x="3578040" y="1874520"/>
                <a:ext cx="12708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4" name="WordArt 57"/>
              <p:cNvSpPr txBox="1"/>
              <p:nvPr/>
            </p:nvSpPr>
            <p:spPr>
              <a:xfrm>
                <a:off x="4344840" y="1904040"/>
                <a:ext cx="12780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5" name="WordArt 58"/>
              <p:cNvSpPr txBox="1"/>
              <p:nvPr/>
            </p:nvSpPr>
            <p:spPr>
              <a:xfrm>
                <a:off x="5079960" y="1934640"/>
                <a:ext cx="12780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6" name="WordArt 59"/>
              <p:cNvSpPr txBox="1"/>
              <p:nvPr/>
            </p:nvSpPr>
            <p:spPr>
              <a:xfrm>
                <a:off x="5847840" y="2084040"/>
                <a:ext cx="12744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7" name="WordArt 60"/>
              <p:cNvSpPr txBox="1"/>
              <p:nvPr/>
            </p:nvSpPr>
            <p:spPr>
              <a:xfrm>
                <a:off x="3130200" y="2383560"/>
                <a:ext cx="12744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8" name="WordArt 61"/>
              <p:cNvSpPr txBox="1"/>
              <p:nvPr/>
            </p:nvSpPr>
            <p:spPr>
              <a:xfrm>
                <a:off x="4761000" y="2413080"/>
                <a:ext cx="12744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9" name="WordArt 62"/>
              <p:cNvSpPr txBox="1"/>
              <p:nvPr/>
            </p:nvSpPr>
            <p:spPr>
              <a:xfrm>
                <a:off x="3929400" y="2443680"/>
                <a:ext cx="1270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0" name="WordArt 63"/>
              <p:cNvSpPr txBox="1"/>
              <p:nvPr/>
            </p:nvSpPr>
            <p:spPr>
              <a:xfrm>
                <a:off x="5591880" y="2473200"/>
                <a:ext cx="12744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1" name="WordArt 64"/>
              <p:cNvSpPr txBox="1"/>
              <p:nvPr/>
            </p:nvSpPr>
            <p:spPr>
              <a:xfrm>
                <a:off x="2714760" y="2773440"/>
                <a:ext cx="1918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2" name="WordArt 65"/>
              <p:cNvSpPr txBox="1"/>
              <p:nvPr/>
            </p:nvSpPr>
            <p:spPr>
              <a:xfrm>
                <a:off x="5847840" y="2923200"/>
                <a:ext cx="19152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3" name="WordArt 66"/>
              <p:cNvSpPr txBox="1"/>
              <p:nvPr/>
            </p:nvSpPr>
            <p:spPr>
              <a:xfrm>
                <a:off x="5048280" y="2892960"/>
                <a:ext cx="1918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4" name="WordArt 67"/>
              <p:cNvSpPr txBox="1"/>
              <p:nvPr/>
            </p:nvSpPr>
            <p:spPr>
              <a:xfrm>
                <a:off x="4217400" y="2833200"/>
                <a:ext cx="19188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5" name="WordArt 68"/>
              <p:cNvSpPr txBox="1"/>
              <p:nvPr/>
            </p:nvSpPr>
            <p:spPr>
              <a:xfrm>
                <a:off x="3449880" y="2802960"/>
                <a:ext cx="19188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6" name="WordArt 69"/>
              <p:cNvSpPr txBox="1"/>
              <p:nvPr/>
            </p:nvSpPr>
            <p:spPr>
              <a:xfrm>
                <a:off x="3673440" y="3342600"/>
                <a:ext cx="1918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7" name="WordArt 70"/>
              <p:cNvSpPr txBox="1"/>
              <p:nvPr/>
            </p:nvSpPr>
            <p:spPr>
              <a:xfrm>
                <a:off x="2810880" y="3282480"/>
                <a:ext cx="19152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8" name="WordArt 71"/>
              <p:cNvSpPr txBox="1"/>
              <p:nvPr/>
            </p:nvSpPr>
            <p:spPr>
              <a:xfrm>
                <a:off x="4536720" y="3372120"/>
                <a:ext cx="191520" cy="11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39" name="WordArt 72"/>
              <p:cNvSpPr txBox="1"/>
              <p:nvPr/>
            </p:nvSpPr>
            <p:spPr>
              <a:xfrm>
                <a:off x="5335920" y="3342600"/>
                <a:ext cx="191880" cy="11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0" name="Freeform 73"/>
              <p:cNvSpPr/>
              <p:nvPr/>
            </p:nvSpPr>
            <p:spPr>
              <a:xfrm>
                <a:off x="2296800" y="3385440"/>
                <a:ext cx="4087800" cy="532080"/>
              </a:xfrm>
              <a:custGeom>
                <a:avLst/>
                <a:gdLst>
                  <a:gd name="textAreaLeft" fmla="*/ 0 w 4087800"/>
                  <a:gd name="textAreaRight" fmla="*/ 4088160 w 408780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800" h="806">
                    <a:moveTo>
                      <a:pt x="65" y="806"/>
                    </a:moveTo>
                    <a:cubicBezTo>
                      <a:pt x="60" y="697"/>
                      <a:pt x="0" y="254"/>
                      <a:pt x="27" y="149"/>
                    </a:cubicBezTo>
                    <a:cubicBezTo>
                      <a:pt x="54" y="44"/>
                      <a:pt x="164" y="154"/>
                      <a:pt x="229" y="176"/>
                    </a:cubicBezTo>
                    <a:cubicBezTo>
                      <a:pt x="294" y="198"/>
                      <a:pt x="365" y="276"/>
                      <a:pt x="417" y="279"/>
                    </a:cubicBezTo>
                    <a:cubicBezTo>
                      <a:pt x="469" y="282"/>
                      <a:pt x="481" y="222"/>
                      <a:pt x="543" y="191"/>
                    </a:cubicBezTo>
                    <a:cubicBezTo>
                      <a:pt x="605" y="160"/>
                      <a:pt x="683" y="104"/>
                      <a:pt x="787" y="93"/>
                    </a:cubicBezTo>
                    <a:cubicBezTo>
                      <a:pt x="891" y="82"/>
                      <a:pt x="1075" y="85"/>
                      <a:pt x="1168" y="122"/>
                    </a:cubicBezTo>
                    <a:cubicBezTo>
                      <a:pt x="1261" y="159"/>
                      <a:pt x="1269" y="307"/>
                      <a:pt x="1344" y="318"/>
                    </a:cubicBezTo>
                    <a:cubicBezTo>
                      <a:pt x="1419" y="329"/>
                      <a:pt x="1528" y="226"/>
                      <a:pt x="1617" y="191"/>
                    </a:cubicBezTo>
                    <a:cubicBezTo>
                      <a:pt x="1706" y="156"/>
                      <a:pt x="1802" y="92"/>
                      <a:pt x="1878" y="106"/>
                    </a:cubicBezTo>
                    <a:cubicBezTo>
                      <a:pt x="1954" y="120"/>
                      <a:pt x="1976" y="266"/>
                      <a:pt x="2071" y="277"/>
                    </a:cubicBezTo>
                    <a:cubicBezTo>
                      <a:pt x="2166" y="288"/>
                      <a:pt x="2338" y="180"/>
                      <a:pt x="2447" y="171"/>
                    </a:cubicBezTo>
                    <a:cubicBezTo>
                      <a:pt x="2556" y="162"/>
                      <a:pt x="2637" y="226"/>
                      <a:pt x="2728" y="220"/>
                    </a:cubicBezTo>
                    <a:cubicBezTo>
                      <a:pt x="2819" y="214"/>
                      <a:pt x="2929" y="146"/>
                      <a:pt x="2991" y="134"/>
                    </a:cubicBezTo>
                    <a:cubicBezTo>
                      <a:pt x="3053" y="122"/>
                      <a:pt x="3065" y="137"/>
                      <a:pt x="3103" y="149"/>
                    </a:cubicBezTo>
                    <a:cubicBezTo>
                      <a:pt x="3142" y="160"/>
                      <a:pt x="3174" y="178"/>
                      <a:pt x="3224" y="206"/>
                    </a:cubicBezTo>
                    <a:cubicBezTo>
                      <a:pt x="3275" y="233"/>
                      <a:pt x="3318" y="292"/>
                      <a:pt x="3406" y="319"/>
                    </a:cubicBezTo>
                    <a:cubicBezTo>
                      <a:pt x="3494" y="346"/>
                      <a:pt x="3656" y="381"/>
                      <a:pt x="3755" y="367"/>
                    </a:cubicBezTo>
                    <a:cubicBezTo>
                      <a:pt x="3854" y="353"/>
                      <a:pt x="3870" y="264"/>
                      <a:pt x="4003" y="235"/>
                    </a:cubicBezTo>
                    <a:cubicBezTo>
                      <a:pt x="4136" y="206"/>
                      <a:pt x="4405" y="168"/>
                      <a:pt x="4556" y="191"/>
                    </a:cubicBezTo>
                    <a:cubicBezTo>
                      <a:pt x="4707" y="214"/>
                      <a:pt x="4774" y="392"/>
                      <a:pt x="4907" y="376"/>
                    </a:cubicBezTo>
                    <a:cubicBezTo>
                      <a:pt x="5040" y="360"/>
                      <a:pt x="5219" y="142"/>
                      <a:pt x="5356" y="93"/>
                    </a:cubicBezTo>
                    <a:cubicBezTo>
                      <a:pt x="5493" y="44"/>
                      <a:pt x="5654" y="0"/>
                      <a:pt x="5727" y="83"/>
                    </a:cubicBezTo>
                    <a:cubicBezTo>
                      <a:pt x="5800" y="166"/>
                      <a:pt x="5782" y="485"/>
                      <a:pt x="5796" y="591"/>
                    </a:cubicBezTo>
                  </a:path>
                </a:pathLst>
              </a:custGeom>
              <a:noFill/>
              <a:ln w="698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4"/>
              <p:cNvSpPr/>
              <p:nvPr/>
            </p:nvSpPr>
            <p:spPr>
              <a:xfrm>
                <a:off x="2322360" y="3494160"/>
                <a:ext cx="4045320" cy="558720"/>
              </a:xfrm>
              <a:custGeom>
                <a:avLst/>
                <a:gdLst>
                  <a:gd name="textAreaLeft" fmla="*/ 0 w 4045320"/>
                  <a:gd name="textAreaRight" fmla="*/ 4045680 w 404532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5740" h="846">
                    <a:moveTo>
                      <a:pt x="0" y="826"/>
                    </a:moveTo>
                    <a:cubicBezTo>
                      <a:pt x="37" y="709"/>
                      <a:pt x="152" y="228"/>
                      <a:pt x="221" y="114"/>
                    </a:cubicBezTo>
                    <a:cubicBezTo>
                      <a:pt x="290" y="0"/>
                      <a:pt x="341" y="103"/>
                      <a:pt x="416" y="142"/>
                    </a:cubicBezTo>
                    <a:cubicBezTo>
                      <a:pt x="491" y="182"/>
                      <a:pt x="576" y="348"/>
                      <a:pt x="670" y="351"/>
                    </a:cubicBezTo>
                    <a:cubicBezTo>
                      <a:pt x="764" y="354"/>
                      <a:pt x="896" y="180"/>
                      <a:pt x="982" y="158"/>
                    </a:cubicBezTo>
                    <a:cubicBezTo>
                      <a:pt x="1068" y="135"/>
                      <a:pt x="1101" y="174"/>
                      <a:pt x="1187" y="217"/>
                    </a:cubicBezTo>
                    <a:cubicBezTo>
                      <a:pt x="1273" y="260"/>
                      <a:pt x="1399" y="430"/>
                      <a:pt x="1500" y="410"/>
                    </a:cubicBezTo>
                    <a:cubicBezTo>
                      <a:pt x="1601" y="391"/>
                      <a:pt x="1708" y="155"/>
                      <a:pt x="1792" y="98"/>
                    </a:cubicBezTo>
                    <a:cubicBezTo>
                      <a:pt x="1876" y="42"/>
                      <a:pt x="1940" y="45"/>
                      <a:pt x="2007" y="69"/>
                    </a:cubicBezTo>
                    <a:cubicBezTo>
                      <a:pt x="2074" y="94"/>
                      <a:pt x="2115" y="191"/>
                      <a:pt x="2193" y="247"/>
                    </a:cubicBezTo>
                    <a:cubicBezTo>
                      <a:pt x="2271" y="304"/>
                      <a:pt x="2370" y="419"/>
                      <a:pt x="2476" y="410"/>
                    </a:cubicBezTo>
                    <a:cubicBezTo>
                      <a:pt x="2582" y="401"/>
                      <a:pt x="2726" y="240"/>
                      <a:pt x="2827" y="188"/>
                    </a:cubicBezTo>
                    <a:cubicBezTo>
                      <a:pt x="2928" y="136"/>
                      <a:pt x="3021" y="110"/>
                      <a:pt x="3081" y="98"/>
                    </a:cubicBezTo>
                    <a:cubicBezTo>
                      <a:pt x="3141" y="86"/>
                      <a:pt x="3152" y="101"/>
                      <a:pt x="3189" y="114"/>
                    </a:cubicBezTo>
                    <a:cubicBezTo>
                      <a:pt x="3226" y="126"/>
                      <a:pt x="3257" y="144"/>
                      <a:pt x="3306" y="173"/>
                    </a:cubicBezTo>
                    <a:cubicBezTo>
                      <a:pt x="3355" y="202"/>
                      <a:pt x="3406" y="244"/>
                      <a:pt x="3481" y="292"/>
                    </a:cubicBezTo>
                    <a:cubicBezTo>
                      <a:pt x="3556" y="339"/>
                      <a:pt x="3659" y="471"/>
                      <a:pt x="3755" y="456"/>
                    </a:cubicBezTo>
                    <a:cubicBezTo>
                      <a:pt x="3851" y="441"/>
                      <a:pt x="3938" y="238"/>
                      <a:pt x="4057" y="203"/>
                    </a:cubicBezTo>
                    <a:cubicBezTo>
                      <a:pt x="4176" y="168"/>
                      <a:pt x="4328" y="187"/>
                      <a:pt x="4467" y="247"/>
                    </a:cubicBezTo>
                    <a:cubicBezTo>
                      <a:pt x="4606" y="308"/>
                      <a:pt x="4770" y="561"/>
                      <a:pt x="4894" y="567"/>
                    </a:cubicBezTo>
                    <a:cubicBezTo>
                      <a:pt x="5018" y="573"/>
                      <a:pt x="5095" y="333"/>
                      <a:pt x="5213" y="280"/>
                    </a:cubicBezTo>
                    <a:cubicBezTo>
                      <a:pt x="5331" y="227"/>
                      <a:pt x="5516" y="156"/>
                      <a:pt x="5604" y="250"/>
                    </a:cubicBezTo>
                    <a:cubicBezTo>
                      <a:pt x="5692" y="344"/>
                      <a:pt x="5712" y="722"/>
                      <a:pt x="5740" y="846"/>
                    </a:cubicBezTo>
                  </a:path>
                </a:pathLst>
              </a:custGeom>
              <a:noFill/>
              <a:ln w="69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75"/>
              <p:cNvSpPr/>
              <p:nvPr/>
            </p:nvSpPr>
            <p:spPr>
              <a:xfrm>
                <a:off x="4984200" y="1305000"/>
                <a:ext cx="767160" cy="179640"/>
              </a:xfrm>
              <a:prstGeom prst="cloudCallout">
                <a:avLst>
                  <a:gd name="adj1" fmla="val -56060"/>
                  <a:gd name="adj2" fmla="val 24634"/>
                </a:avLst>
              </a:prstGeom>
              <a:gradFill rotWithShape="0">
                <a:gsLst>
                  <a:gs pos="0">
                    <a:srgbClr val="03d4a8"/>
                  </a:gs>
                  <a:gs pos="100000">
                    <a:srgbClr val="03d4a8"/>
                  </a:gs>
                </a:gsLst>
                <a:lin ang="18900000"/>
              </a:gra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20" rIns="24120" tIns="11880" bIns="1188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6"/>
              <p:cNvSpPr/>
              <p:nvPr/>
            </p:nvSpPr>
            <p:spPr>
              <a:xfrm>
                <a:off x="3130200" y="1305000"/>
                <a:ext cx="767520" cy="179640"/>
              </a:xfrm>
              <a:prstGeom prst="cloudCallout">
                <a:avLst>
                  <a:gd name="adj1" fmla="val 82967"/>
                  <a:gd name="adj2" fmla="val 20953"/>
                </a:avLst>
              </a:prstGeom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18900000"/>
              </a:gra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20" rIns="24120" tIns="11880" bIns="1188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77"/>
              <p:cNvSpPr/>
              <p:nvPr/>
            </p:nvSpPr>
            <p:spPr>
              <a:xfrm>
                <a:off x="3993480" y="1365480"/>
                <a:ext cx="831240" cy="149760"/>
              </a:xfrm>
              <a:prstGeom prst="cloudCallout">
                <a:avLst>
                  <a:gd name="adj1" fmla="val -26865"/>
                  <a:gd name="adj2" fmla="val 25328"/>
                </a:avLst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20" rIns="24120" tIns="11880" bIns="1188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8"/>
              <p:cNvSpPr/>
              <p:nvPr/>
            </p:nvSpPr>
            <p:spPr>
              <a:xfrm>
                <a:off x="2315160" y="3762000"/>
                <a:ext cx="4059720" cy="2876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WordArt 79"/>
              <p:cNvSpPr txBox="1"/>
              <p:nvPr/>
            </p:nvSpPr>
            <p:spPr>
              <a:xfrm>
                <a:off x="2426760" y="3821400"/>
                <a:ext cx="2174400" cy="159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1584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Путешествие в мир веществ</a:t>
                </a:r>
                <a:endParaRPr b="0" i="1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blipFill rotWithShape="0">
                    <a:blip r:embed="rId2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grpSp>
            <p:nvGrpSpPr>
              <p:cNvPr id="147" name="Rectangle 80"/>
              <p:cNvGrpSpPr/>
              <p:nvPr/>
            </p:nvGrpSpPr>
            <p:grpSpPr>
              <a:xfrm>
                <a:off x="4986000" y="3852360"/>
                <a:ext cx="505800" cy="121680"/>
                <a:chOff x="4986000" y="3852360"/>
                <a:chExt cx="505800" cy="121680"/>
              </a:xfrm>
            </p:grpSpPr>
            <p:pic>
              <p:nvPicPr>
                <p:cNvPr id="148" name="Rectangle 80" descr="">
                  <a:hlinkClick r:id="rId24" action="ppaction://hlinksldjump"/>
                </p:cNvPr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987440" y="3853440"/>
                  <a:ext cx="5043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>
                  <a:off x="4986000" y="3852360"/>
                  <a:ext cx="50364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4120" rIns="2412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00" spc="-1" strike="noStrike">
                      <a:solidFill>
                        <a:srgbClr val="000000"/>
                      </a:solidFill>
                      <a:latin typeface="Arial"/>
                    </a:rPr>
                    <a:t>Правила игры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Rectangle 81"/>
              <p:cNvGrpSpPr/>
              <p:nvPr/>
            </p:nvGrpSpPr>
            <p:grpSpPr>
              <a:xfrm>
                <a:off x="5686920" y="3852360"/>
                <a:ext cx="389880" cy="121680"/>
                <a:chOff x="5686920" y="3852360"/>
                <a:chExt cx="389880" cy="121680"/>
              </a:xfrm>
            </p:grpSpPr>
            <p:pic>
              <p:nvPicPr>
                <p:cNvPr id="151" name="Rectangle 81" descr="">
                  <a:hlinkClick r:id="rId26" action="ppaction://hlinksldjump"/>
                </p:cNvPr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686920" y="3853440"/>
                  <a:ext cx="38988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>
                  <a:off x="5686920" y="3852360"/>
                  <a:ext cx="3877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4120" rIns="24120" tIns="11880" bIns="11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00" spc="-1" strike="noStrike">
                      <a:solidFill>
                        <a:srgbClr val="000000"/>
                      </a:solidFill>
                      <a:latin typeface="Arial"/>
                    </a:rPr>
                    <a:t>Другая игра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3" name="Picture 82" descr="89"/>
              <p:cNvPicPr/>
              <p:nvPr/>
            </p:nvPicPr>
            <p:blipFill>
              <a:blip r:embed="rId28"/>
              <a:stretch/>
            </p:blipFill>
            <p:spPr>
              <a:xfrm>
                <a:off x="2315160" y="1197000"/>
                <a:ext cx="634320" cy="51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Rectangle 83"/>
            <p:cNvSpPr/>
            <p:nvPr/>
          </p:nvSpPr>
          <p:spPr>
            <a:xfrm>
              <a:off x="2195640" y="1197000"/>
              <a:ext cx="4320720" cy="29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Rectangle 84"/>
          <p:cNvGrpSpPr/>
          <p:nvPr/>
        </p:nvGrpSpPr>
        <p:grpSpPr>
          <a:xfrm>
            <a:off x="2419200" y="6315120"/>
            <a:ext cx="1420560" cy="287280"/>
            <a:chOff x="2419200" y="6315120"/>
            <a:chExt cx="1420560" cy="287280"/>
          </a:xfrm>
        </p:grpSpPr>
        <p:pic>
          <p:nvPicPr>
            <p:cNvPr id="156" name="Rectangle 8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2420280" y="6315120"/>
              <a:ext cx="14194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419200" y="6315120"/>
              <a:ext cx="14194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Rectangle 90"/>
          <p:cNvGrpSpPr/>
          <p:nvPr/>
        </p:nvGrpSpPr>
        <p:grpSpPr>
          <a:xfrm>
            <a:off x="8174160" y="6381720"/>
            <a:ext cx="768240" cy="287280"/>
            <a:chOff x="8174160" y="6381720"/>
            <a:chExt cx="768240" cy="287280"/>
          </a:xfrm>
        </p:grpSpPr>
        <p:pic>
          <p:nvPicPr>
            <p:cNvPr id="159" name="Rectangle 90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8175600" y="6381720"/>
              <a:ext cx="7632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174160" y="6381720"/>
              <a:ext cx="7682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1187280" y="4149720"/>
            <a:ext cx="6985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c9cdf"/>
                </a:solidFill>
                <a:latin typeface="Bookman Old Style"/>
                <a:ea typeface="Arial"/>
              </a:rPr>
              <a:t>1.</a:t>
            </a: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 Выбери кораб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c9cdf"/>
                </a:solidFill>
                <a:latin typeface="Bookman Old Style"/>
                <a:ea typeface="Arial"/>
              </a:rPr>
              <a:t>2.</a:t>
            </a: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 Щёлкни мышкой по номеру кора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c9cdf"/>
                </a:solidFill>
                <a:latin typeface="Bookman Old Style"/>
                <a:ea typeface="Arial"/>
              </a:rPr>
              <a:t>3.</a:t>
            </a: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 Прочитай вопрос и дай на него уст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c9cdf"/>
                </a:solidFill>
                <a:latin typeface="Bookman Old Style"/>
                <a:ea typeface="Arial"/>
              </a:rPr>
              <a:t>4.</a:t>
            </a: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 Щёлки мышкой по экрану и ты узна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правиль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c9cdf"/>
                </a:solidFill>
                <a:latin typeface="Bookman Old Style"/>
                <a:ea typeface="Arial"/>
              </a:rPr>
              <a:t>5.</a:t>
            </a: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 Чтобы продолжить игру, щёлкни мыш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c9cdf"/>
                </a:solidFill>
                <a:latin typeface="Bookman Old Style"/>
                <a:ea typeface="Arial"/>
              </a:rPr>
              <a:t>по кнопке «Продолжить иг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7"/>
          <p:cNvSpPr txBox="1"/>
          <p:nvPr/>
        </p:nvSpPr>
        <p:spPr>
          <a:xfrm>
            <a:off x="5867280" y="321300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0" name="AutoShape 8"/>
          <p:cNvSpPr/>
          <p:nvPr/>
        </p:nvSpPr>
        <p:spPr>
          <a:xfrm flipH="1">
            <a:off x="539640" y="476280"/>
            <a:ext cx="5184720" cy="2376360"/>
          </a:xfrm>
          <a:prstGeom prst="wedgeEllipseCallout">
            <a:avLst>
              <a:gd name="adj1" fmla="val -57995"/>
              <a:gd name="adj2" fmla="val 3200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ссеян по земле он повсюду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емного есть его в морской во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ссказывать не буду, как обнаружен он вез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Летучий, темный, кристаллич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мало растворим в во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створ спиртовый столь типичны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аптеке встретится вез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324000" y="4292640"/>
            <a:ext cx="367164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496" name="Rectangle 17" descr=""/>
            <p:cNvPicPr/>
            <p:nvPr/>
          </p:nvPicPr>
          <p:blipFill>
            <a:blip r:embed="rId3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499" name="Rectangle 18" descr=""/>
            <p:cNvPicPr/>
            <p:nvPr/>
          </p:nvPicPr>
          <p:blipFill>
            <a:blip r:embed="rId4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Picture 20" descr="89"/>
          <p:cNvPicPr/>
          <p:nvPr/>
        </p:nvPicPr>
        <p:blipFill>
          <a:blip r:embed="rId5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0" dur="2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4"/>
          <p:cNvSpPr/>
          <p:nvPr/>
        </p:nvSpPr>
        <p:spPr>
          <a:xfrm>
            <a:off x="684360" y="112536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258920" y="170028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Freeform 13"/>
          <p:cNvSpPr/>
          <p:nvPr/>
        </p:nvSpPr>
        <p:spPr>
          <a:xfrm>
            <a:off x="5651640" y="119700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5"/>
          <p:cNvSpPr/>
          <p:nvPr/>
        </p:nvSpPr>
        <p:spPr>
          <a:xfrm>
            <a:off x="3995640" y="1125360"/>
            <a:ext cx="1584360" cy="10796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7"/>
          <p:cNvSpPr/>
          <p:nvPr/>
        </p:nvSpPr>
        <p:spPr>
          <a:xfrm>
            <a:off x="2268360" y="1052640"/>
            <a:ext cx="1657440" cy="107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2"/>
          <p:cNvSpPr/>
          <p:nvPr/>
        </p:nvSpPr>
        <p:spPr>
          <a:xfrm>
            <a:off x="7308720" y="1484280"/>
            <a:ext cx="1656000" cy="1079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3"/>
          <p:cNvSpPr/>
          <p:nvPr/>
        </p:nvSpPr>
        <p:spPr>
          <a:xfrm>
            <a:off x="-15840" y="2017800"/>
            <a:ext cx="9205920" cy="1252440"/>
          </a:xfrm>
          <a:custGeom>
            <a:avLst/>
            <a:gdLst>
              <a:gd name="textAreaLeft" fmla="*/ 0 w 9205920"/>
              <a:gd name="textAreaRight" fmla="*/ 9206280 w 920592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4"/>
          <p:cNvSpPr/>
          <p:nvPr/>
        </p:nvSpPr>
        <p:spPr>
          <a:xfrm>
            <a:off x="0" y="2139840"/>
            <a:ext cx="9237600" cy="928800"/>
          </a:xfrm>
          <a:custGeom>
            <a:avLst/>
            <a:gdLst>
              <a:gd name="textAreaLeft" fmla="*/ 0 w 9237600"/>
              <a:gd name="textAreaRight" fmla="*/ 9237960 w 92376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819" h="585">
                <a:moveTo>
                  <a:pt x="0" y="546"/>
                </a:moveTo>
                <a:cubicBezTo>
                  <a:pt x="12" y="476"/>
                  <a:pt x="33" y="190"/>
                  <a:pt x="80" y="124"/>
                </a:cubicBezTo>
                <a:cubicBezTo>
                  <a:pt x="127" y="58"/>
                  <a:pt x="200" y="100"/>
                  <a:pt x="282" y="151"/>
                </a:cubicBezTo>
                <a:cubicBezTo>
                  <a:pt x="364" y="202"/>
                  <a:pt x="477" y="443"/>
                  <a:pt x="570" y="429"/>
                </a:cubicBezTo>
                <a:cubicBezTo>
                  <a:pt x="663" y="415"/>
                  <a:pt x="755" y="102"/>
                  <a:pt x="840" y="68"/>
                </a:cubicBezTo>
                <a:cubicBezTo>
                  <a:pt x="925" y="34"/>
                  <a:pt x="993" y="153"/>
                  <a:pt x="1081" y="223"/>
                </a:cubicBezTo>
                <a:cubicBezTo>
                  <a:pt x="1169" y="293"/>
                  <a:pt x="1286" y="514"/>
                  <a:pt x="1371" y="488"/>
                </a:cubicBezTo>
                <a:cubicBezTo>
                  <a:pt x="1456" y="462"/>
                  <a:pt x="1498" y="136"/>
                  <a:pt x="1591" y="68"/>
                </a:cubicBezTo>
                <a:cubicBezTo>
                  <a:pt x="1684" y="0"/>
                  <a:pt x="1842" y="50"/>
                  <a:pt x="1931" y="81"/>
                </a:cubicBezTo>
                <a:cubicBezTo>
                  <a:pt x="2020" y="112"/>
                  <a:pt x="2043" y="198"/>
                  <a:pt x="2124" y="252"/>
                </a:cubicBezTo>
                <a:cubicBezTo>
                  <a:pt x="2205" y="306"/>
                  <a:pt x="2307" y="417"/>
                  <a:pt x="2417" y="408"/>
                </a:cubicBezTo>
                <a:cubicBezTo>
                  <a:pt x="2527" y="400"/>
                  <a:pt x="2676" y="245"/>
                  <a:pt x="2781" y="195"/>
                </a:cubicBezTo>
                <a:cubicBezTo>
                  <a:pt x="2886" y="146"/>
                  <a:pt x="2982" y="121"/>
                  <a:pt x="3044" y="109"/>
                </a:cubicBezTo>
                <a:cubicBezTo>
                  <a:pt x="3106" y="97"/>
                  <a:pt x="3118" y="112"/>
                  <a:pt x="3156" y="124"/>
                </a:cubicBezTo>
                <a:cubicBezTo>
                  <a:pt x="3195" y="135"/>
                  <a:pt x="3227" y="153"/>
                  <a:pt x="3277" y="181"/>
                </a:cubicBezTo>
                <a:cubicBezTo>
                  <a:pt x="3328" y="208"/>
                  <a:pt x="3381" y="249"/>
                  <a:pt x="3459" y="294"/>
                </a:cubicBezTo>
                <a:cubicBezTo>
                  <a:pt x="3537" y="340"/>
                  <a:pt x="3643" y="467"/>
                  <a:pt x="3743" y="452"/>
                </a:cubicBezTo>
                <a:cubicBezTo>
                  <a:pt x="3842" y="437"/>
                  <a:pt x="3932" y="243"/>
                  <a:pt x="4056" y="210"/>
                </a:cubicBezTo>
                <a:cubicBezTo>
                  <a:pt x="4179" y="176"/>
                  <a:pt x="4337" y="194"/>
                  <a:pt x="4481" y="252"/>
                </a:cubicBezTo>
                <a:cubicBezTo>
                  <a:pt x="4625" y="310"/>
                  <a:pt x="4789" y="535"/>
                  <a:pt x="4923" y="559"/>
                </a:cubicBezTo>
                <a:cubicBezTo>
                  <a:pt x="5058" y="582"/>
                  <a:pt x="5141" y="390"/>
                  <a:pt x="5290" y="394"/>
                </a:cubicBezTo>
                <a:cubicBezTo>
                  <a:pt x="5439" y="398"/>
                  <a:pt x="5709" y="545"/>
                  <a:pt x="5819" y="585"/>
                </a:cubicBezTo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5"/>
          <p:cNvSpPr/>
          <p:nvPr/>
        </p:nvSpPr>
        <p:spPr>
          <a:xfrm>
            <a:off x="6659640" y="249228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7"/>
          <p:cNvSpPr/>
          <p:nvPr/>
        </p:nvSpPr>
        <p:spPr>
          <a:xfrm>
            <a:off x="1187280" y="2276640"/>
            <a:ext cx="1656000" cy="1079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2916360" y="234936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9"/>
          <p:cNvSpPr/>
          <p:nvPr/>
        </p:nvSpPr>
        <p:spPr>
          <a:xfrm>
            <a:off x="4788000" y="234936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2"/>
          <p:cNvSpPr/>
          <p:nvPr/>
        </p:nvSpPr>
        <p:spPr>
          <a:xfrm>
            <a:off x="-33480" y="2975040"/>
            <a:ext cx="9177480" cy="976320"/>
          </a:xfrm>
          <a:custGeom>
            <a:avLst/>
            <a:gdLst>
              <a:gd name="textAreaLeft" fmla="*/ 0 w 9177480"/>
              <a:gd name="textAreaRight" fmla="*/ 9177840 w 91774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781" h="615">
                <a:moveTo>
                  <a:pt x="31" y="615"/>
                </a:moveTo>
                <a:cubicBezTo>
                  <a:pt x="33" y="566"/>
                  <a:pt x="0" y="433"/>
                  <a:pt x="41" y="332"/>
                </a:cubicBezTo>
                <a:cubicBezTo>
                  <a:pt x="82" y="231"/>
                  <a:pt x="219" y="22"/>
                  <a:pt x="279" y="11"/>
                </a:cubicBezTo>
                <a:cubicBezTo>
                  <a:pt x="339" y="0"/>
                  <a:pt x="360" y="262"/>
                  <a:pt x="402" y="267"/>
                </a:cubicBezTo>
                <a:cubicBezTo>
                  <a:pt x="443" y="273"/>
                  <a:pt x="460" y="68"/>
                  <a:pt x="525" y="46"/>
                </a:cubicBezTo>
                <a:cubicBezTo>
                  <a:pt x="591" y="24"/>
                  <a:pt x="717" y="95"/>
                  <a:pt x="795" y="138"/>
                </a:cubicBezTo>
                <a:cubicBezTo>
                  <a:pt x="872" y="181"/>
                  <a:pt x="904" y="269"/>
                  <a:pt x="993" y="303"/>
                </a:cubicBezTo>
                <a:cubicBezTo>
                  <a:pt x="1081" y="337"/>
                  <a:pt x="1221" y="368"/>
                  <a:pt x="1324" y="343"/>
                </a:cubicBezTo>
                <a:cubicBezTo>
                  <a:pt x="1427" y="318"/>
                  <a:pt x="1527" y="192"/>
                  <a:pt x="1612" y="154"/>
                </a:cubicBezTo>
                <a:cubicBezTo>
                  <a:pt x="1697" y="117"/>
                  <a:pt x="1750" y="103"/>
                  <a:pt x="1833" y="114"/>
                </a:cubicBezTo>
                <a:cubicBezTo>
                  <a:pt x="1916" y="125"/>
                  <a:pt x="2026" y="171"/>
                  <a:pt x="2110" y="221"/>
                </a:cubicBezTo>
                <a:cubicBezTo>
                  <a:pt x="2194" y="270"/>
                  <a:pt x="2240" y="420"/>
                  <a:pt x="2337" y="413"/>
                </a:cubicBezTo>
                <a:cubicBezTo>
                  <a:pt x="2434" y="407"/>
                  <a:pt x="2586" y="236"/>
                  <a:pt x="2688" y="180"/>
                </a:cubicBezTo>
                <a:cubicBezTo>
                  <a:pt x="2790" y="126"/>
                  <a:pt x="2885" y="95"/>
                  <a:pt x="2946" y="80"/>
                </a:cubicBezTo>
                <a:cubicBezTo>
                  <a:pt x="3007" y="65"/>
                  <a:pt x="3020" y="79"/>
                  <a:pt x="3059" y="89"/>
                </a:cubicBezTo>
                <a:cubicBezTo>
                  <a:pt x="3098" y="97"/>
                  <a:pt x="3131" y="114"/>
                  <a:pt x="3183" y="139"/>
                </a:cubicBezTo>
                <a:cubicBezTo>
                  <a:pt x="3235" y="163"/>
                  <a:pt x="3290" y="201"/>
                  <a:pt x="3371" y="242"/>
                </a:cubicBezTo>
                <a:cubicBezTo>
                  <a:pt x="3451" y="283"/>
                  <a:pt x="3564" y="404"/>
                  <a:pt x="3663" y="383"/>
                </a:cubicBezTo>
                <a:cubicBezTo>
                  <a:pt x="3761" y="363"/>
                  <a:pt x="3840" y="164"/>
                  <a:pt x="3962" y="124"/>
                </a:cubicBezTo>
                <a:cubicBezTo>
                  <a:pt x="4083" y="84"/>
                  <a:pt x="4242" y="93"/>
                  <a:pt x="4389" y="143"/>
                </a:cubicBezTo>
                <a:cubicBezTo>
                  <a:pt x="4536" y="192"/>
                  <a:pt x="4708" y="429"/>
                  <a:pt x="4847" y="424"/>
                </a:cubicBezTo>
                <a:cubicBezTo>
                  <a:pt x="4986" y="420"/>
                  <a:pt x="5068" y="125"/>
                  <a:pt x="5224" y="116"/>
                </a:cubicBezTo>
                <a:cubicBezTo>
                  <a:pt x="5380" y="107"/>
                  <a:pt x="5665" y="318"/>
                  <a:pt x="5781" y="371"/>
                </a:cubicBezTo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3"/>
          <p:cNvSpPr/>
          <p:nvPr/>
        </p:nvSpPr>
        <p:spPr>
          <a:xfrm>
            <a:off x="-31680" y="3201840"/>
            <a:ext cx="9212040" cy="1019160"/>
          </a:xfrm>
          <a:custGeom>
            <a:avLst/>
            <a:gdLst>
              <a:gd name="textAreaLeft" fmla="*/ 0 w 9212040"/>
              <a:gd name="textAreaRight" fmla="*/ 9212400 w 921204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5803" h="642">
                <a:moveTo>
                  <a:pt x="0" y="189"/>
                </a:moveTo>
                <a:cubicBezTo>
                  <a:pt x="68" y="160"/>
                  <a:pt x="316" y="28"/>
                  <a:pt x="420" y="14"/>
                </a:cubicBezTo>
                <a:cubicBezTo>
                  <a:pt x="524" y="0"/>
                  <a:pt x="546" y="55"/>
                  <a:pt x="622" y="103"/>
                </a:cubicBezTo>
                <a:cubicBezTo>
                  <a:pt x="698" y="151"/>
                  <a:pt x="780" y="300"/>
                  <a:pt x="873" y="303"/>
                </a:cubicBezTo>
                <a:cubicBezTo>
                  <a:pt x="966" y="306"/>
                  <a:pt x="1097" y="140"/>
                  <a:pt x="1182" y="118"/>
                </a:cubicBezTo>
                <a:cubicBezTo>
                  <a:pt x="1267" y="96"/>
                  <a:pt x="1299" y="134"/>
                  <a:pt x="1384" y="175"/>
                </a:cubicBezTo>
                <a:cubicBezTo>
                  <a:pt x="1469" y="216"/>
                  <a:pt x="1594" y="379"/>
                  <a:pt x="1694" y="360"/>
                </a:cubicBezTo>
                <a:cubicBezTo>
                  <a:pt x="1794" y="341"/>
                  <a:pt x="1899" y="115"/>
                  <a:pt x="1982" y="61"/>
                </a:cubicBezTo>
                <a:cubicBezTo>
                  <a:pt x="2066" y="7"/>
                  <a:pt x="2129" y="10"/>
                  <a:pt x="2195" y="33"/>
                </a:cubicBezTo>
                <a:cubicBezTo>
                  <a:pt x="2261" y="57"/>
                  <a:pt x="2302" y="150"/>
                  <a:pt x="2379" y="204"/>
                </a:cubicBezTo>
                <a:cubicBezTo>
                  <a:pt x="2456" y="258"/>
                  <a:pt x="2554" y="369"/>
                  <a:pt x="2659" y="360"/>
                </a:cubicBezTo>
                <a:cubicBezTo>
                  <a:pt x="2764" y="352"/>
                  <a:pt x="2906" y="197"/>
                  <a:pt x="3006" y="147"/>
                </a:cubicBezTo>
                <a:cubicBezTo>
                  <a:pt x="3106" y="98"/>
                  <a:pt x="3198" y="73"/>
                  <a:pt x="3257" y="61"/>
                </a:cubicBezTo>
                <a:cubicBezTo>
                  <a:pt x="3316" y="49"/>
                  <a:pt x="3327" y="64"/>
                  <a:pt x="3364" y="76"/>
                </a:cubicBezTo>
                <a:cubicBezTo>
                  <a:pt x="3400" y="87"/>
                  <a:pt x="3431" y="105"/>
                  <a:pt x="3479" y="133"/>
                </a:cubicBezTo>
                <a:cubicBezTo>
                  <a:pt x="3528" y="160"/>
                  <a:pt x="3578" y="201"/>
                  <a:pt x="3652" y="246"/>
                </a:cubicBezTo>
                <a:cubicBezTo>
                  <a:pt x="3727" y="292"/>
                  <a:pt x="3828" y="419"/>
                  <a:pt x="3923" y="404"/>
                </a:cubicBezTo>
                <a:cubicBezTo>
                  <a:pt x="4018" y="389"/>
                  <a:pt x="4104" y="195"/>
                  <a:pt x="4222" y="162"/>
                </a:cubicBezTo>
                <a:cubicBezTo>
                  <a:pt x="4340" y="128"/>
                  <a:pt x="4490" y="146"/>
                  <a:pt x="4627" y="204"/>
                </a:cubicBezTo>
                <a:cubicBezTo>
                  <a:pt x="4765" y="262"/>
                  <a:pt x="4921" y="487"/>
                  <a:pt x="5050" y="511"/>
                </a:cubicBezTo>
                <a:cubicBezTo>
                  <a:pt x="5178" y="534"/>
                  <a:pt x="5274" y="324"/>
                  <a:pt x="5400" y="346"/>
                </a:cubicBezTo>
                <a:cubicBezTo>
                  <a:pt x="5525" y="368"/>
                  <a:pt x="5719" y="581"/>
                  <a:pt x="5803" y="642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4"/>
          <p:cNvSpPr/>
          <p:nvPr/>
        </p:nvSpPr>
        <p:spPr>
          <a:xfrm>
            <a:off x="3780000" y="342900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1979640" y="3357720"/>
            <a:ext cx="1655640" cy="10792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250920" y="321300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2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8"/>
          <p:cNvSpPr/>
          <p:nvPr/>
        </p:nvSpPr>
        <p:spPr>
          <a:xfrm>
            <a:off x="7451640" y="3573360"/>
            <a:ext cx="1656000" cy="1079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3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9"/>
          <p:cNvSpPr/>
          <p:nvPr/>
        </p:nvSpPr>
        <p:spPr>
          <a:xfrm rot="21357600">
            <a:off x="5651280" y="350028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4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0"/>
          <p:cNvSpPr/>
          <p:nvPr/>
        </p:nvSpPr>
        <p:spPr>
          <a:xfrm>
            <a:off x="-46080" y="4106880"/>
            <a:ext cx="9221760" cy="712800"/>
          </a:xfrm>
          <a:custGeom>
            <a:avLst/>
            <a:gdLst>
              <a:gd name="textAreaLeft" fmla="*/ 0 w 9221760"/>
              <a:gd name="textAreaRight" fmla="*/ 9222120 w 92217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5809" h="449">
                <a:moveTo>
                  <a:pt x="0" y="313"/>
                </a:moveTo>
                <a:cubicBezTo>
                  <a:pt x="51" y="284"/>
                  <a:pt x="212" y="183"/>
                  <a:pt x="295" y="141"/>
                </a:cubicBezTo>
                <a:cubicBezTo>
                  <a:pt x="378" y="99"/>
                  <a:pt x="422" y="55"/>
                  <a:pt x="498" y="59"/>
                </a:cubicBezTo>
                <a:cubicBezTo>
                  <a:pt x="574" y="63"/>
                  <a:pt x="661" y="171"/>
                  <a:pt x="751" y="166"/>
                </a:cubicBezTo>
                <a:cubicBezTo>
                  <a:pt x="841" y="161"/>
                  <a:pt x="965" y="53"/>
                  <a:pt x="1035" y="29"/>
                </a:cubicBezTo>
                <a:cubicBezTo>
                  <a:pt x="1105" y="5"/>
                  <a:pt x="1121" y="0"/>
                  <a:pt x="1171" y="20"/>
                </a:cubicBezTo>
                <a:cubicBezTo>
                  <a:pt x="1221" y="40"/>
                  <a:pt x="1268" y="89"/>
                  <a:pt x="1337" y="147"/>
                </a:cubicBezTo>
                <a:cubicBezTo>
                  <a:pt x="1406" y="205"/>
                  <a:pt x="1497" y="376"/>
                  <a:pt x="1587" y="371"/>
                </a:cubicBezTo>
                <a:cubicBezTo>
                  <a:pt x="1677" y="366"/>
                  <a:pt x="1798" y="163"/>
                  <a:pt x="1874" y="117"/>
                </a:cubicBezTo>
                <a:cubicBezTo>
                  <a:pt x="1950" y="71"/>
                  <a:pt x="1974" y="89"/>
                  <a:pt x="2040" y="98"/>
                </a:cubicBezTo>
                <a:cubicBezTo>
                  <a:pt x="2106" y="107"/>
                  <a:pt x="2184" y="135"/>
                  <a:pt x="2271" y="172"/>
                </a:cubicBezTo>
                <a:cubicBezTo>
                  <a:pt x="2358" y="209"/>
                  <a:pt x="2457" y="322"/>
                  <a:pt x="2562" y="321"/>
                </a:cubicBezTo>
                <a:cubicBezTo>
                  <a:pt x="2667" y="320"/>
                  <a:pt x="2825" y="197"/>
                  <a:pt x="2899" y="166"/>
                </a:cubicBezTo>
                <a:cubicBezTo>
                  <a:pt x="2973" y="135"/>
                  <a:pt x="2957" y="137"/>
                  <a:pt x="3007" y="137"/>
                </a:cubicBezTo>
                <a:cubicBezTo>
                  <a:pt x="3057" y="137"/>
                  <a:pt x="3137" y="158"/>
                  <a:pt x="3202" y="166"/>
                </a:cubicBezTo>
                <a:cubicBezTo>
                  <a:pt x="3267" y="174"/>
                  <a:pt x="3338" y="188"/>
                  <a:pt x="3397" y="186"/>
                </a:cubicBezTo>
                <a:cubicBezTo>
                  <a:pt x="3456" y="184"/>
                  <a:pt x="3485" y="132"/>
                  <a:pt x="3559" y="151"/>
                </a:cubicBezTo>
                <a:cubicBezTo>
                  <a:pt x="3633" y="170"/>
                  <a:pt x="3737" y="294"/>
                  <a:pt x="3842" y="301"/>
                </a:cubicBezTo>
                <a:cubicBezTo>
                  <a:pt x="3947" y="308"/>
                  <a:pt x="4101" y="224"/>
                  <a:pt x="4188" y="195"/>
                </a:cubicBezTo>
                <a:cubicBezTo>
                  <a:pt x="4275" y="166"/>
                  <a:pt x="4302" y="132"/>
                  <a:pt x="4364" y="127"/>
                </a:cubicBezTo>
                <a:cubicBezTo>
                  <a:pt x="4426" y="122"/>
                  <a:pt x="4456" y="128"/>
                  <a:pt x="4559" y="166"/>
                </a:cubicBezTo>
                <a:cubicBezTo>
                  <a:pt x="4662" y="204"/>
                  <a:pt x="4850" y="335"/>
                  <a:pt x="4985" y="353"/>
                </a:cubicBezTo>
                <a:cubicBezTo>
                  <a:pt x="5120" y="371"/>
                  <a:pt x="5232" y="257"/>
                  <a:pt x="5369" y="273"/>
                </a:cubicBezTo>
                <a:cubicBezTo>
                  <a:pt x="5506" y="289"/>
                  <a:pt x="5717" y="412"/>
                  <a:pt x="5809" y="44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0" y="4365720"/>
            <a:ext cx="9237600" cy="1046160"/>
          </a:xfrm>
          <a:custGeom>
            <a:avLst/>
            <a:gdLst>
              <a:gd name="textAreaLeft" fmla="*/ 0 w 9237600"/>
              <a:gd name="textAreaRight" fmla="*/ 9237960 w 9237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5819" h="659">
                <a:moveTo>
                  <a:pt x="0" y="425"/>
                </a:moveTo>
                <a:cubicBezTo>
                  <a:pt x="34" y="371"/>
                  <a:pt x="137" y="143"/>
                  <a:pt x="205" y="92"/>
                </a:cubicBezTo>
                <a:cubicBezTo>
                  <a:pt x="273" y="41"/>
                  <a:pt x="325" y="96"/>
                  <a:pt x="407" y="119"/>
                </a:cubicBezTo>
                <a:cubicBezTo>
                  <a:pt x="489" y="142"/>
                  <a:pt x="606" y="246"/>
                  <a:pt x="699" y="232"/>
                </a:cubicBezTo>
                <a:cubicBezTo>
                  <a:pt x="792" y="218"/>
                  <a:pt x="886" y="58"/>
                  <a:pt x="965" y="36"/>
                </a:cubicBezTo>
                <a:cubicBezTo>
                  <a:pt x="1044" y="14"/>
                  <a:pt x="1131" y="77"/>
                  <a:pt x="1171" y="103"/>
                </a:cubicBezTo>
                <a:cubicBezTo>
                  <a:pt x="1211" y="129"/>
                  <a:pt x="1152" y="154"/>
                  <a:pt x="1206" y="191"/>
                </a:cubicBezTo>
                <a:cubicBezTo>
                  <a:pt x="1260" y="228"/>
                  <a:pt x="1409" y="353"/>
                  <a:pt x="1494" y="327"/>
                </a:cubicBezTo>
                <a:cubicBezTo>
                  <a:pt x="1579" y="301"/>
                  <a:pt x="1633" y="72"/>
                  <a:pt x="1716" y="36"/>
                </a:cubicBezTo>
                <a:cubicBezTo>
                  <a:pt x="1799" y="0"/>
                  <a:pt x="1920" y="69"/>
                  <a:pt x="1992" y="113"/>
                </a:cubicBezTo>
                <a:cubicBezTo>
                  <a:pt x="2064" y="157"/>
                  <a:pt x="2055" y="259"/>
                  <a:pt x="2148" y="298"/>
                </a:cubicBezTo>
                <a:cubicBezTo>
                  <a:pt x="2241" y="337"/>
                  <a:pt x="2424" y="360"/>
                  <a:pt x="2548" y="347"/>
                </a:cubicBezTo>
                <a:cubicBezTo>
                  <a:pt x="2672" y="334"/>
                  <a:pt x="2776" y="217"/>
                  <a:pt x="2890" y="220"/>
                </a:cubicBezTo>
                <a:cubicBezTo>
                  <a:pt x="3004" y="223"/>
                  <a:pt x="3151" y="371"/>
                  <a:pt x="3231" y="366"/>
                </a:cubicBezTo>
                <a:cubicBezTo>
                  <a:pt x="3311" y="361"/>
                  <a:pt x="3314" y="214"/>
                  <a:pt x="3368" y="191"/>
                </a:cubicBezTo>
                <a:cubicBezTo>
                  <a:pt x="3422" y="168"/>
                  <a:pt x="3502" y="211"/>
                  <a:pt x="3554" y="230"/>
                </a:cubicBezTo>
                <a:cubicBezTo>
                  <a:pt x="3606" y="249"/>
                  <a:pt x="3641" y="292"/>
                  <a:pt x="3680" y="308"/>
                </a:cubicBezTo>
                <a:cubicBezTo>
                  <a:pt x="3719" y="324"/>
                  <a:pt x="3755" y="328"/>
                  <a:pt x="3788" y="327"/>
                </a:cubicBezTo>
                <a:cubicBezTo>
                  <a:pt x="3821" y="326"/>
                  <a:pt x="3801" y="315"/>
                  <a:pt x="3881" y="300"/>
                </a:cubicBezTo>
                <a:cubicBezTo>
                  <a:pt x="3961" y="285"/>
                  <a:pt x="4150" y="224"/>
                  <a:pt x="4266" y="240"/>
                </a:cubicBezTo>
                <a:cubicBezTo>
                  <a:pt x="4382" y="256"/>
                  <a:pt x="4486" y="352"/>
                  <a:pt x="4579" y="396"/>
                </a:cubicBezTo>
                <a:cubicBezTo>
                  <a:pt x="4672" y="440"/>
                  <a:pt x="4749" y="500"/>
                  <a:pt x="4823" y="503"/>
                </a:cubicBezTo>
                <a:cubicBezTo>
                  <a:pt x="4897" y="506"/>
                  <a:pt x="4959" y="449"/>
                  <a:pt x="5024" y="417"/>
                </a:cubicBezTo>
                <a:cubicBezTo>
                  <a:pt x="5089" y="385"/>
                  <a:pt x="5148" y="317"/>
                  <a:pt x="5213" y="308"/>
                </a:cubicBezTo>
                <a:cubicBezTo>
                  <a:pt x="5278" y="299"/>
                  <a:pt x="5314" y="304"/>
                  <a:pt x="5415" y="362"/>
                </a:cubicBezTo>
                <a:cubicBezTo>
                  <a:pt x="5516" y="420"/>
                  <a:pt x="5735" y="597"/>
                  <a:pt x="5819" y="659"/>
                </a:cubicBezTo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42"/>
          <p:cNvSpPr/>
          <p:nvPr/>
        </p:nvSpPr>
        <p:spPr>
          <a:xfrm>
            <a:off x="6227640" y="4508640"/>
            <a:ext cx="1656000" cy="1079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5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3"/>
          <p:cNvSpPr/>
          <p:nvPr/>
        </p:nvSpPr>
        <p:spPr>
          <a:xfrm>
            <a:off x="4427640" y="4581360"/>
            <a:ext cx="1655640" cy="1079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6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2484360" y="4581360"/>
            <a:ext cx="1656000" cy="1079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7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539640" y="4365720"/>
            <a:ext cx="1656000" cy="1079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6"/>
          <p:cNvSpPr txBox="1"/>
          <p:nvPr/>
        </p:nvSpPr>
        <p:spPr>
          <a:xfrm>
            <a:off x="2843280" y="1628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WordArt 47"/>
          <p:cNvSpPr txBox="1"/>
          <p:nvPr/>
        </p:nvSpPr>
        <p:spPr>
          <a:xfrm>
            <a:off x="4572000" y="170028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48"/>
          <p:cNvSpPr txBox="1"/>
          <p:nvPr/>
        </p:nvSpPr>
        <p:spPr>
          <a:xfrm>
            <a:off x="6227640" y="1773360"/>
            <a:ext cx="2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49"/>
          <p:cNvSpPr txBox="1"/>
          <p:nvPr/>
        </p:nvSpPr>
        <p:spPr>
          <a:xfrm>
            <a:off x="7956720" y="213372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50"/>
          <p:cNvSpPr txBox="1"/>
          <p:nvPr/>
        </p:nvSpPr>
        <p:spPr>
          <a:xfrm>
            <a:off x="1835280" y="285264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51"/>
          <p:cNvSpPr txBox="1"/>
          <p:nvPr/>
        </p:nvSpPr>
        <p:spPr>
          <a:xfrm>
            <a:off x="5508720" y="292428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WordArt 52"/>
          <p:cNvSpPr txBox="1"/>
          <p:nvPr/>
        </p:nvSpPr>
        <p:spPr>
          <a:xfrm>
            <a:off x="3635280" y="299736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53"/>
          <p:cNvSpPr txBox="1"/>
          <p:nvPr/>
        </p:nvSpPr>
        <p:spPr>
          <a:xfrm>
            <a:off x="7380360" y="306864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55"/>
          <p:cNvSpPr txBox="1"/>
          <p:nvPr/>
        </p:nvSpPr>
        <p:spPr>
          <a:xfrm>
            <a:off x="900000" y="3789360"/>
            <a:ext cx="43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56"/>
          <p:cNvSpPr txBox="1"/>
          <p:nvPr/>
        </p:nvSpPr>
        <p:spPr>
          <a:xfrm>
            <a:off x="7956720" y="414972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WordArt 57"/>
          <p:cNvSpPr txBox="1"/>
          <p:nvPr/>
        </p:nvSpPr>
        <p:spPr>
          <a:xfrm>
            <a:off x="6156360" y="407664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WordArt 58"/>
          <p:cNvSpPr txBox="1"/>
          <p:nvPr/>
        </p:nvSpPr>
        <p:spPr>
          <a:xfrm>
            <a:off x="4284720" y="393372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WordArt 59"/>
          <p:cNvSpPr txBox="1"/>
          <p:nvPr/>
        </p:nvSpPr>
        <p:spPr>
          <a:xfrm>
            <a:off x="2556000" y="3860640"/>
            <a:ext cx="431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WordArt 60"/>
          <p:cNvSpPr txBox="1"/>
          <p:nvPr/>
        </p:nvSpPr>
        <p:spPr>
          <a:xfrm>
            <a:off x="3059280" y="515772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61"/>
          <p:cNvSpPr txBox="1"/>
          <p:nvPr/>
        </p:nvSpPr>
        <p:spPr>
          <a:xfrm>
            <a:off x="1116000" y="501336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62"/>
          <p:cNvSpPr txBox="1"/>
          <p:nvPr/>
        </p:nvSpPr>
        <p:spPr>
          <a:xfrm>
            <a:off x="5003640" y="5229360"/>
            <a:ext cx="43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63"/>
          <p:cNvSpPr txBox="1"/>
          <p:nvPr/>
        </p:nvSpPr>
        <p:spPr>
          <a:xfrm>
            <a:off x="6804000" y="5157720"/>
            <a:ext cx="43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Freeform 64"/>
          <p:cNvSpPr/>
          <p:nvPr/>
        </p:nvSpPr>
        <p:spPr>
          <a:xfrm>
            <a:off x="-41400" y="5261040"/>
            <a:ext cx="9207720" cy="127944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1279440"/>
              <a:gd name="textAreaBottom" fmla="*/ 1279440 h 1279440"/>
            </a:gdLst>
            <a:ahLst/>
            <a:rect l="textAreaLeft" t="textAreaTop" r="textAreaRight" b="textAreaBottom"/>
            <a:pathLst>
              <a:path w="5800" h="806">
                <a:moveTo>
                  <a:pt x="65" y="806"/>
                </a:moveTo>
                <a:cubicBezTo>
                  <a:pt x="60" y="697"/>
                  <a:pt x="0" y="254"/>
                  <a:pt x="27" y="149"/>
                </a:cubicBezTo>
                <a:cubicBezTo>
                  <a:pt x="54" y="44"/>
                  <a:pt x="164" y="154"/>
                  <a:pt x="229" y="176"/>
                </a:cubicBezTo>
                <a:cubicBezTo>
                  <a:pt x="294" y="198"/>
                  <a:pt x="365" y="276"/>
                  <a:pt x="417" y="279"/>
                </a:cubicBezTo>
                <a:cubicBezTo>
                  <a:pt x="469" y="282"/>
                  <a:pt x="481" y="222"/>
                  <a:pt x="543" y="191"/>
                </a:cubicBezTo>
                <a:cubicBezTo>
                  <a:pt x="605" y="160"/>
                  <a:pt x="683" y="104"/>
                  <a:pt x="787" y="93"/>
                </a:cubicBezTo>
                <a:cubicBezTo>
                  <a:pt x="891" y="82"/>
                  <a:pt x="1075" y="85"/>
                  <a:pt x="1168" y="122"/>
                </a:cubicBezTo>
                <a:cubicBezTo>
                  <a:pt x="1261" y="159"/>
                  <a:pt x="1269" y="307"/>
                  <a:pt x="1344" y="318"/>
                </a:cubicBezTo>
                <a:cubicBezTo>
                  <a:pt x="1419" y="329"/>
                  <a:pt x="1528" y="226"/>
                  <a:pt x="1617" y="191"/>
                </a:cubicBezTo>
                <a:cubicBezTo>
                  <a:pt x="1706" y="156"/>
                  <a:pt x="1802" y="92"/>
                  <a:pt x="1878" y="106"/>
                </a:cubicBezTo>
                <a:cubicBezTo>
                  <a:pt x="1954" y="120"/>
                  <a:pt x="1976" y="266"/>
                  <a:pt x="2071" y="277"/>
                </a:cubicBezTo>
                <a:cubicBezTo>
                  <a:pt x="2166" y="288"/>
                  <a:pt x="2338" y="180"/>
                  <a:pt x="2447" y="171"/>
                </a:cubicBezTo>
                <a:cubicBezTo>
                  <a:pt x="2556" y="162"/>
                  <a:pt x="2637" y="226"/>
                  <a:pt x="2728" y="220"/>
                </a:cubicBezTo>
                <a:cubicBezTo>
                  <a:pt x="2819" y="214"/>
                  <a:pt x="2929" y="146"/>
                  <a:pt x="2991" y="134"/>
                </a:cubicBezTo>
                <a:cubicBezTo>
                  <a:pt x="3053" y="122"/>
                  <a:pt x="3065" y="137"/>
                  <a:pt x="3103" y="149"/>
                </a:cubicBezTo>
                <a:cubicBezTo>
                  <a:pt x="3142" y="160"/>
                  <a:pt x="3174" y="178"/>
                  <a:pt x="3224" y="206"/>
                </a:cubicBezTo>
                <a:cubicBezTo>
                  <a:pt x="3275" y="233"/>
                  <a:pt x="3318" y="292"/>
                  <a:pt x="3406" y="319"/>
                </a:cubicBezTo>
                <a:cubicBezTo>
                  <a:pt x="3494" y="346"/>
                  <a:pt x="3656" y="381"/>
                  <a:pt x="3755" y="367"/>
                </a:cubicBezTo>
                <a:cubicBezTo>
                  <a:pt x="3854" y="353"/>
                  <a:pt x="3870" y="264"/>
                  <a:pt x="4003" y="235"/>
                </a:cubicBezTo>
                <a:cubicBezTo>
                  <a:pt x="4136" y="206"/>
                  <a:pt x="4405" y="168"/>
                  <a:pt x="4556" y="191"/>
                </a:cubicBezTo>
                <a:cubicBezTo>
                  <a:pt x="4707" y="214"/>
                  <a:pt x="4774" y="392"/>
                  <a:pt x="4907" y="376"/>
                </a:cubicBezTo>
                <a:cubicBezTo>
                  <a:pt x="5040" y="360"/>
                  <a:pt x="5219" y="142"/>
                  <a:pt x="5356" y="93"/>
                </a:cubicBezTo>
                <a:cubicBezTo>
                  <a:pt x="5493" y="44"/>
                  <a:pt x="5654" y="0"/>
                  <a:pt x="5727" y="83"/>
                </a:cubicBezTo>
                <a:cubicBezTo>
                  <a:pt x="5800" y="166"/>
                  <a:pt x="5782" y="485"/>
                  <a:pt x="5796" y="591"/>
                </a:cubicBezTo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5"/>
          <p:cNvSpPr/>
          <p:nvPr/>
        </p:nvSpPr>
        <p:spPr>
          <a:xfrm>
            <a:off x="15840" y="5522760"/>
            <a:ext cx="9112320" cy="1343160"/>
          </a:xfrm>
          <a:custGeom>
            <a:avLst/>
            <a:gdLst>
              <a:gd name="textAreaLeft" fmla="*/ 0 w 9112320"/>
              <a:gd name="textAreaRight" fmla="*/ 9112680 w 91123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5740" h="846">
                <a:moveTo>
                  <a:pt x="0" y="826"/>
                </a:moveTo>
                <a:cubicBezTo>
                  <a:pt x="37" y="709"/>
                  <a:pt x="152" y="228"/>
                  <a:pt x="221" y="114"/>
                </a:cubicBezTo>
                <a:cubicBezTo>
                  <a:pt x="290" y="0"/>
                  <a:pt x="341" y="103"/>
                  <a:pt x="416" y="142"/>
                </a:cubicBezTo>
                <a:cubicBezTo>
                  <a:pt x="491" y="182"/>
                  <a:pt x="576" y="348"/>
                  <a:pt x="670" y="351"/>
                </a:cubicBezTo>
                <a:cubicBezTo>
                  <a:pt x="764" y="354"/>
                  <a:pt x="896" y="180"/>
                  <a:pt x="982" y="158"/>
                </a:cubicBezTo>
                <a:cubicBezTo>
                  <a:pt x="1068" y="135"/>
                  <a:pt x="1101" y="174"/>
                  <a:pt x="1187" y="217"/>
                </a:cubicBezTo>
                <a:cubicBezTo>
                  <a:pt x="1273" y="260"/>
                  <a:pt x="1399" y="430"/>
                  <a:pt x="1500" y="410"/>
                </a:cubicBezTo>
                <a:cubicBezTo>
                  <a:pt x="1601" y="391"/>
                  <a:pt x="1708" y="155"/>
                  <a:pt x="1792" y="98"/>
                </a:cubicBezTo>
                <a:cubicBezTo>
                  <a:pt x="1876" y="42"/>
                  <a:pt x="1940" y="45"/>
                  <a:pt x="2007" y="69"/>
                </a:cubicBezTo>
                <a:cubicBezTo>
                  <a:pt x="2074" y="94"/>
                  <a:pt x="2115" y="191"/>
                  <a:pt x="2193" y="247"/>
                </a:cubicBezTo>
                <a:cubicBezTo>
                  <a:pt x="2271" y="304"/>
                  <a:pt x="2370" y="419"/>
                  <a:pt x="2476" y="410"/>
                </a:cubicBezTo>
                <a:cubicBezTo>
                  <a:pt x="2582" y="401"/>
                  <a:pt x="2726" y="240"/>
                  <a:pt x="2827" y="188"/>
                </a:cubicBezTo>
                <a:cubicBezTo>
                  <a:pt x="2928" y="136"/>
                  <a:pt x="3021" y="110"/>
                  <a:pt x="3081" y="98"/>
                </a:cubicBezTo>
                <a:cubicBezTo>
                  <a:pt x="3141" y="86"/>
                  <a:pt x="3152" y="101"/>
                  <a:pt x="3189" y="114"/>
                </a:cubicBezTo>
                <a:cubicBezTo>
                  <a:pt x="3226" y="126"/>
                  <a:pt x="3257" y="144"/>
                  <a:pt x="3306" y="173"/>
                </a:cubicBezTo>
                <a:cubicBezTo>
                  <a:pt x="3355" y="202"/>
                  <a:pt x="3406" y="244"/>
                  <a:pt x="3481" y="292"/>
                </a:cubicBezTo>
                <a:cubicBezTo>
                  <a:pt x="3556" y="339"/>
                  <a:pt x="3659" y="471"/>
                  <a:pt x="3755" y="456"/>
                </a:cubicBezTo>
                <a:cubicBezTo>
                  <a:pt x="3851" y="441"/>
                  <a:pt x="3938" y="238"/>
                  <a:pt x="4057" y="203"/>
                </a:cubicBezTo>
                <a:cubicBezTo>
                  <a:pt x="4176" y="168"/>
                  <a:pt x="4328" y="187"/>
                  <a:pt x="4467" y="247"/>
                </a:cubicBezTo>
                <a:cubicBezTo>
                  <a:pt x="4606" y="308"/>
                  <a:pt x="4770" y="561"/>
                  <a:pt x="4894" y="567"/>
                </a:cubicBezTo>
                <a:cubicBezTo>
                  <a:pt x="5018" y="573"/>
                  <a:pt x="5095" y="333"/>
                  <a:pt x="5213" y="280"/>
                </a:cubicBezTo>
                <a:cubicBezTo>
                  <a:pt x="5331" y="227"/>
                  <a:pt x="5516" y="156"/>
                  <a:pt x="5604" y="250"/>
                </a:cubicBezTo>
                <a:cubicBezTo>
                  <a:pt x="5692" y="344"/>
                  <a:pt x="5712" y="722"/>
                  <a:pt x="5740" y="846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6"/>
          <p:cNvSpPr/>
          <p:nvPr/>
        </p:nvSpPr>
        <p:spPr>
          <a:xfrm>
            <a:off x="6012000" y="260280"/>
            <a:ext cx="1728720" cy="432000"/>
          </a:xfrm>
          <a:prstGeom prst="cloudCallout">
            <a:avLst>
              <a:gd name="adj1" fmla="val -56060"/>
              <a:gd name="adj2" fmla="val 24634"/>
            </a:avLst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189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8"/>
          <p:cNvSpPr/>
          <p:nvPr/>
        </p:nvSpPr>
        <p:spPr>
          <a:xfrm>
            <a:off x="1835280" y="260280"/>
            <a:ext cx="1728720" cy="432000"/>
          </a:xfrm>
          <a:prstGeom prst="cloudCallout">
            <a:avLst>
              <a:gd name="adj1" fmla="val 82967"/>
              <a:gd name="adj2" fmla="val 20953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89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9"/>
          <p:cNvSpPr/>
          <p:nvPr/>
        </p:nvSpPr>
        <p:spPr>
          <a:xfrm>
            <a:off x="3780000" y="404640"/>
            <a:ext cx="1873080" cy="360360"/>
          </a:xfrm>
          <a:prstGeom prst="cloudCallout">
            <a:avLst>
              <a:gd name="adj1" fmla="val -26865"/>
              <a:gd name="adj2" fmla="val 25328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0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71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“Химические элементы"</a:t>
            </a:r>
            <a:endParaRPr b="0" i="1" lang="en-US" sz="2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Rectangle 72"/>
          <p:cNvGrpSpPr/>
          <p:nvPr/>
        </p:nvGrpSpPr>
        <p:grpSpPr>
          <a:xfrm>
            <a:off x="6010200" y="6381720"/>
            <a:ext cx="1420560" cy="287280"/>
            <a:chOff x="6010200" y="6381720"/>
            <a:chExt cx="1420560" cy="287280"/>
          </a:xfrm>
        </p:grpSpPr>
        <p:pic>
          <p:nvPicPr>
            <p:cNvPr id="212" name="Rectangle 72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6010200" y="6381720"/>
              <a:ext cx="14194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01164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Picture 74" descr="89"/>
          <p:cNvPicPr/>
          <p:nvPr/>
        </p:nvPicPr>
        <p:blipFill>
          <a:blip r:embed="rId24"/>
          <a:stretch/>
        </p:blipFill>
        <p:spPr>
          <a:xfrm>
            <a:off x="0" y="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4.16185E-006 C 0.16614 -0.00416 0.37969 -0.00832 0.46493 -0.0104 L -0.04705 -4.16185E-006 Z">
                                      <p:cBhvr>
                                        <p:cTn id="9" dur="5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16185E-006 C 0.09392 0.00093 0.18802 0.00185 0.22552 0.00232 L 2.77778E-007 -4.16185E-006 Z">
                                      <p:cBhvr>
                                        <p:cTn id="11" dur="5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62428E-006 C 0.07691 0.01157 0.15399 0.02336 0.2 0.02266 C 0.24601 0.02197 0.25555 0.00578 0.27639 -0.00439 C 0.29722 -0.01456 0.30295 -0.03075 0.32552 -0.03838 C 0.34809 -0.04601 0.38316 -0.05456 0.41198 -0.04971 C 0.4408 -0.04485 0.48403 -0.01572 0.49844 -0.00901 L 1.38889E-006 -4.62428E-006 Z">
                                      <p:cBhvr>
                                        <p:cTn id="19" dur="5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5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AutoShape 11"/>
          <p:cNvSpPr/>
          <p:nvPr/>
        </p:nvSpPr>
        <p:spPr>
          <a:xfrm flipH="1">
            <a:off x="611280" y="476280"/>
            <a:ext cx="5184720" cy="1873080"/>
          </a:xfrm>
          <a:prstGeom prst="wedgeEllipseCallout">
            <a:avLst>
              <a:gd name="adj1" fmla="val -57995"/>
              <a:gd name="adj2" fmla="val 4745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яркой звездой загораетс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лый и легкий металл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в 13 клетке таблиц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четное место зан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68360" y="4292640"/>
            <a:ext cx="287964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Rectangle 25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226" name="Rectangle 2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ectangle 26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229" name="Rectangle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8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AutoShape 8"/>
          <p:cNvSpPr/>
          <p:nvPr/>
        </p:nvSpPr>
        <p:spPr>
          <a:xfrm flipH="1">
            <a:off x="611280" y="369720"/>
            <a:ext cx="5184720" cy="2195640"/>
          </a:xfrm>
          <a:prstGeom prst="wedgeEllipseCallout">
            <a:avLst>
              <a:gd name="adj1" fmla="val -57995"/>
              <a:gd name="adj2" fmla="val 3661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Хранят обычно в керосин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бегает он по во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ныне знай – в свободном ви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при роде нет его нигде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олях открыть его возмо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Желтеет пламя от не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получить из соли можно</a:t>
            </a:r>
            <a:r>
              <a:rPr b="1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 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 Деви, получил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87360" y="4379760"/>
            <a:ext cx="2952720" cy="100980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243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246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AutoShape 8"/>
          <p:cNvSpPr/>
          <p:nvPr/>
        </p:nvSpPr>
        <p:spPr>
          <a:xfrm flipH="1">
            <a:off x="611280" y="189000"/>
            <a:ext cx="5184720" cy="2519280"/>
          </a:xfrm>
          <a:prstGeom prst="wedgeEllipseCallout">
            <a:avLst>
              <a:gd name="adj1" fmla="val -57995"/>
              <a:gd name="adj2" fmla="val 3768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езде в нашей жизни привычны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талл тот сопутствует на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вид он блестящий и в общем обычны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Активный и мягкий метал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 в войнах нашел применень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в сельском хозяйстве, в быту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таллом войны, преступлень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Я этот металл наз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24000" y="4149720"/>
            <a:ext cx="3313080" cy="122400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259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262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" name="AutoShape 8"/>
          <p:cNvSpPr/>
          <p:nvPr/>
        </p:nvSpPr>
        <p:spPr>
          <a:xfrm flipH="1">
            <a:off x="611280" y="260280"/>
            <a:ext cx="5976720" cy="2737080"/>
          </a:xfrm>
          <a:prstGeom prst="wedgeEllipseCallout">
            <a:avLst>
              <a:gd name="adj1" fmla="val -43708"/>
              <a:gd name="adj2" fmla="val 3870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Прославлен всеми именам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талл испытанный огне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Манил к себе людей векам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Алхимик жил мечтой о нем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о как кумир он свергнут нам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Уж блеск его нас не мани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Ведь хорошо мы знаем с вам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е все так ценно, что блес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68360" y="4292640"/>
            <a:ext cx="230328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A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Rectangle 18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276" name="Rectangl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Rectangle 19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279" name="Rectangle 1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21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7" name="AutoShape 8"/>
          <p:cNvSpPr/>
          <p:nvPr/>
        </p:nvSpPr>
        <p:spPr>
          <a:xfrm flipH="1">
            <a:off x="610560" y="260280"/>
            <a:ext cx="5616360" cy="2668680"/>
          </a:xfrm>
          <a:prstGeom prst="wedgeEllipseCallout">
            <a:avLst>
              <a:gd name="adj1" fmla="val -49689"/>
              <a:gd name="adj2" fmla="val 3346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Едва ли знаете свободным тот элемент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торый здесь мы обсуждаем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Однако помните, он весь, скрывается от наших взор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текле, песке и хрустале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без сомненья, вы найдете его повсюду на Земл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468360" y="4292640"/>
            <a:ext cx="280836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Si</a:t>
            </a:r>
            <a:r>
              <a:rPr b="1" lang="ru-RU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292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295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8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reeform 3"/>
          <p:cNvSpPr/>
          <p:nvPr/>
        </p:nvSpPr>
        <p:spPr>
          <a:xfrm>
            <a:off x="4716360" y="2133720"/>
            <a:ext cx="3672000" cy="215892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74" h="838">
                <a:moveTo>
                  <a:pt x="120" y="269"/>
                </a:moveTo>
                <a:cubicBezTo>
                  <a:pt x="139" y="298"/>
                  <a:pt x="22" y="208"/>
                  <a:pt x="41" y="236"/>
                </a:cubicBezTo>
                <a:cubicBezTo>
                  <a:pt x="64" y="305"/>
                  <a:pt x="49" y="277"/>
                  <a:pt x="79" y="323"/>
                </a:cubicBezTo>
                <a:cubicBezTo>
                  <a:pt x="100" y="402"/>
                  <a:pt x="75" y="324"/>
                  <a:pt x="108" y="390"/>
                </a:cubicBezTo>
                <a:cubicBezTo>
                  <a:pt x="130" y="434"/>
                  <a:pt x="127" y="457"/>
                  <a:pt x="166" y="496"/>
                </a:cubicBezTo>
                <a:cubicBezTo>
                  <a:pt x="169" y="505"/>
                  <a:pt x="170" y="516"/>
                  <a:pt x="175" y="524"/>
                </a:cubicBezTo>
                <a:cubicBezTo>
                  <a:pt x="180" y="532"/>
                  <a:pt x="190" y="536"/>
                  <a:pt x="194" y="544"/>
                </a:cubicBezTo>
                <a:cubicBezTo>
                  <a:pt x="220" y="596"/>
                  <a:pt x="218" y="636"/>
                  <a:pt x="262" y="678"/>
                </a:cubicBezTo>
                <a:cubicBezTo>
                  <a:pt x="289" y="764"/>
                  <a:pt x="249" y="646"/>
                  <a:pt x="290" y="736"/>
                </a:cubicBezTo>
                <a:cubicBezTo>
                  <a:pt x="298" y="754"/>
                  <a:pt x="303" y="774"/>
                  <a:pt x="310" y="793"/>
                </a:cubicBezTo>
                <a:cubicBezTo>
                  <a:pt x="313" y="803"/>
                  <a:pt x="312" y="815"/>
                  <a:pt x="319" y="822"/>
                </a:cubicBezTo>
                <a:cubicBezTo>
                  <a:pt x="326" y="829"/>
                  <a:pt x="338" y="829"/>
                  <a:pt x="348" y="832"/>
                </a:cubicBezTo>
                <a:cubicBezTo>
                  <a:pt x="549" y="806"/>
                  <a:pt x="788" y="825"/>
                  <a:pt x="994" y="838"/>
                </a:cubicBezTo>
                <a:cubicBezTo>
                  <a:pt x="1102" y="829"/>
                  <a:pt x="1014" y="798"/>
                  <a:pt x="1119" y="771"/>
                </a:cubicBezTo>
                <a:cubicBezTo>
                  <a:pt x="1157" y="694"/>
                  <a:pt x="1255" y="629"/>
                  <a:pt x="1292" y="541"/>
                </a:cubicBezTo>
                <a:cubicBezTo>
                  <a:pt x="1308" y="503"/>
                  <a:pt x="1355" y="486"/>
                  <a:pt x="1368" y="445"/>
                </a:cubicBezTo>
                <a:cubicBezTo>
                  <a:pt x="1374" y="406"/>
                  <a:pt x="1362" y="473"/>
                  <a:pt x="1340" y="435"/>
                </a:cubicBezTo>
                <a:cubicBezTo>
                  <a:pt x="1368" y="387"/>
                  <a:pt x="1330" y="394"/>
                  <a:pt x="1320" y="397"/>
                </a:cubicBezTo>
                <a:cubicBezTo>
                  <a:pt x="1205" y="394"/>
                  <a:pt x="1157" y="435"/>
                  <a:pt x="1004" y="435"/>
                </a:cubicBezTo>
                <a:cubicBezTo>
                  <a:pt x="960" y="416"/>
                  <a:pt x="1077" y="198"/>
                  <a:pt x="1039" y="169"/>
                </a:cubicBezTo>
                <a:cubicBezTo>
                  <a:pt x="996" y="136"/>
                  <a:pt x="930" y="176"/>
                  <a:pt x="876" y="179"/>
                </a:cubicBezTo>
                <a:cubicBezTo>
                  <a:pt x="849" y="261"/>
                  <a:pt x="834" y="290"/>
                  <a:pt x="821" y="387"/>
                </a:cubicBezTo>
                <a:cubicBezTo>
                  <a:pt x="779" y="384"/>
                  <a:pt x="734" y="409"/>
                  <a:pt x="706" y="378"/>
                </a:cubicBezTo>
                <a:cubicBezTo>
                  <a:pt x="704" y="375"/>
                  <a:pt x="741" y="106"/>
                  <a:pt x="742" y="92"/>
                </a:cubicBezTo>
                <a:cubicBezTo>
                  <a:pt x="739" y="22"/>
                  <a:pt x="747" y="102"/>
                  <a:pt x="716" y="39"/>
                </a:cubicBezTo>
                <a:lnTo>
                  <a:pt x="572" y="48"/>
                </a:lnTo>
                <a:cubicBezTo>
                  <a:pt x="538" y="26"/>
                  <a:pt x="500" y="47"/>
                  <a:pt x="485" y="48"/>
                </a:cubicBezTo>
                <a:cubicBezTo>
                  <a:pt x="470" y="49"/>
                  <a:pt x="486" y="0"/>
                  <a:pt x="482" y="54"/>
                </a:cubicBezTo>
                <a:cubicBezTo>
                  <a:pt x="470" y="159"/>
                  <a:pt x="493" y="269"/>
                  <a:pt x="463" y="371"/>
                </a:cubicBezTo>
                <a:cubicBezTo>
                  <a:pt x="458" y="390"/>
                  <a:pt x="425" y="364"/>
                  <a:pt x="406" y="361"/>
                </a:cubicBezTo>
                <a:cubicBezTo>
                  <a:pt x="378" y="335"/>
                  <a:pt x="356" y="332"/>
                  <a:pt x="319" y="323"/>
                </a:cubicBezTo>
                <a:cubicBezTo>
                  <a:pt x="251" y="279"/>
                  <a:pt x="137" y="250"/>
                  <a:pt x="60" y="217"/>
                </a:cubicBezTo>
                <a:cubicBezTo>
                  <a:pt x="0" y="192"/>
                  <a:pt x="59" y="213"/>
                  <a:pt x="53" y="212"/>
                </a:cubicBezTo>
                <a:cubicBezTo>
                  <a:pt x="47" y="211"/>
                  <a:pt x="11" y="198"/>
                  <a:pt x="22" y="208"/>
                </a:cubicBezTo>
                <a:cubicBezTo>
                  <a:pt x="22" y="208"/>
                  <a:pt x="120" y="269"/>
                  <a:pt x="120" y="26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"/>
          <p:cNvSpPr/>
          <p:nvPr/>
        </p:nvSpPr>
        <p:spPr>
          <a:xfrm rot="21220800">
            <a:off x="4211280" y="3731760"/>
            <a:ext cx="4932360" cy="1297080"/>
          </a:xfrm>
          <a:custGeom>
            <a:avLst/>
            <a:gdLst>
              <a:gd name="textAreaLeft" fmla="*/ 0 w 4932360"/>
              <a:gd name="textAreaRight" fmla="*/ 4932360 w 493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5799" h="789">
                <a:moveTo>
                  <a:pt x="0" y="350"/>
                </a:moveTo>
                <a:cubicBezTo>
                  <a:pt x="52" y="305"/>
                  <a:pt x="228" y="114"/>
                  <a:pt x="313" y="72"/>
                </a:cubicBezTo>
                <a:cubicBezTo>
                  <a:pt x="398" y="30"/>
                  <a:pt x="433" y="61"/>
                  <a:pt x="508" y="100"/>
                </a:cubicBezTo>
                <a:cubicBezTo>
                  <a:pt x="583" y="140"/>
                  <a:pt x="668" y="306"/>
                  <a:pt x="762" y="309"/>
                </a:cubicBezTo>
                <a:cubicBezTo>
                  <a:pt x="856" y="312"/>
                  <a:pt x="988" y="138"/>
                  <a:pt x="1074" y="116"/>
                </a:cubicBezTo>
                <a:cubicBezTo>
                  <a:pt x="1160" y="93"/>
                  <a:pt x="1193" y="132"/>
                  <a:pt x="1279" y="175"/>
                </a:cubicBezTo>
                <a:cubicBezTo>
                  <a:pt x="1365" y="218"/>
                  <a:pt x="1491" y="388"/>
                  <a:pt x="1592" y="368"/>
                </a:cubicBezTo>
                <a:cubicBezTo>
                  <a:pt x="1693" y="349"/>
                  <a:pt x="1800" y="113"/>
                  <a:pt x="1884" y="56"/>
                </a:cubicBezTo>
                <a:cubicBezTo>
                  <a:pt x="1968" y="0"/>
                  <a:pt x="2032" y="3"/>
                  <a:pt x="2099" y="27"/>
                </a:cubicBezTo>
                <a:cubicBezTo>
                  <a:pt x="2166" y="52"/>
                  <a:pt x="2207" y="149"/>
                  <a:pt x="2285" y="205"/>
                </a:cubicBezTo>
                <a:cubicBezTo>
                  <a:pt x="2363" y="262"/>
                  <a:pt x="2462" y="377"/>
                  <a:pt x="2568" y="368"/>
                </a:cubicBezTo>
                <a:cubicBezTo>
                  <a:pt x="2674" y="359"/>
                  <a:pt x="2818" y="198"/>
                  <a:pt x="2919" y="146"/>
                </a:cubicBezTo>
                <a:cubicBezTo>
                  <a:pt x="3020" y="94"/>
                  <a:pt x="3113" y="68"/>
                  <a:pt x="3173" y="56"/>
                </a:cubicBezTo>
                <a:cubicBezTo>
                  <a:pt x="3233" y="44"/>
                  <a:pt x="3244" y="59"/>
                  <a:pt x="3281" y="72"/>
                </a:cubicBezTo>
                <a:cubicBezTo>
                  <a:pt x="3318" y="84"/>
                  <a:pt x="3349" y="102"/>
                  <a:pt x="3398" y="131"/>
                </a:cubicBezTo>
                <a:cubicBezTo>
                  <a:pt x="3447" y="160"/>
                  <a:pt x="3498" y="202"/>
                  <a:pt x="3573" y="250"/>
                </a:cubicBezTo>
                <a:cubicBezTo>
                  <a:pt x="3648" y="297"/>
                  <a:pt x="3751" y="429"/>
                  <a:pt x="3847" y="414"/>
                </a:cubicBezTo>
                <a:cubicBezTo>
                  <a:pt x="3943" y="399"/>
                  <a:pt x="4030" y="196"/>
                  <a:pt x="4149" y="161"/>
                </a:cubicBezTo>
                <a:cubicBezTo>
                  <a:pt x="4268" y="126"/>
                  <a:pt x="4420" y="145"/>
                  <a:pt x="4559" y="205"/>
                </a:cubicBezTo>
                <a:cubicBezTo>
                  <a:pt x="4698" y="266"/>
                  <a:pt x="4856" y="501"/>
                  <a:pt x="4986" y="525"/>
                </a:cubicBezTo>
                <a:cubicBezTo>
                  <a:pt x="5116" y="549"/>
                  <a:pt x="5204" y="309"/>
                  <a:pt x="5340" y="353"/>
                </a:cubicBezTo>
                <a:cubicBezTo>
                  <a:pt x="5476" y="397"/>
                  <a:pt x="5704" y="698"/>
                  <a:pt x="5799" y="789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 rot="21348600">
            <a:off x="3632040" y="4076280"/>
            <a:ext cx="5511960" cy="1258920"/>
          </a:xfrm>
          <a:custGeom>
            <a:avLst/>
            <a:gdLst>
              <a:gd name="textAreaLeft" fmla="*/ 0 w 5511960"/>
              <a:gd name="textAreaRight" fmla="*/ 5512320 w 551196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472" h="793">
                <a:moveTo>
                  <a:pt x="6" y="523"/>
                </a:moveTo>
                <a:cubicBezTo>
                  <a:pt x="11" y="454"/>
                  <a:pt x="0" y="199"/>
                  <a:pt x="37" y="118"/>
                </a:cubicBezTo>
                <a:cubicBezTo>
                  <a:pt x="74" y="37"/>
                  <a:pt x="181" y="0"/>
                  <a:pt x="231" y="37"/>
                </a:cubicBezTo>
                <a:cubicBezTo>
                  <a:pt x="281" y="74"/>
                  <a:pt x="295" y="338"/>
                  <a:pt x="338" y="338"/>
                </a:cubicBezTo>
                <a:cubicBezTo>
                  <a:pt x="381" y="338"/>
                  <a:pt x="442" y="48"/>
                  <a:pt x="492" y="36"/>
                </a:cubicBezTo>
                <a:cubicBezTo>
                  <a:pt x="542" y="24"/>
                  <a:pt x="580" y="204"/>
                  <a:pt x="636" y="263"/>
                </a:cubicBezTo>
                <a:cubicBezTo>
                  <a:pt x="692" y="322"/>
                  <a:pt x="763" y="392"/>
                  <a:pt x="826" y="388"/>
                </a:cubicBezTo>
                <a:cubicBezTo>
                  <a:pt x="889" y="384"/>
                  <a:pt x="953" y="260"/>
                  <a:pt x="1012" y="240"/>
                </a:cubicBezTo>
                <a:cubicBezTo>
                  <a:pt x="1071" y="220"/>
                  <a:pt x="1137" y="259"/>
                  <a:pt x="1178" y="270"/>
                </a:cubicBezTo>
                <a:cubicBezTo>
                  <a:pt x="1219" y="281"/>
                  <a:pt x="1217" y="261"/>
                  <a:pt x="1260" y="305"/>
                </a:cubicBezTo>
                <a:cubicBezTo>
                  <a:pt x="1303" y="349"/>
                  <a:pt x="1370" y="547"/>
                  <a:pt x="1436" y="534"/>
                </a:cubicBezTo>
                <a:cubicBezTo>
                  <a:pt x="1502" y="522"/>
                  <a:pt x="1591" y="295"/>
                  <a:pt x="1654" y="222"/>
                </a:cubicBezTo>
                <a:cubicBezTo>
                  <a:pt x="1716" y="150"/>
                  <a:pt x="1774" y="113"/>
                  <a:pt x="1811" y="96"/>
                </a:cubicBezTo>
                <a:cubicBezTo>
                  <a:pt x="1848" y="78"/>
                  <a:pt x="1855" y="100"/>
                  <a:pt x="1878" y="118"/>
                </a:cubicBezTo>
                <a:cubicBezTo>
                  <a:pt x="1901" y="134"/>
                  <a:pt x="1921" y="160"/>
                  <a:pt x="1950" y="201"/>
                </a:cubicBezTo>
                <a:cubicBezTo>
                  <a:pt x="1981" y="241"/>
                  <a:pt x="2013" y="301"/>
                  <a:pt x="2059" y="367"/>
                </a:cubicBezTo>
                <a:cubicBezTo>
                  <a:pt x="2106" y="434"/>
                  <a:pt x="2205" y="588"/>
                  <a:pt x="2229" y="598"/>
                </a:cubicBezTo>
                <a:cubicBezTo>
                  <a:pt x="2253" y="608"/>
                  <a:pt x="2172" y="485"/>
                  <a:pt x="2203" y="426"/>
                </a:cubicBezTo>
                <a:cubicBezTo>
                  <a:pt x="2234" y="367"/>
                  <a:pt x="2339" y="264"/>
                  <a:pt x="2417" y="244"/>
                </a:cubicBezTo>
                <a:cubicBezTo>
                  <a:pt x="2495" y="224"/>
                  <a:pt x="2581" y="299"/>
                  <a:pt x="2671" y="305"/>
                </a:cubicBezTo>
                <a:cubicBezTo>
                  <a:pt x="2761" y="311"/>
                  <a:pt x="2906" y="228"/>
                  <a:pt x="2955" y="279"/>
                </a:cubicBezTo>
                <a:cubicBezTo>
                  <a:pt x="3004" y="330"/>
                  <a:pt x="2907" y="598"/>
                  <a:pt x="2964" y="611"/>
                </a:cubicBezTo>
                <a:cubicBezTo>
                  <a:pt x="3021" y="624"/>
                  <a:pt x="3211" y="328"/>
                  <a:pt x="3296" y="358"/>
                </a:cubicBezTo>
                <a:cubicBezTo>
                  <a:pt x="3381" y="388"/>
                  <a:pt x="3435" y="703"/>
                  <a:pt x="3472" y="793"/>
                </a:cubicBezTo>
                <a:cubicBezTo>
                  <a:pt x="3472" y="793"/>
                  <a:pt x="6" y="523"/>
                  <a:pt x="6" y="523"/>
                </a:cubicBezTo>
                <a:close/>
              </a:path>
            </a:pathLst>
          </a:custGeom>
          <a:noFill/>
          <a:ln w="698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484440" y="4718160"/>
            <a:ext cx="5659560" cy="830160"/>
          </a:xfrm>
          <a:custGeom>
            <a:avLst/>
            <a:gdLst>
              <a:gd name="textAreaLeft" fmla="*/ 0 w 5659560"/>
              <a:gd name="textAreaRight" fmla="*/ 5659560 w 56595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3565" h="523">
                <a:moveTo>
                  <a:pt x="50" y="415"/>
                </a:moveTo>
                <a:cubicBezTo>
                  <a:pt x="50" y="373"/>
                  <a:pt x="0" y="218"/>
                  <a:pt x="50" y="162"/>
                </a:cubicBezTo>
                <a:cubicBezTo>
                  <a:pt x="100" y="106"/>
                  <a:pt x="275" y="72"/>
                  <a:pt x="351" y="82"/>
                </a:cubicBezTo>
                <a:cubicBezTo>
                  <a:pt x="427" y="92"/>
                  <a:pt x="450" y="229"/>
                  <a:pt x="504" y="222"/>
                </a:cubicBezTo>
                <a:cubicBezTo>
                  <a:pt x="559" y="216"/>
                  <a:pt x="634" y="74"/>
                  <a:pt x="676" y="42"/>
                </a:cubicBezTo>
                <a:cubicBezTo>
                  <a:pt x="719" y="11"/>
                  <a:pt x="728" y="4"/>
                  <a:pt x="759" y="30"/>
                </a:cubicBezTo>
                <a:cubicBezTo>
                  <a:pt x="789" y="57"/>
                  <a:pt x="818" y="164"/>
                  <a:pt x="859" y="197"/>
                </a:cubicBezTo>
                <a:cubicBezTo>
                  <a:pt x="900" y="230"/>
                  <a:pt x="953" y="236"/>
                  <a:pt x="1007" y="230"/>
                </a:cubicBezTo>
                <a:cubicBezTo>
                  <a:pt x="1061" y="224"/>
                  <a:pt x="1138" y="174"/>
                  <a:pt x="1184" y="158"/>
                </a:cubicBezTo>
                <a:cubicBezTo>
                  <a:pt x="1230" y="142"/>
                  <a:pt x="1244" y="121"/>
                  <a:pt x="1284" y="133"/>
                </a:cubicBezTo>
                <a:cubicBezTo>
                  <a:pt x="1324" y="145"/>
                  <a:pt x="1373" y="209"/>
                  <a:pt x="1424" y="230"/>
                </a:cubicBezTo>
                <a:cubicBezTo>
                  <a:pt x="1475" y="251"/>
                  <a:pt x="1547" y="274"/>
                  <a:pt x="1593" y="259"/>
                </a:cubicBezTo>
                <a:cubicBezTo>
                  <a:pt x="1639" y="244"/>
                  <a:pt x="1666" y="176"/>
                  <a:pt x="1700" y="142"/>
                </a:cubicBezTo>
                <a:cubicBezTo>
                  <a:pt x="1734" y="108"/>
                  <a:pt x="1750" y="41"/>
                  <a:pt x="1798" y="54"/>
                </a:cubicBezTo>
                <a:cubicBezTo>
                  <a:pt x="1846" y="67"/>
                  <a:pt x="1939" y="223"/>
                  <a:pt x="1988" y="222"/>
                </a:cubicBezTo>
                <a:cubicBezTo>
                  <a:pt x="2037" y="221"/>
                  <a:pt x="2055" y="48"/>
                  <a:pt x="2091" y="45"/>
                </a:cubicBezTo>
                <a:cubicBezTo>
                  <a:pt x="2127" y="42"/>
                  <a:pt x="2150" y="173"/>
                  <a:pt x="2204" y="202"/>
                </a:cubicBezTo>
                <a:cubicBezTo>
                  <a:pt x="2258" y="231"/>
                  <a:pt x="2350" y="210"/>
                  <a:pt x="2413" y="220"/>
                </a:cubicBezTo>
                <a:cubicBezTo>
                  <a:pt x="2476" y="230"/>
                  <a:pt x="2527" y="292"/>
                  <a:pt x="2584" y="260"/>
                </a:cubicBezTo>
                <a:cubicBezTo>
                  <a:pt x="2641" y="228"/>
                  <a:pt x="2696" y="50"/>
                  <a:pt x="2755" y="25"/>
                </a:cubicBezTo>
                <a:cubicBezTo>
                  <a:pt x="2814" y="0"/>
                  <a:pt x="2883" y="74"/>
                  <a:pt x="2940" y="113"/>
                </a:cubicBezTo>
                <a:cubicBezTo>
                  <a:pt x="2997" y="152"/>
                  <a:pt x="3015" y="246"/>
                  <a:pt x="3096" y="259"/>
                </a:cubicBezTo>
                <a:cubicBezTo>
                  <a:pt x="3177" y="272"/>
                  <a:pt x="3350" y="147"/>
                  <a:pt x="3428" y="191"/>
                </a:cubicBezTo>
                <a:cubicBezTo>
                  <a:pt x="3506" y="235"/>
                  <a:pt x="3537" y="454"/>
                  <a:pt x="3565" y="523"/>
                </a:cubicBez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6084720" y="321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3" name="AutoShape 8"/>
          <p:cNvSpPr/>
          <p:nvPr/>
        </p:nvSpPr>
        <p:spPr>
          <a:xfrm flipH="1">
            <a:off x="467640" y="476280"/>
            <a:ext cx="5327640" cy="2089080"/>
          </a:xfrm>
          <a:prstGeom prst="wedgeEllipseCallout">
            <a:avLst>
              <a:gd name="adj1" fmla="val -57777"/>
              <a:gd name="adj2" fmla="val 34569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Давно известна человек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Она тягуча и красн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Еще по бронзовому веку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Знакома в сплавах всем он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Bookman Old Style"/>
                <a:ea typeface="Arial"/>
              </a:rPr>
              <a:t>С горячей серной кислотою дает нам синий купорос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468360" y="4292640"/>
            <a:ext cx="2448000" cy="1081080"/>
          </a:xfrm>
          <a:prstGeom prst="rect">
            <a:avLst/>
          </a:prstGeom>
          <a:solidFill>
            <a:srgbClr val="ffffff"/>
          </a:solidFill>
          <a:ln w="98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Arial"/>
              </a:rPr>
              <a:t>C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 rot="627600">
            <a:off x="5508360" y="549000"/>
            <a:ext cx="2016000" cy="503280"/>
          </a:xfrm>
          <a:prstGeom prst="cloudCallout">
            <a:avLst>
              <a:gd name="adj1" fmla="val 10472"/>
              <a:gd name="adj2" fmla="val 19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 rot="10800000">
            <a:off x="7235640" y="188280"/>
            <a:ext cx="1657080" cy="500040"/>
          </a:xfrm>
          <a:prstGeom prst="cloudCallout">
            <a:avLst>
              <a:gd name="adj1" fmla="val 89078"/>
              <a:gd name="adj2" fmla="val 6504"/>
            </a:avLst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Rectangle 17"/>
          <p:cNvGrpSpPr/>
          <p:nvPr/>
        </p:nvGrpSpPr>
        <p:grpSpPr>
          <a:xfrm>
            <a:off x="5937120" y="6381720"/>
            <a:ext cx="1427400" cy="287280"/>
            <a:chOff x="5937120" y="6381720"/>
            <a:chExt cx="1427400" cy="287280"/>
          </a:xfrm>
        </p:grpSpPr>
        <p:pic>
          <p:nvPicPr>
            <p:cNvPr id="309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937120" y="6381720"/>
              <a:ext cx="1427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94036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18"/>
          <p:cNvGrpSpPr/>
          <p:nvPr/>
        </p:nvGrpSpPr>
        <p:grpSpPr>
          <a:xfrm>
            <a:off x="7448400" y="6381720"/>
            <a:ext cx="1566720" cy="287280"/>
            <a:chOff x="7448400" y="6381720"/>
            <a:chExt cx="1566720" cy="287280"/>
          </a:xfrm>
        </p:grpSpPr>
        <p:pic>
          <p:nvPicPr>
            <p:cNvPr id="312" name="Rectangl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48400" y="6381720"/>
              <a:ext cx="1565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451280" y="6381720"/>
              <a:ext cx="1563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0" descr="89"/>
          <p:cNvPicPr/>
          <p:nvPr/>
        </p:nvPicPr>
        <p:blipFill>
          <a:blip r:embed="rId7"/>
          <a:stretch/>
        </p:blipFill>
        <p:spPr>
          <a:xfrm rot="405600">
            <a:off x="7451280" y="764640"/>
            <a:ext cx="1428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7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5:09:47Z</dcterms:created>
  <dc:creator>Русскова Юлия</dc:creator>
  <dc:description/>
  <cp:keywords>химия</cp:keywords>
  <dc:language>en-US</dc:language>
  <cp:lastModifiedBy>Lena</cp:lastModifiedBy>
  <dcterms:modified xsi:type="dcterms:W3CDTF">2015-05-15T19:35:04Z</dcterms:modified>
  <cp:revision>79</cp:revision>
  <dc:subject>Классы неорганических веществ</dc:subject>
  <dc:title>Путешествие в мир веществ</dc:title>
</cp:coreProperties>
</file>