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173C-A568-4142-BE65-3A82447E1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96D5-2546-4DE8-8810-89FADD825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980-7077-4236-9E6D-410E933B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377-845A-4ECC-9C4E-B7A4CCF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7CE-DB08-4EA0-A6C0-8FC26A90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4F1-2DC4-471F-9CD6-CDA325F3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825C-8F9F-459C-8A5B-BF527F40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D47-4ADD-4ECE-8AE5-A5FF3DD8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8255-2003-4995-9B73-1B40D6B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64B1-E243-4296-8A16-9440B30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FCA-E918-4FE2-AD6E-59475496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B5AB-EFE0-49ED-A2E2-AAE7AA5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409B-80DC-46B3-8826-BFA537C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A78-20B1-4E99-957C-2D61855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936F-FA74-4586-88E6-2AB31AA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280F-434A-4AEB-9898-80E4C21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B408-A3FA-4FBA-8F2E-D0E01AE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980F-31FA-4BB0-A01F-6580D0C0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641A-874F-4052-BBB4-162720E7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2069-20D0-4FF4-B3D5-F11E0E43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23E9-1616-4E34-A8CF-A33A6F7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FE7D-554C-4539-B485-5443D571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2CC7-8547-463F-8ED6-C380A85D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AD27-B407-44FD-B4D6-24007B06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6FF-66E9-4034-958B-36E0CB6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ED07-2A5F-46A6-900D-91B315CE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2DBE-89EB-41C3-84AC-A445B76A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5339-CC98-4D78-AF5B-C40F3F11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DD7F-B092-424E-82D7-7F3203A3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78E7-B39C-43E6-91BD-A0DC0DED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B504-65EF-4CCC-BB95-3F5AC8B0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71F3-50F2-4813-9061-00A7DBD9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502B-A3C0-4111-90C7-7430470E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983B-A0F7-487B-84A6-189CB364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1E15-F260-4E0F-A5D8-1208299A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307-EA08-4882-BA2D-0AB2843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9C3E-4308-4A1C-9B32-974F7C0A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7358-0885-4E60-98FA-52888CA7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BD24-843F-4A3C-B03D-398C4987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5F57-712E-4FF4-BC7B-EB61D77F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E2712-A96E-46E2-9726-1FE3F9A7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446B-14FF-43D5-A1AF-980ACC1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749F-2BA1-45FA-947B-D392A23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5223-0020-4F93-8699-73EA1C8B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3202-800E-470A-B293-5715F679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802A-B7A8-4C48-860F-B588ED9C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9E1-D4D1-4819-A656-A5106BBB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5C1F-0D88-49F0-9F8D-D6D7FE0A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C183-0EA7-447F-BD65-AF7F18D0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9B3A-433C-4C64-B6CA-EDA754AA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D16A-C571-4A0D-8543-ECFC6457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B49B-7B07-4939-B913-76E5AE1A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696A-EF42-451B-AF00-64FDEC0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38B9-23A9-4E4B-8EB9-A26DBE2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67DF7-A1F5-495D-874D-E09BC148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7B35-39F5-4547-AF2E-061E37A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FD8F-5922-48DF-898D-E98E30E0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51E-F2E6-4675-85B2-7903EB34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9AC2-0571-4A3F-A9F7-7162C978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B921-4C2A-4857-B76A-37C1A419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7970-9B99-41CC-8B78-70C9FE2F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B460-9566-4960-BDD9-E90F07E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8A163-C21D-43E4-8889-D4213D00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C1319-0EDD-4545-BAD3-9AC96C34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E8DD-79D9-43CD-AD9E-92F3DAD5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68387-7DD6-4A18-980A-F1726B7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2F24-C3F2-4722-A218-2E177C6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5CF5A-88A6-42FE-8948-426CBAB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36A-F630-4FC4-BBEE-73664F9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DF45A-D043-4D6B-B6FE-1245E353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CC18-D6F8-4E73-84D9-4B7C781F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1145-4E1D-4CB1-BC87-5F772432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13F7-6F4A-42AF-977A-46CD5539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603F-F6E4-445A-8F77-EF44D21A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E797-366E-4042-8EC5-480C657E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884A-348F-4FCE-AA9E-BA748C6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5981-23D2-4FA4-A3AA-0D03FE22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C6B0-88EE-4B95-A143-6DDC5BC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65ED-BCC5-4CF8-9259-A26FC62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7AD-D7AF-4968-AEDC-CD0E521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7BE4-3566-4A0D-88E4-336C0E7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B5B3-9B5B-4FB8-97C8-51CE292A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5A9A-7774-4598-8AC0-5330F80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A6B5-ABD5-4ED3-9382-94916EFC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AB94-A18E-421A-BB05-5D704B90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6C1-C734-49F1-B6C0-8D685391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F4C7-38D3-4BE1-9026-314727CCAAA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7533-DB8B-4225-A5BB-F1996859492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EC5-4EC5-4B73-BD84-2167D3658E5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1ACB-B199-48CB-B8F2-2E312D48949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477-E362-47E9-AD04-22B16F59F43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2D95-7396-461F-853D-9FF1481F5A6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4B9-E55D-4146-B904-7960C589D1B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8676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572314"/>
                </a:solidFill>
                <a:latin typeface="Arial"/>
              </a:rPr>
              <a:t>Почему мне</a:t>
            </a:r>
            <a:br>
              <a:rPr sz="4900"/>
            </a:br>
            <a:r>
              <a:rPr b="1" i="1" lang="ru-RU" sz="4900" spc="-1" strike="noStrike">
                <a:solidFill>
                  <a:srgbClr val="572314"/>
                </a:solidFill>
                <a:latin typeface="Arial"/>
              </a:rPr>
              <a:t>интересно</a:t>
            </a:r>
            <a:br>
              <a:rPr sz="4900"/>
            </a:br>
            <a:r>
              <a:rPr b="1" i="1" lang="ru-RU" sz="4900" spc="-1" strike="noStrike">
                <a:solidFill>
                  <a:srgbClr val="572314"/>
                </a:solidFill>
                <a:latin typeface="Arial"/>
              </a:rPr>
              <a:t>ходить в библиотеку.</a:t>
            </a:r>
            <a:br>
              <a:rPr sz="4900"/>
            </a:b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Arial"/>
              </a:rPr>
              <a:t>Почему мы ходим </a:t>
            </a:r>
            <a:br>
              <a:rPr sz="4000"/>
            </a:br>
            <a:r>
              <a:rPr b="1" i="1" lang="ru-RU" sz="4000" spc="-1" strike="noStrike">
                <a:solidFill>
                  <a:srgbClr val="572314"/>
                </a:solidFill>
                <a:latin typeface="Arial"/>
              </a:rPr>
              <a:t>в библиотеку?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нигу, которой нет в домашней библиотек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интересный журнал, газе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урок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тематическими выставкам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Aria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Рисунок 3" descr=""/>
          <p:cNvPicPr/>
          <p:nvPr/>
        </p:nvPicPr>
        <p:blipFill>
          <a:blip r:embed="rId1"/>
          <a:stretch/>
        </p:blipFill>
        <p:spPr>
          <a:xfrm>
            <a:off x="4470480" y="337176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ANd9GcRgddqg4py7p-RDi9_GXnGoYXR2HuUF78N1xvtHrwjjjPURq8CGKg"/>
          <p:cNvPicPr/>
          <p:nvPr/>
        </p:nvPicPr>
        <p:blipFill>
          <a:blip r:embed="rId2"/>
          <a:stretch/>
        </p:blipFill>
        <p:spPr>
          <a:xfrm>
            <a:off x="857160" y="1500120"/>
            <a:ext cx="4535640" cy="33847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500040" y="569124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Аверьянов Ил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йся  2 «А» кл. МОУ «СОШ №2»,г.Ух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5153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Arial"/>
              </a:rPr>
              <a:t>История возникновения</a:t>
            </a:r>
            <a:br>
              <a:rPr sz="4300"/>
            </a:br>
            <a:r>
              <a:rPr b="1" i="1" lang="ru-RU" sz="4300" spc="-1" strike="noStrike">
                <a:solidFill>
                  <a:srgbClr val="572314"/>
                </a:solidFill>
                <a:latin typeface="Arial"/>
              </a:rPr>
              <a:t>библиотек.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360" y="2143080"/>
            <a:ext cx="771516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ервые «книги»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ексты на глиняных табличк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5" descr="8"/>
          <p:cNvPicPr/>
          <p:nvPr/>
        </p:nvPicPr>
        <p:blipFill>
          <a:blip r:embed="rId1"/>
          <a:stretch/>
        </p:blipFill>
        <p:spPr>
          <a:xfrm>
            <a:off x="1332000" y="36450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4"/>
          <p:cNvPicPr/>
          <p:nvPr/>
        </p:nvPicPr>
        <p:blipFill>
          <a:blip r:embed="rId2"/>
          <a:stretch/>
        </p:blipFill>
        <p:spPr>
          <a:xfrm>
            <a:off x="6227640" y="3645000"/>
            <a:ext cx="1762200" cy="2520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2"/>
          <p:cNvPicPr/>
          <p:nvPr/>
        </p:nvPicPr>
        <p:blipFill>
          <a:blip r:embed="rId3"/>
          <a:stretch/>
        </p:blipFill>
        <p:spPr>
          <a:xfrm>
            <a:off x="3851280" y="3645000"/>
            <a:ext cx="175248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314"/>
                </a:solidFill>
                <a:latin typeface="Arial"/>
              </a:rPr>
              <a:t>Древнейшее собрание книг-</a:t>
            </a:r>
            <a:br>
              <a:rPr sz="3600"/>
            </a:br>
            <a:r>
              <a:rPr b="1" i="1" lang="ru-RU" sz="3600" spc="-1" strike="noStrike">
                <a:solidFill>
                  <a:srgbClr val="572314"/>
                </a:solidFill>
                <a:latin typeface="Arial"/>
              </a:rPr>
              <a:t>ящик с папирусом</a:t>
            </a:r>
            <a:r>
              <a:rPr b="0" i="1" lang="ru-RU" sz="3600" spc="-1" strike="noStrike">
                <a:solidFill>
                  <a:srgbClr val="572314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Picture 5" descr="D:\библиотека\s_10.jpg"/>
          <p:cNvPicPr/>
          <p:nvPr/>
        </p:nvPicPr>
        <p:blipFill>
          <a:blip r:embed="rId1"/>
          <a:stretch/>
        </p:blipFill>
        <p:spPr>
          <a:xfrm>
            <a:off x="611280" y="1700280"/>
            <a:ext cx="3413160" cy="240012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333" name="Picture 3" descr="D:\библиотека\aug_papyr.jpg"/>
          <p:cNvPicPr/>
          <p:nvPr/>
        </p:nvPicPr>
        <p:blipFill>
          <a:blip r:embed="rId2"/>
          <a:stretch/>
        </p:blipFill>
        <p:spPr>
          <a:xfrm>
            <a:off x="1042920" y="4221000"/>
            <a:ext cx="2233800" cy="230364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334" name="Picture 3" descr="D:\библиотека\cqs1279873736m.jpg"/>
          <p:cNvPicPr/>
          <p:nvPr/>
        </p:nvPicPr>
        <p:blipFill>
          <a:blip r:embed="rId3"/>
          <a:stretch/>
        </p:blipFill>
        <p:spPr>
          <a:xfrm>
            <a:off x="4932360" y="1700280"/>
            <a:ext cx="3124080" cy="468144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314"/>
                </a:solidFill>
                <a:latin typeface="Arial"/>
              </a:rPr>
              <a:t>Первые библиотеки</a:t>
            </a:r>
            <a:br>
              <a:rPr sz="3600"/>
            </a:br>
            <a:r>
              <a:rPr b="1" i="1" lang="ru-RU" sz="3600" spc="-1" strike="noStrike">
                <a:solidFill>
                  <a:srgbClr val="572314"/>
                </a:solidFill>
                <a:latin typeface="Arial"/>
              </a:rPr>
              <a:t>на Руси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4" descr="m_542"/>
          <p:cNvPicPr/>
          <p:nvPr/>
        </p:nvPicPr>
        <p:blipFill>
          <a:blip r:embed="rId1"/>
          <a:stretch/>
        </p:blipFill>
        <p:spPr>
          <a:xfrm>
            <a:off x="250920" y="1557360"/>
            <a:ext cx="3889440" cy="2951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m_540"/>
          <p:cNvPicPr/>
          <p:nvPr/>
        </p:nvPicPr>
        <p:blipFill>
          <a:blip r:embed="rId2"/>
          <a:stretch/>
        </p:blipFill>
        <p:spPr>
          <a:xfrm>
            <a:off x="4038480" y="4221000"/>
            <a:ext cx="5105520" cy="2637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_541i"/>
          <p:cNvPicPr/>
          <p:nvPr/>
        </p:nvPicPr>
        <p:blipFill>
          <a:blip r:embed="rId3"/>
          <a:stretch/>
        </p:blipFill>
        <p:spPr>
          <a:xfrm>
            <a:off x="4500720" y="1557360"/>
            <a:ext cx="41148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314"/>
                </a:solidFill>
                <a:latin typeface="Arial"/>
              </a:rPr>
              <a:t>Первые книги на Руси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4" descr="texti"/>
          <p:cNvPicPr/>
          <p:nvPr/>
        </p:nvPicPr>
        <p:blipFill>
          <a:blip r:embed="rId1"/>
          <a:stretch/>
        </p:blipFill>
        <p:spPr>
          <a:xfrm>
            <a:off x="684360" y="1125360"/>
            <a:ext cx="3671640" cy="2519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k_064i"/>
          <p:cNvPicPr/>
          <p:nvPr/>
        </p:nvPicPr>
        <p:blipFill>
          <a:blip r:embed="rId2"/>
          <a:stretch/>
        </p:blipFill>
        <p:spPr>
          <a:xfrm>
            <a:off x="5181480" y="1052640"/>
            <a:ext cx="2414880" cy="2520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k_067i"/>
          <p:cNvPicPr/>
          <p:nvPr/>
        </p:nvPicPr>
        <p:blipFill>
          <a:blip r:embed="rId3"/>
          <a:stretch/>
        </p:blipFill>
        <p:spPr>
          <a:xfrm>
            <a:off x="5292720" y="3933720"/>
            <a:ext cx="2152800" cy="2519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k_065i"/>
          <p:cNvPicPr/>
          <p:nvPr/>
        </p:nvPicPr>
        <p:blipFill>
          <a:blip r:embed="rId4"/>
          <a:stretch/>
        </p:blipFill>
        <p:spPr>
          <a:xfrm>
            <a:off x="2362320" y="3886200"/>
            <a:ext cx="2133360" cy="2638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314"/>
                </a:solidFill>
                <a:latin typeface="Arial"/>
              </a:rPr>
              <a:t>Самые красивые древние библиотеки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D:\библиотека\4a88546c4e6b.jpg"/>
          <p:cNvPicPr/>
          <p:nvPr/>
        </p:nvPicPr>
        <p:blipFill>
          <a:blip r:embed="rId1"/>
          <a:stretch/>
        </p:blipFill>
        <p:spPr>
          <a:xfrm>
            <a:off x="539640" y="2276640"/>
            <a:ext cx="3456000" cy="278424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346" name="Picture 3" descr="D:\библиотека\0f300b948c5a.jpg"/>
          <p:cNvPicPr/>
          <p:nvPr/>
        </p:nvPicPr>
        <p:blipFill>
          <a:blip r:embed="rId2"/>
          <a:stretch/>
        </p:blipFill>
        <p:spPr>
          <a:xfrm>
            <a:off x="4427640" y="1844640"/>
            <a:ext cx="3744720" cy="478152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314"/>
                </a:solidFill>
                <a:latin typeface="Arial"/>
              </a:rPr>
              <a:t>Современные библиотеки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D:\библиотека\0cf70ef135d9.jpg"/>
          <p:cNvPicPr/>
          <p:nvPr/>
        </p:nvPicPr>
        <p:blipFill>
          <a:blip r:embed="rId1"/>
          <a:stretch/>
        </p:blipFill>
        <p:spPr>
          <a:xfrm>
            <a:off x="611280" y="1052640"/>
            <a:ext cx="3960720" cy="283824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349" name="Picture 3" descr="D:\библиотека\e33f769fad3a.jpg"/>
          <p:cNvPicPr/>
          <p:nvPr/>
        </p:nvPicPr>
        <p:blipFill>
          <a:blip r:embed="rId2"/>
          <a:stretch/>
        </p:blipFill>
        <p:spPr>
          <a:xfrm>
            <a:off x="5003640" y="1125360"/>
            <a:ext cx="3672000" cy="280836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350" name="Picture 4" descr="D:\библиотека\79be6d4ae9af.jpg"/>
          <p:cNvPicPr/>
          <p:nvPr/>
        </p:nvPicPr>
        <p:blipFill>
          <a:blip r:embed="rId3"/>
          <a:stretch/>
        </p:blipFill>
        <p:spPr>
          <a:xfrm>
            <a:off x="684360" y="4221000"/>
            <a:ext cx="3654360" cy="242748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351" name="Picture 5" descr="D:\библиотека\9572181878ca.jpg"/>
          <p:cNvPicPr/>
          <p:nvPr/>
        </p:nvPicPr>
        <p:blipFill>
          <a:blip r:embed="rId4"/>
          <a:stretch/>
        </p:blipFill>
        <p:spPr>
          <a:xfrm>
            <a:off x="5003640" y="4221000"/>
            <a:ext cx="3356280" cy="237672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Picture 4" descr="1429842-4fdf0f7bd5f88f16.jpg"/>
          <p:cNvPicPr/>
          <p:nvPr/>
        </p:nvPicPr>
        <p:blipFill>
          <a:blip r:embed="rId1"/>
          <a:stretch/>
        </p:blipFill>
        <p:spPr>
          <a:xfrm>
            <a:off x="324000" y="189000"/>
            <a:ext cx="4176720" cy="3362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Самые необычные библиотеки мира "/>
          <p:cNvPicPr/>
          <p:nvPr/>
        </p:nvPicPr>
        <p:blipFill>
          <a:blip r:embed="rId2"/>
          <a:stretch/>
        </p:blipFill>
        <p:spPr>
          <a:xfrm>
            <a:off x="1763640" y="3112920"/>
            <a:ext cx="5867640" cy="3745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Здание библиотеки в США"/>
          <p:cNvPicPr/>
          <p:nvPr/>
        </p:nvPicPr>
        <p:blipFill>
          <a:blip r:embed="rId3"/>
          <a:stretch/>
        </p:blipFill>
        <p:spPr>
          <a:xfrm>
            <a:off x="5148360" y="189000"/>
            <a:ext cx="3995640" cy="2859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Arial"/>
              </a:rPr>
              <a:t>Российские библиоте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7" name="Picture 4" descr="Пашков дом на Моховой, 26 — старейшая часть комплекса зданий библиотеки"/>
          <p:cNvPicPr/>
          <p:nvPr/>
        </p:nvPicPr>
        <p:blipFill>
          <a:blip r:embed="rId1"/>
          <a:stretch/>
        </p:blipFill>
        <p:spPr>
          <a:xfrm>
            <a:off x="900000" y="126828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250px-RNB_SPB"/>
          <p:cNvPicPr/>
          <p:nvPr/>
        </p:nvPicPr>
        <p:blipFill>
          <a:blip r:embed="rId2"/>
          <a:srcRect l="0" t="0" r="0" b="19693"/>
          <a:stretch/>
        </p:blipFill>
        <p:spPr>
          <a:xfrm>
            <a:off x="4643280" y="1125360"/>
            <a:ext cx="3959280" cy="2664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Президентская библиотека имени Б. Н. Ельцина"/>
          <p:cNvPicPr/>
          <p:nvPr/>
        </p:nvPicPr>
        <p:blipFill>
          <a:blip r:embed="rId3"/>
          <a:stretch/>
        </p:blipFill>
        <p:spPr>
          <a:xfrm>
            <a:off x="468360" y="3860640"/>
            <a:ext cx="3814560" cy="2781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Государственная детская библиотека"/>
          <p:cNvPicPr/>
          <p:nvPr/>
        </p:nvPicPr>
        <p:blipFill>
          <a:blip r:embed="rId4"/>
          <a:stretch/>
        </p:blipFill>
        <p:spPr>
          <a:xfrm>
            <a:off x="4716360" y="3933720"/>
            <a:ext cx="3894120" cy="2684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User</cp:lastModifiedBy>
  <dcterms:modified xsi:type="dcterms:W3CDTF">2020-06-07T18:18:18Z</dcterms:modified>
  <cp:revision>32</cp:revision>
  <dc:subject/>
  <dc:title>Заголовок слайда</dc:title>
</cp:coreProperties>
</file>