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2C1-A5E9-4C6D-8EB7-AC2D6984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723-544B-4D09-9601-6D7D9D0B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5C7-9F05-4690-A61C-22AD0F04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611-3398-434B-B4F3-524C6AAB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FB9-A841-4F99-8FFA-9BE5852C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884-B35D-4217-91FE-841AFF4B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E0C-601A-4000-A0EE-BB709CF6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2D47-0309-4C5C-91C1-C7345EAF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3ADC-D02D-4637-BEAF-CB42937C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F5B-E173-4284-9767-E29F79E0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CCB-294C-446A-97D9-914318E9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D81-FD4D-4051-B4D7-2B5F9576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3B68-B29D-4613-9ED1-9C0FE24ECAF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рок русского</a:t>
            </a:r>
            <a:br>
              <a:rPr sz="6000"/>
            </a:br>
            <a:r>
              <a:rPr b="1" i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язы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http://img-fotki.yandex.ru/get/6407/47407354.6eb/0_e9e53_ce355a57_orig.png"/>
          <p:cNvPicPr/>
          <p:nvPr/>
        </p:nvPicPr>
        <p:blipFill>
          <a:blip r:embed="rId1"/>
          <a:stretch/>
        </p:blipFill>
        <p:spPr>
          <a:xfrm>
            <a:off x="611280" y="1844640"/>
            <a:ext cx="3566880" cy="4357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 flipH="1">
            <a:off x="3924360" y="4581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ель: Ильина Лариса Филарет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26028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перативная проверочная работа.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Спиши предложения, употребив имена существительные, данные в скобках, в нужном падеже  и числе. Выдели окончание имён существи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олых(ветки) (рябины)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ели (снегирь). Они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вали  красные (ягодки)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х (деревья)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www.posad-info.ru/sites/default/files/images/kstati/snegiri.jpg"/>
          <p:cNvPicPr/>
          <p:nvPr/>
        </p:nvPicPr>
        <p:blipFill>
          <a:blip r:embed="rId1"/>
          <a:stretch/>
        </p:blipFill>
        <p:spPr>
          <a:xfrm>
            <a:off x="5780160" y="4697280"/>
            <a:ext cx="31845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олых ветк</a:t>
            </a: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х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ябин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ели снегир</a:t>
            </a: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вали  красные ягод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х деревь</a:t>
            </a: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х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http://webmandry.com/wp-content/uploads/2015/01/2015_01_988_3.jpg"/>
          <p:cNvPicPr/>
          <p:nvPr/>
        </p:nvPicPr>
        <p:blipFill>
          <a:blip r:embed="rId1"/>
          <a:stretch/>
        </p:blipFill>
        <p:spPr>
          <a:xfrm>
            <a:off x="5140440" y="4076640"/>
            <a:ext cx="37987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129 упр. 2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полни упражн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верь, все ли задания выполне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верь себя, опираясь на правило учебника с.12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цени свою работ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69992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- молодец      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7500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Могу и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  </a:t>
            </a:r>
            <a:r>
              <a:rPr b="0" lang="ru-RU" sz="50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лучше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ться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Овал 3"/>
          <p:cNvSpPr/>
          <p:nvPr/>
        </p:nvSpPr>
        <p:spPr>
          <a:xfrm>
            <a:off x="5292720" y="1557360"/>
            <a:ext cx="1150920" cy="934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5"/>
          <p:cNvSpPr/>
          <p:nvPr/>
        </p:nvSpPr>
        <p:spPr>
          <a:xfrm>
            <a:off x="3995640" y="2708280"/>
            <a:ext cx="1297080" cy="10080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?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7"/>
          <p:cNvSpPr/>
          <p:nvPr/>
        </p:nvSpPr>
        <p:spPr>
          <a:xfrm>
            <a:off x="4859280" y="4437000"/>
            <a:ext cx="1225440" cy="10080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м.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6202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128 упр.25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язательн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запомнить  падежные окончания  сущ-ых во мн.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ЩЕСТВИТЕЛЬНЫЕ имеют одинаковые окончания в трёх падежах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п.(-ам, -ям), Т.п.(-ами, -ями), П.п.(-ах, -ях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неодуш. сущ.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инаковые окончания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п. и В.п.(-а,-я,-и,-ы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одуш. сущ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одинаковые оконч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.п. и В.п.(-ов,-ёв,-ей,-  нулев. оконч.  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цени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400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Задачами  урока были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ериал урока мне был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работал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Своей работой я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4e00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003f"/>
                </a:solidFill>
                <a:latin typeface="Times New Roman"/>
                <a:ea typeface="Times New Roman"/>
              </a:rPr>
              <a:t>За время работы я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r>
              <a:rPr b="1" lang="ru-RU" sz="88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Нарисуй свое  настроение </a:t>
            </a:r>
            <a:r>
              <a:rPr b="1" lang="ru-RU" sz="8800" spc="-1" strike="noStrike">
                <a:solidFill>
                  <a:srgbClr val="92d050"/>
                </a:solidFill>
                <a:latin typeface="Calibri"/>
              </a:rPr>
              <a:t>____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Прямоугольник 3" descr=""/>
          <p:cNvPicPr/>
          <p:nvPr/>
        </p:nvPicPr>
        <p:blipFill>
          <a:blip r:embed="rId1"/>
          <a:stretch/>
        </p:blipFill>
        <p:spPr>
          <a:xfrm>
            <a:off x="-768240" y="3340080"/>
            <a:ext cx="9663120" cy="35179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http://img-fotki.yandex.ru/get/4118/47407354.a9d/0_111d30_f7f7656f_orig.png"/>
          <p:cNvPicPr/>
          <p:nvPr/>
        </p:nvPicPr>
        <p:blipFill>
          <a:blip r:embed="rId2"/>
          <a:stretch/>
        </p:blipFill>
        <p:spPr>
          <a:xfrm>
            <a:off x="7164360" y="4653000"/>
            <a:ext cx="153360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Десятое  январ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Склонение имен существительных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во множественном чис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51228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и урока: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6275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1. Отрабатывать умения распознавать  падеж существительных во множественном чис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2. Закрепить навыки правильного употребления существительных  во множественном чис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az999.ucoz.ru/185.jpg"/>
          <p:cNvPicPr/>
          <p:nvPr/>
        </p:nvPicPr>
        <p:blipFill>
          <a:blip r:embed="rId1"/>
          <a:stretch/>
        </p:blipFill>
        <p:spPr>
          <a:xfrm>
            <a:off x="5526000" y="189000"/>
            <a:ext cx="34736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001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Склонение  имён существительных во множественном чис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981000"/>
          <a:ext cx="8420040" cy="5857920"/>
        </p:xfrm>
        <a:graphic>
          <a:graphicData uri="http://schemas.openxmlformats.org/drawingml/2006/table">
            <a:tbl>
              <a:tblPr/>
              <a:tblGrid>
                <a:gridCol w="658800"/>
                <a:gridCol w="2765520"/>
                <a:gridCol w="2635200"/>
                <a:gridCol w="236052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о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о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о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к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ёстр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ы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н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к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□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ёр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в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н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к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м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ёстр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м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н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к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ё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ы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н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к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ёстр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м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н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речк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х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ёстр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куст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н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степ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4e005f"/>
                </a:solidFill>
                <a:uFillTx/>
                <a:latin typeface="Calibri"/>
              </a:rPr>
              <a:t>ЗАПОМНИ:</a:t>
            </a:r>
            <a:br>
              <a:rPr sz="3200"/>
            </a:br>
            <a:r>
              <a:rPr b="1" i="1" lang="ru-RU" sz="3200" spc="-1" strike="noStrike" u="sng">
                <a:solidFill>
                  <a:srgbClr val="4e005f"/>
                </a:solidFill>
                <a:uFillTx/>
                <a:latin typeface="Calibri"/>
              </a:rPr>
              <a:t>Имя сущ-ое во множественном числ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не различается </a:t>
            </a:r>
            <a:r>
              <a:rPr b="0" lang="ru-RU" sz="3600" spc="-1" strike="noStrike">
                <a:solidFill>
                  <a:srgbClr val="00b050"/>
                </a:solidFill>
                <a:latin typeface="Calibri"/>
              </a:rPr>
              <a:t>по склонения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7030a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имеет одинаковые окончания в трёх падежах: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.п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-ам, -ям),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Т.п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(-ами, -ями),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.п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(-ах, -ях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ffc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у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неодуш. сущ. </a:t>
            </a:r>
            <a:r>
              <a:rPr b="1" lang="ru-RU" sz="3600" spc="-1" strike="noStrike">
                <a:solidFill>
                  <a:srgbClr val="a3a3a3"/>
                </a:solidFill>
                <a:latin typeface="Calibri"/>
              </a:rPr>
              <a:t>одинаковые окончания в</a:t>
            </a: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.п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и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.п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(-а,-я,-и,-ы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b0f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у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одуш. сущ</a:t>
            </a: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. одинаковые окончани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.п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и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.п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(-ов,-ёв,-ей,-    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6"/>
          <p:cNvSpPr/>
          <p:nvPr/>
        </p:nvSpPr>
        <p:spPr>
          <a:xfrm>
            <a:off x="5219640" y="5805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5219640" y="580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 flipV="1">
            <a:off x="5508720" y="580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 flipH="1">
            <a:off x="5219280" y="6093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перативная проверочная работа.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1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4e005f"/>
                </a:solidFill>
                <a:uFillTx/>
                <a:latin typeface="Times New Roman"/>
                <a:ea typeface="Times New Roman"/>
              </a:rPr>
              <a:t>Выпиши имена сущ-ые, укажи их числ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ый, земли, тетрадка, служить, кувшин, прозрачная,мост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052280"/>
            <a:ext cx="801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и (мн.ч.)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ка (ед. ч.)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вшин (ед.ч.)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ы (мн.ч.)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перативная проверочная работа.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155736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4000" spc="-1" strike="noStrike" u="sng">
                <a:solidFill>
                  <a:srgbClr val="4e005f"/>
                </a:solidFill>
                <a:uFillTx/>
                <a:latin typeface="Times New Roman"/>
                <a:ea typeface="Times New Roman"/>
              </a:rPr>
              <a:t>Подчеркни имена сущ-ые множественного числа с безударными окончаниями</a:t>
            </a:r>
            <a:r>
              <a:rPr b="1" i="1" lang="ru-RU" sz="4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часам, из карманов, до магазинов, к огурцам, на ступеньках, в кустах.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часам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из карманов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 магазинов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 огурцам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на ступеньках,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стах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3"/>
          <p:cNvSpPr/>
          <p:nvPr/>
        </p:nvSpPr>
        <p:spPr>
          <a:xfrm flipH="1">
            <a:off x="2771640" y="2421000"/>
            <a:ext cx="216000" cy="28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4"/>
          <p:cNvSpPr/>
          <p:nvPr/>
        </p:nvSpPr>
        <p:spPr>
          <a:xfrm flipH="1">
            <a:off x="3203640" y="3213000"/>
            <a:ext cx="216000" cy="28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5"/>
          <p:cNvSpPr/>
          <p:nvPr/>
        </p:nvSpPr>
        <p:spPr>
          <a:xfrm flipH="1">
            <a:off x="5867280" y="1628640"/>
            <a:ext cx="216000" cy="28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6"/>
          <p:cNvSpPr/>
          <p:nvPr/>
        </p:nvSpPr>
        <p:spPr>
          <a:xfrm flipH="1">
            <a:off x="2268360" y="1628640"/>
            <a:ext cx="216000" cy="28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7"/>
          <p:cNvSpPr/>
          <p:nvPr/>
        </p:nvSpPr>
        <p:spPr>
          <a:xfrm flipH="1">
            <a:off x="7020000" y="2421000"/>
            <a:ext cx="216000" cy="284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8"/>
          <p:cNvSpPr/>
          <p:nvPr/>
        </p:nvSpPr>
        <p:spPr>
          <a:xfrm flipH="1">
            <a:off x="7667640" y="3213000"/>
            <a:ext cx="216000" cy="28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4:32:18Z</dcterms:created>
  <dc:creator>Admin</dc:creator>
  <dc:description/>
  <dc:language>en-US</dc:language>
  <cp:lastModifiedBy>User</cp:lastModifiedBy>
  <dcterms:modified xsi:type="dcterms:W3CDTF">2020-06-07T09:16:04Z</dcterms:modified>
  <cp:revision>36</cp:revision>
  <dc:subject/>
  <dc:title>Слайд 1</dc:title>
</cp:coreProperties>
</file>