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B9F-A716-4CDA-B5D1-D6EB1F9F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585-A035-4241-B9DF-FD49CCCF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B0D4F-A164-4E46-AF40-CAA23FE0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50F39-6822-4D6B-A15F-275ABB1C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B2B50-20DB-49D0-BA32-F4B952C3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C2567-B87A-4371-8BDF-DE57DF57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A7FC5-C683-4370-B771-2C91F0D4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5C84E-B3E3-4DD0-8056-0CD81190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06DE6-9A6D-4832-B0CE-489DF2E2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EC5E2-3F3D-43EE-B32E-67B60CB3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3C026-27BC-43AF-B1A2-7D528FD2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EAC-0E59-4AAA-B091-77CB55AD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298-3659-40C2-B7D5-E0EE5441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CFB4-88BF-4A8C-B88A-89D81544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D60F-9329-4A3D-9973-FE8A5B20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9290-DD20-48F9-85D7-0D1473AA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4845-20CC-42B9-ACBB-DE3EF043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A4EE-0145-444D-91A7-6F727B5A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DDD8-24B8-466D-81D7-AC704801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340D-DEE9-42FA-B461-A32035AC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6D7-B646-42C1-947A-126C718B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CB3B-0A23-4F4F-BB6D-1F8C40F1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00FF-4712-4408-9034-F434950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B0E4-8BD2-412C-A31C-C4D4CF2E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4FEF-B9E8-4724-94AD-F9850BBF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31DE-1C56-4A32-89F4-A9DE4DC9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A681-4595-4DDB-B4E2-6221B625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EA58-135E-4FA8-BB20-5353AD57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71F78-A9C7-4FCB-BF69-C5BAE03D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18F9-9548-4E1B-A70F-2D83F0A6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C1CD-0C5B-4A59-9DCE-59994DCD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FD9-B1D6-4782-B90D-DA9B1FE1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F1DE-8B67-43A5-92FF-09858CDD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AF0D-93BE-4E16-A8E1-0C582EFB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4CB98-A845-4661-A54E-FE757556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577E-7825-4142-AF22-274D7A23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E2E3-09F9-4506-864B-4FC6D559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FA6A-04E9-4291-93CA-44CD774F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F741B-5F57-41F1-8539-3B674140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0B2C7-8835-4B5A-96E7-62A8C86B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EADD-DB13-4E2D-805B-34935883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77987-F671-4BF6-B1D3-FDEA06B4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77C-B3EC-4D43-9C2B-94E0DB36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FD76C-E0F7-48B1-A4F2-6623BC19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D778-7968-4C8D-93ED-EBD42819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CB44-B23D-4FA3-9D2D-EDA1BA6B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EED1-A825-4841-BCFF-EDB41A5F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47C6-8187-46E5-B1A5-6CE6115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F933-A434-463A-ABDD-9E94D5B5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750E-6CC9-4AF4-B4A5-29567E43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70688-587B-42FC-9CE2-57EC712B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EDD87-1F48-4EEA-9174-30175356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D6F5-4F0E-4EA9-852B-11FD2DB8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4FB-AE28-4F2D-BF28-4D54F206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397F4-311F-4B3A-A389-AB9BAD69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2A6D5-F1DE-4AEE-AA4C-3BD7C5C3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5615-1C36-4578-A7ED-3BF13571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55B1D-0AD4-4D94-A11C-74D8C457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C60B6-9DE4-4647-8B02-0063C017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D873-75BF-4075-A48B-B8F0E840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A9872-F02F-4908-83BD-86328961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FACD2-751A-4145-91D5-0962E37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C695B-9B54-4C71-A8E4-AD7CA688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5B755-5B47-40D1-BB84-E23DD286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CE6-90B5-4447-A113-F26C40AA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16203-A286-46BD-A926-CA19151F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D282F-2D27-4F1E-9F0B-E839B3BB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5FCC1-1E7C-4E2F-B5B9-B3B7381C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0AAC9-3206-4239-8A22-E5A0FE09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667EC-63C9-453C-A2F4-E4CB5C02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A9DD6-3294-41F2-92F5-487C727B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22104-BDE2-4838-9903-211ED0E8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B6DA9-0ADD-4223-AE3E-A3B89DBD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A3A64-8782-4B88-A362-9949008D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2A47A-AE79-4AA4-B81A-17CCC602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60B-D6F5-422E-9B21-1DCFBACF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AE14A-9611-45BA-9F82-5F96EAB2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0AE9D-AFAF-4DE4-973C-3487ADCB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B803A-2F8E-4481-AD53-279E0549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FFA23-D8C3-4F31-BF76-57121DC4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F5A22-0D8B-442E-9379-A0F7D041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4E2AC-4686-4C9B-AE06-E69173F8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C6387-A41C-45A7-A7FD-CF9D9EC9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B4D0D-E343-468B-8E00-B85AA072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45246-5F49-4EA5-B92F-D017B845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7CCBF-D07F-41B6-B62A-ADF32B8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89C-1BD2-429B-8724-D84C70A5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74A63-9CDE-481B-BE69-715ACD3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9B70C-8393-49A7-B9AE-D542D5CD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87BE5-EDEF-497D-B486-07229B47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2848B-B3EE-4AF9-986E-6E6EC1DA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CE324-A15C-4EAE-B086-01587623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B5341-4DF4-4D1E-AEC9-4DACD56C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920C3-CFD2-40D2-AB38-CDE6E9E6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868A8-8455-4265-B404-8C239EF1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1359B-32ED-4B29-BB33-AD84E43C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BDACD-2A9E-4CD7-B1F1-91609F6C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975-4B5B-4323-A9DF-2EAF7C9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D7015-6774-4039-9379-74529227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AA1D7-B34D-4EC5-A3D1-68F1F18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2CD29-EADD-4F7B-A7E1-8D1D1DAB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57FBD-EAD2-449D-B228-3718D46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204F5-B238-4A26-A4A6-1EC3E977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4BD7C-6387-4AF5-887F-5D0F1383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8B40B-6CD1-40B7-A7C2-2A51D05B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9A805-98E2-4A24-A9AB-CD3E8872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A80AA-5C3C-4C83-93F6-29B9FFB2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7A3D5-07FC-4DD9-8E07-DB1567F6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F32D-F587-40C9-90F7-CE072F7A7A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FAE5-1456-4783-B117-2732DFB2AC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139C-280B-4C65-988D-D4DAA41ECC0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98E8-84D2-4D87-857E-D85BF3C7E9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480E-4975-43C9-831C-C70C0092623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EBAF-8406-45D6-A067-1E8A1B61DA7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F179-438F-4078-B384-A4B0E9D74E4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AE59-4A9D-4A1D-BB8E-F4FDBCCC1F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F124-05B6-401F-A00C-B6DF5979851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Documents and Settings\Admin\Рабочий стол\Космос\2c799344d0bc.jpg"/>
          <p:cNvPicPr/>
          <p:nvPr/>
        </p:nvPicPr>
        <p:blipFill>
          <a:blip r:embed="rId1"/>
          <a:stretch/>
        </p:blipFill>
        <p:spPr>
          <a:xfrm>
            <a:off x="285840" y="500040"/>
            <a:ext cx="2685960" cy="3809880"/>
          </a:xfrm>
          <a:prstGeom prst="rect">
            <a:avLst/>
          </a:prstGeom>
          <a:ln w="0">
            <a:noFill/>
          </a:ln>
        </p:spPr>
      </p:pic>
      <p:sp>
        <p:nvSpPr>
          <p:cNvPr id="400" name="TextBox 4"/>
          <p:cNvSpPr/>
          <p:nvPr/>
        </p:nvSpPr>
        <p:spPr>
          <a:xfrm>
            <a:off x="4429080" y="1571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Прямоугольник 6" descr=""/>
          <p:cNvPicPr/>
          <p:nvPr/>
        </p:nvPicPr>
        <p:blipFill>
          <a:blip r:embed="rId2"/>
          <a:stretch/>
        </p:blipFill>
        <p:spPr>
          <a:xfrm>
            <a:off x="2822400" y="1500120"/>
            <a:ext cx="606600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89000" y="4761000"/>
            <a:ext cx="8650080" cy="154296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3"/>
          <p:cNvSpPr/>
          <p:nvPr/>
        </p:nvSpPr>
        <p:spPr>
          <a:xfrm flipV="1" rot="10800000">
            <a:off x="499680" y="1437120"/>
            <a:ext cx="6357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Сказал “поехали” Гагар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Ракета в космос понес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Вот это был рисковый парен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С тех пор эпоха началас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C:\Documents and Settings\Admin\Рабочий стол\Космос\0_2d232_e9124261_XL.jpg"/>
          <p:cNvPicPr/>
          <p:nvPr/>
        </p:nvPicPr>
        <p:blipFill>
          <a:blip r:embed="rId2"/>
          <a:stretch/>
        </p:blipFill>
        <p:spPr>
          <a:xfrm>
            <a:off x="4572000" y="642960"/>
            <a:ext cx="43578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0" y="133560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лыбка Юрия Гагарина бессмерт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а стала симво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гарин улыбался всему ми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 улыбался нашей планет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овался солнцу, лесам и пол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он сказал: “Облетев Землю в корабле-спутни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увидел, как прекрасна наша план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юди, будем хранить и приумножать эту красот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не разрушать ее!...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, она прекрасна. И нашу прекрасн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маленькую планет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динственную, где есть цветы, ручьи, берез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есть смех и улыбки и любовь, надо береч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C:\Documents and Settings\Admin\Рабочий стол\Космос\actu_ima_eads_astrium1.jpg"/>
          <p:cNvPicPr/>
          <p:nvPr/>
        </p:nvPicPr>
        <p:blipFill>
          <a:blip r:embed="rId1"/>
          <a:stretch/>
        </p:blipFill>
        <p:spPr>
          <a:xfrm>
            <a:off x="4857840" y="1071720"/>
            <a:ext cx="407196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21420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октября 1957 года считается началом космической эры человечества. В этот день в нашей стране был впервые выведен на орбиту искусственный спутник зем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Documents and Settings\Admin\Рабочий стол\Космос\%D0%BA%D0%BE%D1%81%D0%BC2.jpg"/>
          <p:cNvPicPr/>
          <p:nvPr/>
        </p:nvPicPr>
        <p:blipFill>
          <a:blip r:embed="rId1"/>
          <a:stretch/>
        </p:blipFill>
        <p:spPr>
          <a:xfrm>
            <a:off x="1357200" y="2286000"/>
            <a:ext cx="642960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571680"/>
            <a:ext cx="47862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гарин сказал: “А завтра?... Поселения на Луне, путешествия к Марсу. Научные станции на астероидах, связь с другими цивилизациями. Все это – будущее. Пусть не столь близкое, но реальн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”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2" descr="C:\Documents and Settings\Admin\Рабочий стол\Космос\4110b.jpg"/>
          <p:cNvPicPr/>
          <p:nvPr/>
        </p:nvPicPr>
        <p:blipFill>
          <a:blip r:embed="rId1"/>
          <a:stretch/>
        </p:blipFill>
        <p:spPr>
          <a:xfrm>
            <a:off x="4643280" y="642960"/>
            <a:ext cx="450072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2" descr="C:\Documents and Settings\Admin\Рабочий стол\Космос\1239483071_aubakirov.jpg"/>
          <p:cNvPicPr/>
          <p:nvPr/>
        </p:nvPicPr>
        <p:blipFill>
          <a:blip r:embed="rId1"/>
          <a:stretch/>
        </p:blipFill>
        <p:spPr>
          <a:xfrm>
            <a:off x="357120" y="285840"/>
            <a:ext cx="4643640" cy="6143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Documents and Settings\Admin\Рабочий стол\Космос\grechko.jpg"/>
          <p:cNvPicPr/>
          <p:nvPr/>
        </p:nvPicPr>
        <p:blipFill>
          <a:blip r:embed="rId2"/>
          <a:stretch/>
        </p:blipFill>
        <p:spPr>
          <a:xfrm>
            <a:off x="4000680" y="357120"/>
            <a:ext cx="4786200" cy="5715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Documents and Settings\Admin\Рабочий стол\Космос\port063.jpg"/>
          <p:cNvPicPr/>
          <p:nvPr/>
        </p:nvPicPr>
        <p:blipFill>
          <a:blip r:embed="rId3"/>
          <a:stretch/>
        </p:blipFill>
        <p:spPr>
          <a:xfrm>
            <a:off x="500040" y="357120"/>
            <a:ext cx="4643640" cy="5857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Admin\Рабочий стол\Космос\suraev_b02.jpg"/>
          <p:cNvPicPr/>
          <p:nvPr/>
        </p:nvPicPr>
        <p:blipFill>
          <a:blip r:embed="rId4"/>
          <a:stretch/>
        </p:blipFill>
        <p:spPr>
          <a:xfrm>
            <a:off x="4929120" y="500040"/>
            <a:ext cx="4000680" cy="5715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C:\Documents and Settings\Admin\Рабочий стол\Космос\Б.В.Волынов 1969.jpg"/>
          <p:cNvPicPr/>
          <p:nvPr/>
        </p:nvPicPr>
        <p:blipFill>
          <a:blip r:embed="rId5"/>
          <a:stretch/>
        </p:blipFill>
        <p:spPr>
          <a:xfrm>
            <a:off x="214200" y="285840"/>
            <a:ext cx="4643640" cy="62863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Documents and Settings\Admin\Рабочий стол\Космос\Волков Сергей Александрович.jpg"/>
          <p:cNvPicPr/>
          <p:nvPr/>
        </p:nvPicPr>
        <p:blipFill>
          <a:blip r:embed="rId6"/>
          <a:stretch/>
        </p:blipFill>
        <p:spPr>
          <a:xfrm>
            <a:off x="4357800" y="285840"/>
            <a:ext cx="4572000" cy="6286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dmin\Рабочий стол\Космос\Владимир Комаров.jpg"/>
          <p:cNvPicPr/>
          <p:nvPr/>
        </p:nvPicPr>
        <p:blipFill>
          <a:blip r:embed="rId7"/>
          <a:stretch/>
        </p:blipFill>
        <p:spPr>
          <a:xfrm>
            <a:off x="1928880" y="500040"/>
            <a:ext cx="5643360" cy="5786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Documents and Settings\Admin\Рабочий стол\Космос\3c0edec529c1.jpg"/>
          <p:cNvPicPr/>
          <p:nvPr/>
        </p:nvPicPr>
        <p:blipFill>
          <a:blip r:embed="rId8"/>
          <a:stretch/>
        </p:blipFill>
        <p:spPr>
          <a:xfrm>
            <a:off x="571680" y="571680"/>
            <a:ext cx="80010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</dc:creator>
  <dc:description/>
  <dc:language>en-US</dc:language>
  <cp:lastModifiedBy>Adam</cp:lastModifiedBy>
  <dcterms:modified xsi:type="dcterms:W3CDTF">2020-06-08T13:20:30Z</dcterms:modified>
  <cp:revision>53</cp:revision>
  <dc:subject/>
  <dc:title>Слайд 1</dc:title>
</cp:coreProperties>
</file>