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382-139C-49DA-B20D-66C19A4B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067-E247-43A4-BBE8-6CB53654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056-A5A0-4823-8043-088B5B58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282-AB03-4C84-B65F-CD62BC8E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7EE-8BA7-4358-B696-197853CE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BB0-C30A-4341-BB91-646EA256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8CF-6BE4-4DA7-BAA4-0A297C6E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140-DD82-467C-A1AD-31DA710A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881-3290-446F-A997-242D7C80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C71-7713-451C-B884-CD4A369C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C29-F2A5-4CEA-905A-5984624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46F-D03F-4FEB-9DA3-6B1E1C27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5DB0A-196D-42BB-B9F2-B4F67F81A0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96960" y="442800"/>
            <a:ext cx="8609040" cy="1376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«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Интеграция образовательной</a:t>
            </a: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 платформы Учи.ру с МЭШ для развития творческого потенциала обучающихся»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700b8"/>
                </a:solidFill>
                <a:latin typeface="Times New Roman"/>
              </a:rPr>
              <a:t>Бибарсова З.М.учитель начальных классов г.Моск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700b8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700b8"/>
                </a:solidFill>
                <a:latin typeface="Times New Roman"/>
              </a:rPr>
              <a:t>«Школа №1583 имени К.А. Керимо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619280" y="2160720"/>
            <a:ext cx="6838920" cy="33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37960" y="3780000"/>
            <a:ext cx="4802400" cy="270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1620720" y="98280"/>
            <a:ext cx="6838920" cy="332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5400720" y="3780000"/>
            <a:ext cx="4319640" cy="27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079640" y="360360"/>
            <a:ext cx="8099280" cy="341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079640" y="3733920"/>
            <a:ext cx="8099280" cy="36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60360" y="195120"/>
            <a:ext cx="4680000" cy="3224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5219640" y="3780000"/>
            <a:ext cx="4500720" cy="306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360360" y="3780000"/>
            <a:ext cx="4680000" cy="306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5219640" y="539640"/>
            <a:ext cx="4500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219640" y="3600360"/>
            <a:ext cx="4680000" cy="324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5219640" y="179280"/>
            <a:ext cx="4680000" cy="324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179280" y="3600360"/>
            <a:ext cx="4859280" cy="32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4"/>
          <a:stretch/>
        </p:blipFill>
        <p:spPr>
          <a:xfrm>
            <a:off x="179280" y="179280"/>
            <a:ext cx="4859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60360" y="720720"/>
            <a:ext cx="9720360" cy="66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5T13:51:00Z</dcterms:created>
  <dc:creator>School</dc:creator>
  <dc:description/>
  <dc:language>en-US</dc:language>
  <cp:lastModifiedBy>School</cp:lastModifiedBy>
  <dcterms:modified xsi:type="dcterms:W3CDTF">2019-10-26T11:28:06Z</dcterms:modified>
  <cp:revision>3</cp:revision>
  <dc:subject/>
  <dc:title>«Возможности образовательной  платформы Учи.ру»</dc:title>
</cp:coreProperties>
</file>