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mbria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CEBB-9681-41E4-BDA2-E71A9FD72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7DE-576D-42AD-B8AE-4F885B3CF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1FEF-0AA5-4D0A-8724-C2C71BBE8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BAC-481A-424C-B7E4-62BD8E94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BD0-C377-443F-A69B-96D85F62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F94-D8B6-4161-8B65-4961A901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CF1-BA94-4C96-8360-7C6764A1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F30C-3E48-4B36-85AD-48F0C9B5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F418-8280-4090-9948-6059CB2F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0E7-599B-416D-80BA-2C72C11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4B0-D5D3-4D7C-AAEA-27141C1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BDBA-1613-43E3-A156-3ABBA55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5B76-5723-4827-8FAA-279D7E0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A64-6805-454C-AA9C-F7A7B325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270-5BE4-4F4D-A618-517BBBE1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8DE-5029-4116-9F8E-0BBCEC6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7CFF-CD5E-4721-8576-80CB8AC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AA7D-6053-466B-9E5E-2C67524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E6DB-B4DC-44CA-8459-2550AF59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017-F992-4316-A9A1-090552A3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FF7-1DC0-47F0-93E5-F44E2ED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39B-E540-4ED8-8D3F-5A9DF34B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3A8-1D5C-4A74-987E-B2ABC17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282-EC2F-481F-B606-CB9A6DA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731-0518-4A46-8AD0-FB7A9D7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867-8FDF-4705-878C-AE4793DF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701-4449-489D-94C5-1470770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B6F-9F02-47D3-B2D2-C4A6DAF8FB79}" type="slidenum">
              <a:rPr b="0" lang="ru-RU" sz="12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mbr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0C9-4BB8-42E6-AE70-A4EEBB329645}" type="slidenum">
              <a:rPr b="0" lang="ru-RU" sz="12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85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Подзаголовок 2" descr=""/>
          <p:cNvPicPr/>
          <p:nvPr/>
        </p:nvPicPr>
        <p:blipFill>
          <a:blip r:embed="rId2"/>
          <a:stretch/>
        </p:blipFill>
        <p:spPr>
          <a:xfrm>
            <a:off x="4359240" y="3645000"/>
            <a:ext cx="438804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3747960" y="6237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019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3"/>
          <a:stretch/>
        </p:blipFill>
        <p:spPr>
          <a:xfrm>
            <a:off x="609480" y="33465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1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оказатели эффективности: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Снижение заболеваемости среди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Знания детей и осознанное понимание значимости ЗОЖ, желание заботиться о своем здоров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Умение детей в выборе поведения, поступков, приносящих пользу здоров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• Сформирована активная жизненная позиция у большинства участников проекта направленная на сохранение и укрепление собственного здоровья, создание условий для поддержания этой позиции.</a:t>
            </a:r>
            <a:br>
              <a:rPr sz="4500"/>
            </a:br>
            <a:endParaRPr b="0" lang="en-US" sz="18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35736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Monotype Corsiva"/>
              </a:rPr>
              <a:t>Промежуточный результат:</a:t>
            </a:r>
            <a:endParaRPr b="0" lang="en-US" sz="3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Проведение с детьми спортивно-игрового  развлечени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Оформление фотоальбома: «Мы за здоровый образ жизни!»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Monotype Corsiva"/>
              </a:rPr>
              <a:t>Продукт проекта:</a:t>
            </a:r>
            <a:endParaRPr b="0" lang="en-US" sz="3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здание лэпбука «Азбука здоровья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4"/>
          <p:cNvSpPr/>
          <p:nvPr/>
        </p:nvSpPr>
        <p:spPr>
          <a:xfrm>
            <a:off x="4454640" y="5084640"/>
            <a:ext cx="185760" cy="92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2" descr=""/>
          <p:cNvPicPr/>
          <p:nvPr/>
        </p:nvPicPr>
        <p:blipFill>
          <a:blip r:embed="rId1"/>
          <a:stretch/>
        </p:blipFill>
        <p:spPr>
          <a:xfrm>
            <a:off x="1116000" y="1054080"/>
            <a:ext cx="7650000" cy="474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38120" y="706320"/>
            <a:ext cx="8609040" cy="531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8360" y="115920"/>
            <a:ext cx="842472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Паспорт  проек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Актуальность  проекта: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 такое здоровье? Здоровье  -это полное физическое, психическое и социальное благополучие, как гармоничное состояние организма, которое позволяет человеку быть активным в своей жизни, добиваться успехов в различной деятельности. В последнее время показатели здоровья  детей ухудшаются. Образ жизни, состояние экологии, организация питания, наличие вредных привычек, наследственность – все это слагаемые здоровья человека. Самое ценное и важное в нашей жизни – это дети и их здоровье.  Задача педагогического коллектива состоит в сохранении и укреплении  здоровья, пропаганде здорового образа жизни, в формировании у воспитанников ответственности за своё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24000" y="115920"/>
            <a:ext cx="8569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Цель проект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ормирование у ребенка осмысленного отношения к здоровому образу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чи проект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формировать у детей  знания о здоровом образе жизни, потребность в здоровье и сознательном ответственном отношении к н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воспитывать любовь к физкультуре и спорту, соблюдение режима дня и стремление к здоровому образу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- привлекать внимание родителей к проблеме сохранения и укрепления здоровья детей, сохранения и коррекции физического и психического здоровь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19200"/>
          </a:xfrm>
          <a:prstGeom prst="rect">
            <a:avLst/>
          </a:prstGeom>
          <a:ln w="0">
            <a:noFill/>
          </a:ln>
        </p:spPr>
      </p:pic>
      <p:cxnSp>
        <p:nvCxnSpPr>
          <p:cNvPr id="110" name="Прямая со стрелкой 3"/>
          <p:cNvCxnSpPr/>
          <p:nvPr/>
        </p:nvCxnSpPr>
        <p:spPr>
          <a:xfrm flipH="1">
            <a:off x="899640" y="1773360"/>
            <a:ext cx="1224720" cy="108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1" name="TextBox 4"/>
          <p:cNvSpPr/>
          <p:nvPr/>
        </p:nvSpPr>
        <p:spPr>
          <a:xfrm>
            <a:off x="179280" y="2924280"/>
            <a:ext cx="2232000" cy="19213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mbria"/>
              </a:rPr>
              <a:t>Воспитатели группы: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осуществляют   педагогическое  просвещение  детей  по  проблеме,  организуют  деятельность 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6"/>
          <p:cNvCxnSpPr/>
          <p:nvPr/>
        </p:nvCxnSpPr>
        <p:spPr>
          <a:xfrm flipH="1">
            <a:off x="3419280" y="1844280"/>
            <a:ext cx="289440" cy="115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3" name="TextBox 7"/>
          <p:cNvSpPr/>
          <p:nvPr/>
        </p:nvSpPr>
        <p:spPr>
          <a:xfrm>
            <a:off x="2653200" y="3068640"/>
            <a:ext cx="2053800" cy="794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mbria"/>
              </a:rPr>
              <a:t>Дети: 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участвую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в  разных  вида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1"/>
          <p:cNvCxnSpPr/>
          <p:nvPr/>
        </p:nvCxnSpPr>
        <p:spPr>
          <a:xfrm flipH="1">
            <a:off x="4932000" y="1773000"/>
            <a:ext cx="144720" cy="2592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5" name="TextBox 12"/>
          <p:cNvSpPr/>
          <p:nvPr/>
        </p:nvSpPr>
        <p:spPr>
          <a:xfrm>
            <a:off x="4176720" y="4437000"/>
            <a:ext cx="2843280" cy="1220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mbria"/>
              </a:rPr>
              <a:t>Родители:</a:t>
            </a:r>
            <a:r>
              <a:rPr b="0" lang="ru-RU" sz="1800" spc="-1" strike="noStrike">
                <a:solidFill>
                  <a:srgbClr val="003300"/>
                </a:solidFill>
                <a:latin typeface="Cambria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участвую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в  совместной  деятель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делятся  опытом  друг  с  друг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4"/>
          <p:cNvCxnSpPr/>
          <p:nvPr/>
        </p:nvCxnSpPr>
        <p:spPr>
          <a:xfrm>
            <a:off x="6659280" y="1699920"/>
            <a:ext cx="361080" cy="108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7" name="TextBox 15"/>
          <p:cNvSpPr/>
          <p:nvPr/>
        </p:nvSpPr>
        <p:spPr>
          <a:xfrm>
            <a:off x="5747760" y="2852640"/>
            <a:ext cx="3080880" cy="14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mbria"/>
              </a:rPr>
              <a:t>Методическая  служб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оказывает методическ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помощь  в  работе  на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проектом, осуществля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взаимосвязь  и  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всех  участников 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900000" y="4944960"/>
            <a:ext cx="2951280" cy="93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Инструктор: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осуществляет физическую подготовку детей, формирует правильное отношение к  ЗО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5"/>
          <p:cNvCxnSpPr/>
          <p:nvPr/>
        </p:nvCxnSpPr>
        <p:spPr>
          <a:xfrm>
            <a:off x="2556000" y="1699920"/>
            <a:ext cx="72000" cy="3245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8800" cy="13161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574560" y="2276640"/>
            <a:ext cx="4789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Образовательные 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социально-коммуникатив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речев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познаватель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-физическое 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2"/>
          <a:stretch/>
        </p:blipFill>
        <p:spPr>
          <a:xfrm>
            <a:off x="5518080" y="2684520"/>
            <a:ext cx="3641760" cy="416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30268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826920" y="177948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1 этап: </a:t>
            </a:r>
            <a:r>
              <a:rPr b="1" lang="ru-RU" sz="2000" spc="-1" strike="noStrike">
                <a:solidFill>
                  <a:srgbClr val="003300"/>
                </a:solidFill>
                <a:latin typeface="Cambria"/>
              </a:rPr>
              <a:t>Подготови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Формировани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пределение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учение методической литературы по 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826920" y="322092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2 этап: </a:t>
            </a:r>
            <a:r>
              <a:rPr b="1" lang="ru-RU" sz="2000" spc="-1" strike="noStrike">
                <a:solidFill>
                  <a:srgbClr val="003300"/>
                </a:solidFill>
                <a:latin typeface="Cambria"/>
              </a:rPr>
              <a:t>Осно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рганизация работы над проектом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826920" y="4076640"/>
            <a:ext cx="56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3  этап: </a:t>
            </a:r>
            <a:r>
              <a:rPr b="1" lang="ru-RU" sz="2000" spc="-1" strike="noStrike">
                <a:solidFill>
                  <a:srgbClr val="003300"/>
                </a:solidFill>
                <a:latin typeface="Cambria"/>
              </a:rPr>
              <a:t>Заключи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нализ результатов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портивно – игровое  развлечение: «Мы – спортивные ребят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формление фотоальбома: «Мы за здоровый образ жизн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укт проекта: лэпбук «Азбука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Monotype Corsiva"/>
              </a:rPr>
              <a:t>Содержание</a:t>
            </a:r>
            <a:r>
              <a:rPr b="1" lang="ru-RU" sz="45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1" lang="ru-RU" sz="4500" spc="-1" strike="noStrike">
                <a:solidFill>
                  <a:srgbClr val="002060"/>
                </a:solidFill>
                <a:latin typeface="Monotype Corsiva"/>
              </a:rPr>
              <a:t>деятельности</a:t>
            </a:r>
            <a:endParaRPr b="0" lang="en-US" sz="45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473120"/>
            <a:ext cx="4392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с  детьм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ЕЖЕДНЕВНА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ОФИЛАКТИЧЕСКАЯ РАБО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Утренняя профилактическая  гимнасти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Гимнастика пробуждения, воздушное контрастное закаливание, босохождени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Витаминизация (соки, фрукты, напитки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 Ежедневные прогулки с двигательной активностью де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0" y="1473120"/>
            <a:ext cx="4392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  родителями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УЛЬТАЦИИ 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ДИТЕЛЬСКИЙ УГОЛО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Здоровые  дети – в здоровой  семье», «Роль  прогулки  в  укреплении здоровья  детей» и др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 по укреплению здоровь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 по питанию дет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упно и убедительно давать родителям нужную информацию, побуждать их пересматривать неправильные методы и приёмы домашнего физического воспита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6040" y="549360"/>
            <a:ext cx="4392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БЕСЕДЫ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Тема: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«Витамины  я  люблю- быть  здоровым  я  хочу»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уточнять название фруктов, овощей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закреплять знания детей о природных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витаминах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Тем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: «Виды  спорта»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закрепить знание названий видов спорта, умение узнавать их  по картинке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Беседы-игры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, включающие прибаутки, используемые при мытье рук, умывании, причесывании (потешки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ООД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Тем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: «Мои верные помощники»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Цель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mbria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сформировать у дошкольников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представление о здоровом образе жизни и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предметах  личной  гигиены, развивать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познавательную  активность детей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учить рассуждать, делать выводы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760" y="692280"/>
            <a:ext cx="381816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Вовлечение  родителей к  сбору  семейных  фотографий  для  создания  фотоальбома на тему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«Мы за здоровый образ жизни!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пропаганда здорового образа жизни,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приобщение семьи к физкультуре и спорту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Вовлечение родителей в конкурсы проводимые по теме «Мы за ЗОЖ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: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способствовать формированию у родителей и детей правильного ЗОЖ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2" name="Рисунок 4" descr=""/>
          <p:cNvPicPr/>
          <p:nvPr/>
        </p:nvPicPr>
        <p:blipFill>
          <a:blip r:embed="rId1"/>
          <a:stretch/>
        </p:blipFill>
        <p:spPr>
          <a:xfrm>
            <a:off x="4067280" y="4803840"/>
            <a:ext cx="2808360" cy="208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3:05:04Z</dcterms:created>
  <dc:creator>HOME</dc:creator>
  <dc:description/>
  <dc:language>en-US</dc:language>
  <cp:lastModifiedBy>Nata</cp:lastModifiedBy>
  <dcterms:modified xsi:type="dcterms:W3CDTF">2020-06-10T14:51:58Z</dcterms:modified>
  <cp:revision>67</cp:revision>
  <dc:subject/>
  <dc:title>Проект  по  здоровому  образу  жизни на  тему: «От  веселых  стартов – до  олимпийских  вершин»</dc:title>
</cp:coreProperties>
</file>