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10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gif" ContentType="image/gif"/>
  <Override PartName="/ppt/media/image7.wmf" ContentType="image/x-wmf"/>
  <Override PartName="/ppt/media/image5.gif" ContentType="image/gi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267-A0F7-407E-9978-9ED30ED7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74A6-38C1-49A0-B916-CA8B80E9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91E9-337F-4CC0-A8EA-7348F659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56C-83C9-44FD-86C1-2E0B3DC5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57B-52E4-4618-BAEE-E7F23237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457-6026-438A-AD9A-5559CD46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6F54-9053-46AA-9919-471A00BC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DC70-EF5E-4A0E-A064-F94E9A73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B55-546A-4E5F-B375-57AFC7F9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29D0-57C4-4509-9DAB-225792DF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CFB4-C8EB-4241-8D2B-A43DF4CC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2FB-6C9E-465A-933D-B9049AD6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6D35-C605-49A8-A053-79C6A3B10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31840" cy="1782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Взаимоотношения с ребёнком в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Шкала общения родителей с ребёнк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ложительные эмоции    отрицательные эмо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хвалили                                   -упрек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поощряли                                -подавл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одобряли                                 -униж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целовали                                 -обвин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обнимали                                -осужд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ласкали                                   -отверг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сопереживали                         -позор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улыбались                               -читали но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восхищались                           -лишали чего-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делали подарки                      -ставили  в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1485720" cy="1676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781680" y="1752480"/>
            <a:ext cx="1519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28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84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6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36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8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84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60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36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28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128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236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48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Не рекомендуемые фразы для об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Я тысячу раз говорил тебе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Сколько раз надо повторя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О чём ты только думаеш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Неужели тебе трудно запомнить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Ты становишь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Ты такой же как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Отстань, некогда м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Почему Лена(Настя, Вася и т.д.) такая, а ты - н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99240" y="4876920"/>
            <a:ext cx="154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8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40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44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32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64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28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92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76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480"/>
                            </p:stCondLst>
                            <p:childTnLst>
                              <p:par>
                                <p:cTn id="1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Рекомендуемые фразы для об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Ты у меня умный, красивый(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Как хорошо, что  у меня есть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Ты у меня молод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Я тебя очень люб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Как хорошо ты это сделал, научи и меня эт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Спасибо тебе, я тебе очень благодар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Если бы не ты, я бы никогда с этим не справ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9880" y="4800600"/>
            <a:ext cx="297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44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2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2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92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48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88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9480"/>
                            </p:stCondLst>
                            <p:childTnLst>
                              <p:par>
                                <p:cTn id="2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462800" y="0"/>
            <a:ext cx="153504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3055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лодец!             2. Хорошо!         3. Удивительно!       4. Гораздо лучше, чем я ожида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        Лучше, чем все, кого я знаю.        6. Великолепно!        7. Прекрасно             8. Грандиозн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забываемо!  10. Именно этого мы давно ждали.  11.Это трогает меня до глубины душ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.       Сказано здорово – просто и ясно.   13.Остроумно.      14. Экстра-класс.      15.Талантливо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ы одаренный.    17. Ты сегодня много сделал.           18.Отлично!              19. Уже лучш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щё лучше, чем я мог подумать.     21.Потрясающе.   22. Замечательно.   23.Поразите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подражаемо.   25. Несравненно. 26. Красота.           27. Как в сказке.       28. Очень яс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.       Ярко, образно.     30. Очень эффектно.        31. Ты просто чудо.         32 Прекрасное нача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ы на верном пути.     34. Здорово!   35. Ты в этом разобрался.    36. Ты ловко это делаеш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3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как раз то, что нужно.          38. Ух!        39. Поздравляю!          40. Я тобой горжу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4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просто счастлив       42. Мне очень важна твоя помощь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4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ботать с тобой – просто  радость.           44. Ты мне необход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4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ля меня важно все, что тебя волнует, радует , тревож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4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сойду с ума, если с тобой что-нибудь случ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4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каждым  днем у тебя получается  всё  лучш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4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ля меня нет никого красивее тебя.            49. Неучи меня делать так ж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5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ут мне без тебя не обойтись.                      51. Я знал, что тебе это по сил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5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ы мне нужен именно такой , какой есть.    53. Никто мне не может заменить т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5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горжусь тем, что тебе это удалось.          55. Я сам не смог бы сделать лучш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Мы думаем, что в вашем арсенале найдутся и другие признания, адресованные вашему малышу , и вы с удовольствием продолжите предложенный спис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52280"/>
            <a:ext cx="7010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ST type A"/>
              </a:rPr>
              <a:t>55 способов сказать 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ST type A"/>
              <a:ea typeface="GOST type 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ST type A"/>
              </a:rPr>
              <a:t>ребёнку "Я тебя люблю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ST type A"/>
              <a:ea typeface="GOST type 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Несколько советов психолога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«Как прожить хотя бы один день без нервотрёп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Будите ребёнка спокойно. Проснувшись, он должен увидеть Вашу улыбку и услышать ваш гол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 Не торопитесь. Умение расчитать время – Ваша задача. Если вам это плохо удаётся, вины ребёнка в этом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Не прощайтесь, предупреждая и направляя: «Смотри, не балуйся!», «Чтобы сегодня не было отметок!». Пожелайте удачи, найдите несколько ласковых с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 Забудьте фразу: «Что ты сегодня получил?». Встречая ребёнка после школы, не обрушивайте на него тысячу вопросов, дайте немного расслабиться, вспомните, как Вы сами чувствуете себя после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 Если Вы видите, что ребёнок огорчён, молчит – не допытывайтесь; пусть успокоится и тогда расскажет всё с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 Выслушав замечания учителя, не торопитесь устраивать взбучку. Постарайтесь, чтобы Ваш разговор с учителем проходил без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 После школы не торопитесь садиться за уроки. Ребёнку необходимо 2 часа отдыха. Занятия вечерами бесполез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680"/>
                            </p:stCondLst>
                            <p:childTnLst>
                              <p:par>
                                <p:cTn id="2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68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84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144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664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360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732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188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46920" y="4537080"/>
            <a:ext cx="3097080" cy="2320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е заставляйте делать все упражнения сразу: 20 минут занятий – 10 минут переры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Во время приготовления уроков не сидите «над душой». Дайте ребёнку работать самому. Если нужна Ваша помощь – наберитесь терпения: спокойный тон, поддержка необход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В общении с ребёнком старайтесь избегать условий: «Если ты сделаешь, то.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Найдите в течение дня хотя бы полчаса, когда будете принадлежать только ребё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Выбирайте единую тактику общения с ребёнком всех взрослых в семье. Все разногласия по поводу педтактики решайте без 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Будьте внимательны к жалобам ребёнка на головную боль, усталость, плохое самочувствие. Чаще всего это объективные показатели переутом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Учтите, что даже «большие дети» очень любят сказку перед сном, песенку, ласковое поглаживание. Всё это успокоит ребёнка и поможет снять напряжение, накопившееся за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80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8640"/>
                            </p:stCondLst>
                            <p:childTnLst>
                              <p:par>
                                <p:cTn id="2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132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416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840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3400"/>
                            </p:stCondLst>
                            <p:childTnLst>
                              <p:par>
                                <p:cTn id="3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610840" cy="6419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732720" y="3586320"/>
            <a:ext cx="2411280" cy="3271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44880" cy="2606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109520" y="1219320"/>
            <a:ext cx="69249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ем удачи в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спитании детей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19T10:23:4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