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B5FB-555D-4BF6-871D-6E315214D6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66E0-5EE7-443F-BF90-A000F0E7F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тикуло-эндотелиальная ткань, включает все клетки организма, способные поглощать из крови коллоидные частицы, фагоцитировать бактерии и откладывать их в цитоплазме в виде характерных зерен; С. м. участвует в формировании иммунитета и поддержании постоянства внутренней среды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5035-ECCE-4B7B-9991-7FE630A56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6B1-2EBE-42F0-A50C-30DDB0E4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58B-9F93-4944-9AF2-69C59082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B39-8505-4367-90A6-FFE09C14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E8A-7A4F-4D7C-9AFD-59BBB2F9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587E-BA74-424E-A2A2-B8FF33A6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65E2-D131-4989-BE11-FB418462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BC59-9F3F-4A0D-AF05-40A6C2C3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AC4D-6702-4B8D-A833-D5754FF5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1090-AA49-4747-B99A-765E484F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2353-CDDA-49C0-A3B1-A4E7719D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7853-C8C7-4657-BDEF-EAA779A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C2B-67B4-4735-8AA1-8B13AA43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2C86-5D90-45E1-8139-5CEE306E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0E37-34C9-463F-B91A-F6E89E62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DF6A-47A3-4FED-8F93-F5AFB3D5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2F6B-DF4C-433E-8596-E62653D0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1C90-17ED-4BA4-8178-0DDFAB81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447B-7D66-44A6-8681-923C12B3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48A-B7B9-4855-A957-6A26CF2B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043-6817-43AB-8EAC-3B52B2D1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A28-75F8-426D-817D-C7B62318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83C-DBBE-459F-B2F7-4C25D71C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68F-B05A-42B8-8E4E-100A9F82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698-8D42-45B8-8624-E14F4F47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еподаватель терапии МК № 7 филиал "Зеленоградский"  Денюшева Э.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03AD-4FBF-411D-A0EC-51ABA9AAF3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еподаватель терапии МК № 7 филиал "Зеленоградский"  Денюшева Э.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346A-A49B-479E-B1BA-E2CC73C55C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7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67/Chronic_lymphocytic_leukemia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5560" y="3785760"/>
            <a:ext cx="66294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Сестринская помощь при лейкозах и других заболеваниях кров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785960" y="1214280"/>
            <a:ext cx="66294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Лекция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Основная функция лейкоцитов – защитная</a:t>
            </a:r>
            <a:r>
              <a:rPr b="0" lang="ru-RU" sz="2400" spc="-1" strike="noStrike">
                <a:solidFill>
                  <a:srgbClr val="008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Детокс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озиноф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итотокс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чинки гельми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мунные комплек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фиб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гистаминные прод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чи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krovv-5"/>
          <p:cNvPicPr/>
          <p:nvPr/>
        </p:nvPicPr>
        <p:blipFill>
          <a:blip r:embed="rId1"/>
          <a:srcRect l="47591" t="21253" r="11203" b="31167"/>
          <a:stretch/>
        </p:blipFill>
        <p:spPr>
          <a:xfrm>
            <a:off x="6156360" y="2492280"/>
            <a:ext cx="936720" cy="81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9" name="Line 7"/>
          <p:cNvSpPr/>
          <p:nvPr/>
        </p:nvSpPr>
        <p:spPr>
          <a:xfrm>
            <a:off x="5219640" y="299736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 flipH="1">
            <a:off x="586692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 flipH="1">
            <a:off x="4787640" y="5013360"/>
            <a:ext cx="64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 flipH="1">
            <a:off x="1763640" y="2997360"/>
            <a:ext cx="194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3203640" y="32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1619280" y="4076640"/>
            <a:ext cx="223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Основная функция лейкоцитов – защитная</a:t>
            </a:r>
            <a:r>
              <a:rPr b="0" lang="ru-RU" sz="2400" spc="-1" strike="noStrike">
                <a:solidFill>
                  <a:srgbClr val="008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Противовоспал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В: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истами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пар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сширяет капилляры                           уменьшает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свертывае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величивает проницае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лучшение микроциркуляции крови в очаге воспа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krov10"/>
          <p:cNvPicPr/>
          <p:nvPr/>
        </p:nvPicPr>
        <p:blipFill>
          <a:blip r:embed="rId1"/>
          <a:stretch/>
        </p:blipFill>
        <p:spPr>
          <a:xfrm>
            <a:off x="5940360" y="2492280"/>
            <a:ext cx="792360" cy="747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8" name="Line 6"/>
          <p:cNvSpPr/>
          <p:nvPr/>
        </p:nvSpPr>
        <p:spPr>
          <a:xfrm flipH="1">
            <a:off x="3492360" y="299736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4859280" y="2997360"/>
            <a:ext cx="936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5796000" y="3500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2771640" y="3500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Основная функция лейкоцитов – защитная</a:t>
            </a:r>
            <a:r>
              <a:rPr b="0" lang="ru-RU" sz="2400" spc="-1" strike="noStrike">
                <a:solidFill>
                  <a:srgbClr val="008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V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Формирование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специфического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иммун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мфоци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-лимфоци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-лимфоц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дозревают в вилочковой железе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дозревают в лимфоидной ткан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еточный иммунит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гуморальный иммун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етки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зматические 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-килл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-хелп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-супресс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зис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стимулируют         тормозят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батывают антит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ужеродных       выработку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нт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леток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антите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нтите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krov12"/>
          <p:cNvPicPr/>
          <p:nvPr/>
        </p:nvPicPr>
        <p:blipFill>
          <a:blip r:embed="rId1"/>
          <a:stretch/>
        </p:blipFill>
        <p:spPr>
          <a:xfrm>
            <a:off x="5724360" y="2492280"/>
            <a:ext cx="1008360" cy="870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5" name="Line 6"/>
          <p:cNvSpPr/>
          <p:nvPr/>
        </p:nvSpPr>
        <p:spPr>
          <a:xfrm flipH="1">
            <a:off x="2410920" y="2924280"/>
            <a:ext cx="1297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924360" y="2924280"/>
            <a:ext cx="1655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1979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6156360" y="4221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>
            <a:off x="6227640" y="522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 flipH="1">
            <a:off x="1116000" y="4365720"/>
            <a:ext cx="216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2987640" y="429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3203640" y="429264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9280" y="3573360"/>
          <a:ext cx="8785440" cy="2303640"/>
        </p:xfrm>
        <a:graphic>
          <a:graphicData uri="http://schemas.openxmlformats.org/drawingml/2006/table">
            <a:tbl>
              <a:tblPr/>
              <a:tblGrid>
                <a:gridCol w="741600"/>
                <a:gridCol w="1636560"/>
                <a:gridCol w="1711440"/>
                <a:gridCol w="1065240"/>
                <a:gridCol w="1279440"/>
                <a:gridCol w="1225440"/>
                <a:gridCol w="1125720"/>
              </a:tblGrid>
              <a:tr h="486000">
                <a:tc gridSpan="7"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йкоцитарная формула здорового человека (в %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solidFill>
                      <a:srgbClr val="006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 gridSpan="5"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улоци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анулоци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 gridSpan="3"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офи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фи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solidFill>
                      <a:srgbClr val="e8f3ff"/>
                    </a:solidFill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озинофи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solidFill>
                      <a:srgbClr val="e8f3ff"/>
                    </a:solidFill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ци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solidFill>
                      <a:srgbClr val="e8f3ff"/>
                    </a:solidFill>
                  </a:tcPr>
                </a:tc>
                <a:tc rowSpan="2"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оци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65200"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оч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ер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гмент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ер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solidFill>
                      <a:srgbClr val="e8f3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6600cc"/>
                      </a:solidFill>
                    </a:lnL>
                    <a:lnR>
                      <a:noFill/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– 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– 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70"/>
          <p:cNvSpPr/>
          <p:nvPr/>
        </p:nvSpPr>
        <p:spPr>
          <a:xfrm>
            <a:off x="826920" y="1504080"/>
            <a:ext cx="77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инике имеет знач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е количество лейкоци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нтное соотно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х видов лейкоцитов, получившее название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лейкоцитарной форм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лейкограммы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80" descr="эозинофил"/>
          <p:cNvPicPr/>
          <p:nvPr/>
        </p:nvPicPr>
        <p:blipFill>
          <a:blip r:embed="rId1"/>
          <a:stretch/>
        </p:blipFill>
        <p:spPr>
          <a:xfrm>
            <a:off x="5508720" y="5877000"/>
            <a:ext cx="779400" cy="792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81" descr="базофил"/>
          <p:cNvPicPr/>
          <p:nvPr/>
        </p:nvPicPr>
        <p:blipFill>
          <a:blip r:embed="rId2"/>
          <a:stretch/>
        </p:blipFill>
        <p:spPr>
          <a:xfrm>
            <a:off x="4427640" y="5877000"/>
            <a:ext cx="777600" cy="868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82" descr="нейтрофил"/>
          <p:cNvPicPr/>
          <p:nvPr/>
        </p:nvPicPr>
        <p:blipFill>
          <a:blip r:embed="rId3"/>
          <a:stretch/>
        </p:blipFill>
        <p:spPr>
          <a:xfrm>
            <a:off x="1763640" y="5950080"/>
            <a:ext cx="74772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3" descr="лимфоцит"/>
          <p:cNvPicPr/>
          <p:nvPr/>
        </p:nvPicPr>
        <p:blipFill>
          <a:blip r:embed="rId4"/>
          <a:stretch/>
        </p:blipFill>
        <p:spPr>
          <a:xfrm>
            <a:off x="6732720" y="587700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4" descr="моноцит"/>
          <p:cNvPicPr/>
          <p:nvPr/>
        </p:nvPicPr>
        <p:blipFill>
          <a:blip r:embed="rId5"/>
          <a:stretch/>
        </p:blipFill>
        <p:spPr>
          <a:xfrm>
            <a:off x="7956720" y="5877000"/>
            <a:ext cx="7855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0920" y="1599840"/>
            <a:ext cx="3600360" cy="2476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Лейкоцитоз -    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увеличение общего числа лейкоцитов в кр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нфекционных болезнях –это  реакция организма на внедрившуюся инфекци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0920" y="4220640"/>
            <a:ext cx="3600360" cy="252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 Black"/>
              </a:rPr>
              <a:t>Физиологичес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шеч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иеме гормональных препа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608720" cy="506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 Black"/>
              </a:rPr>
              <a:t>Патологическ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стрые инфек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роме брюшного и сыпного тифа, паратифов, гриппа, кори и др.вирусных заболева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Гнойно-воспалительные заболе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стрые и хронические в стадии обостр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Заболевания, сопровождающиеся некрозом ткан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ИМ, ОНМК, пенкреонекроз, обширные ожоги и т.д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/или выраженной интоксикаци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ремия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олевания, для которых характер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выраженная гипоксем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йствие токсических вещест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гарный газ, ртуть, дигиталис и др.) или некоторых физических факторов (ионизирующее излучени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Злокачественные ново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стрые и хронические лейкоз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олевания, сопровождающие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ммунными реакция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оллагенозы, сывороточная болезнь, острый гломерулонефрит и др.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51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Лейкопения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-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уменьшение числа лейкоцитов ниже 4,0х10*9/л – обусловлена угнетением лейкопоэ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ирусные инфек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рипп, корь, краснуха, вирусный гепатит, СПИД и др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екоторые бактериальные инфек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брюшной тиф, паратифы, бруцеллез и др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иды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генерализованной инфек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ептицемия, милиарный туберкулез и др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Гипоплазия и аплазия костного мозг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ипопластические анемии, действие ионизирующего облучения и т.д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бочные действ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цитостатических препаратов, антибиотиков, сульфаниламидов, НПВП, тиреостатиков и некоторых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гранулоцито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опровождающийся выраженным уменьшением или исчезновением из периферической крови гранулоцитов (нейтрофил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оторые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утоиммунные заболе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8" name="Picture 4" descr="Лейкоциты"/>
          <p:cNvPicPr/>
          <p:nvPr/>
        </p:nvPicPr>
        <p:blipFill>
          <a:blip r:embed="rId1"/>
          <a:srcRect l="0" t="2196" r="18038" b="0"/>
          <a:stretch/>
        </p:blipFill>
        <p:spPr>
          <a:xfrm>
            <a:off x="3276720" y="1557360"/>
            <a:ext cx="2087280" cy="184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9" name="Text Box 5"/>
          <p:cNvSpPr/>
          <p:nvPr/>
        </p:nvSpPr>
        <p:spPr>
          <a:xfrm>
            <a:off x="539640" y="3500280"/>
            <a:ext cx="3888000" cy="314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ейтрофилез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-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увеличение  количества нейтрофилов более 6,0х10*9/л как защитная реакция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ричи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большинстве случаев такие же, как и 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йкоцито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виг лейкоформулы крови вле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к следствие  значительног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дражения костного мозг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скорения лейкопоэ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788000" y="3500280"/>
            <a:ext cx="3960720" cy="3416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ейтропения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снижение числа нейтрофилов ниже 1,5х10*9/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ункциональное или органическое угнетени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стномозгового кроветвор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нтенсивное разрушение нейтрофи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сочетается  с лейкопен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Агранулоцитоз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это клинико-гематологический синдром, характеризующийся резким снижением или полным исчезновением гранулоцитов 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 u="sng">
                <a:solidFill>
                  <a:srgbClr val="008000"/>
                </a:solidFill>
                <a:uFillTx/>
                <a:latin typeface="Arial"/>
              </a:rPr>
              <a:t>Известной этиологии</a:t>
            </a: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     </a:t>
            </a:r>
            <a:r>
              <a:rPr b="1" lang="ru-RU" sz="1800" spc="-1" strike="noStrike" u="sng">
                <a:solidFill>
                  <a:srgbClr val="008000"/>
                </a:solidFill>
                <a:uFillTx/>
                <a:latin typeface="Arial"/>
              </a:rPr>
              <a:t>Генуинные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екцион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каментоз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е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аж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юшной тиф         - производные пирозолона    - рентге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оветворн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малярия                  - метилурацил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- рад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ппар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бекулез                - миелоса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- радиоизото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невмонии             - хинин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сепсис                     - барбитура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сальварс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мышья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161928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56400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572436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1692360" y="357336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27672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69236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356400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579600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7596360" y="35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 flipH="1">
            <a:off x="3132000" y="2781360"/>
            <a:ext cx="93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4140360" y="2781360"/>
            <a:ext cx="1726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Агранулоцитоз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линические про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тина острого </a:t>
            </a:r>
            <a:r>
              <a:rPr b="1" lang="ru-RU" sz="2000" spc="-1" strike="noStrike">
                <a:solidFill>
                  <a:srgbClr val="ad0000"/>
                </a:solidFill>
                <a:latin typeface="Arial"/>
              </a:rPr>
              <a:t>сепс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0000"/>
                </a:solidFill>
                <a:latin typeface="Arial"/>
              </a:rPr>
              <a:t>Язвенно-некрот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цессы в полости рта и з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можно развитие некротических энтеропатий, гепатита, тяжелой пневмо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0000"/>
                </a:solidFill>
                <a:latin typeface="Arial"/>
              </a:rPr>
              <a:t>Геморрагические прояв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иде кожных кровоизлияний и множественных кровоте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9966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Те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чало болезни </a:t>
            </a:r>
            <a:r>
              <a:rPr b="0" i="1" lang="ru-RU" sz="2000" spc="-1" strike="noStrike">
                <a:solidFill>
                  <a:srgbClr val="ad0000"/>
                </a:solidFill>
                <a:latin typeface="Arial"/>
              </a:rPr>
              <a:t>внезап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реди полного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тяжных случаях – постепенное, с нарастающей слабостью и резким снижением работоспособности  в течение нескольких дней до повышения темп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Агранулоцитоз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1356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лан обследования и диагностика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6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А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↑СОЭ, лейкопения, нейтроп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→агранулоцитоза, относительный лимфоцит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А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протеинурия (преходящая), цилиндру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Биохимический А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↑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лобулинов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↑сиаловых кислот, ↑ фибрина, ↑ серомуко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тернальная пунк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↓ общего количества миелокариоцитов, нарушение созревания гранулоцитов, ↑ количества плазматических кл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сультация оториноларинг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сультация стомат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ентгенолическое исследование ле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460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етки крови вырабатываются в разных участках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мере взросления организма кроветворение сосредотачивается в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остях черепа, позвоночника, грудины и беде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а также в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оловках крупных к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остный моз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ырабатывает все тип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ейкоци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эритроцитов и тромбоц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ейкоци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озревают  в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елезенк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имфатических уз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Лимфоциты"/>
          <p:cNvPicPr/>
          <p:nvPr/>
        </p:nvPicPr>
        <p:blipFill>
          <a:blip r:embed="rId1"/>
          <a:stretch/>
        </p:blipFill>
        <p:spPr>
          <a:xfrm>
            <a:off x="5508720" y="2133720"/>
            <a:ext cx="3081240" cy="424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"/>
          <p:cNvSpPr/>
          <p:nvPr/>
        </p:nvSpPr>
        <p:spPr>
          <a:xfrm>
            <a:off x="1311120" y="1628640"/>
            <a:ext cx="55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 Black"/>
              </a:rPr>
              <a:t>Органы, в которых образуются лейкоци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</a:rPr>
              <a:t>Гемобластозы -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0872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аболевания опухолевой природы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, протекающие с вытеснением нормальных ростков кроветворения: опухоль возникает из кроветворных клеток костного мозга и угнетают в первую очередь тот росток костного мозга, из которого исходит опухо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99600" y="4797360"/>
            <a:ext cx="2058120" cy="69984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йкоцита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059280" y="4797360"/>
            <a:ext cx="2912760" cy="64260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ритроцитарный ро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93400" y="4797360"/>
            <a:ext cx="2108520" cy="64260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зма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829080" y="5950080"/>
            <a:ext cx="1155960" cy="36828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лейк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854520" y="5950080"/>
            <a:ext cx="1409040" cy="36828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эритр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6588000" y="5877000"/>
            <a:ext cx="2016360" cy="64260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иеломная боле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1476360" y="5516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450072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730872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H="1">
            <a:off x="1332000" y="3933720"/>
            <a:ext cx="25192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450072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5292720" y="3933720"/>
            <a:ext cx="2232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3276720" y="3429000"/>
            <a:ext cx="2447640" cy="45972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Гемобласт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Лейкозы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139200" y="3716280"/>
            <a:ext cx="3227040" cy="642600"/>
          </a:xfrm>
          <a:prstGeom prst="rect">
            <a:avLst/>
          </a:prstGeom>
          <a:gradFill rotWithShape="0">
            <a:gsLst>
              <a:gs pos="0">
                <a:srgbClr val="76765e"/>
              </a:gs>
              <a:gs pos="50000">
                <a:srgbClr val="ffffcc"/>
              </a:gs>
              <a:gs pos="100000">
                <a:srgbClr val="76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ействие медицин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ар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17760" y="4653000"/>
            <a:ext cx="2818800" cy="368280"/>
          </a:xfrm>
          <a:prstGeom prst="rect">
            <a:avLst/>
          </a:prstGeom>
          <a:gradFill rotWithShape="0">
            <a:gsLst>
              <a:gs pos="0">
                <a:srgbClr val="76765e"/>
              </a:gs>
              <a:gs pos="50000">
                <a:srgbClr val="ffffcc"/>
              </a:gs>
              <a:gs pos="100000">
                <a:srgbClr val="76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ействие ради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5946480" y="4581360"/>
            <a:ext cx="2843280" cy="642600"/>
          </a:xfrm>
          <a:prstGeom prst="rect">
            <a:avLst/>
          </a:prstGeom>
          <a:gradFill rotWithShape="0">
            <a:gsLst>
              <a:gs pos="0">
                <a:srgbClr val="76765e"/>
              </a:gs>
              <a:gs pos="50000">
                <a:srgbClr val="ffffcc"/>
              </a:gs>
              <a:gs pos="100000">
                <a:srgbClr val="76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 с химическ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е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611280" y="5300640"/>
            <a:ext cx="2376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генные ава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ицинские вмеш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3567960" y="328464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 Black"/>
              </a:rPr>
              <a:t>Факторы р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6804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6666840" y="5489640"/>
            <a:ext cx="980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нз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3860280" y="4842000"/>
            <a:ext cx="17928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клофосфа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лорамбуци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пози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нипози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826920" y="1557360"/>
            <a:ext cx="7993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leucoscs; греч. leukos белый + ōsis; синоним лейкемия) —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заболевания опухолевой природы, протекающие с вытеснением нормальных ростков крове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ология заболевания неизвест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176364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4572000" y="4365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71643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Лейкозы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826920" y="573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932360" y="573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5596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болезни не является критерием для разделения лейкозов на острые и хрон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1187280" y="3068640"/>
            <a:ext cx="2448000" cy="916920"/>
          </a:xfrm>
          <a:prstGeom prst="rect">
            <a:avLst/>
          </a:prstGeom>
          <a:gradFill rotWithShape="0">
            <a:gsLst>
              <a:gs pos="0">
                <a:srgbClr val="666d58"/>
              </a:gs>
              <a:gs pos="50000">
                <a:srgbClr val="ddebbf"/>
              </a:gs>
              <a:gs pos="100000">
                <a:srgbClr val="666d58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 Black"/>
              </a:rPr>
              <a:t>Острые лейкозы</a:t>
            </a: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5219640" y="3068640"/>
            <a:ext cx="2879640" cy="855000"/>
          </a:xfrm>
          <a:prstGeom prst="rect">
            <a:avLst/>
          </a:prstGeom>
          <a:gradFill rotWithShape="0">
            <a:gsLst>
              <a:gs pos="0">
                <a:srgbClr val="666d58"/>
              </a:gs>
              <a:gs pos="50000">
                <a:srgbClr val="ddebbf"/>
              </a:gs>
              <a:gs pos="100000">
                <a:srgbClr val="666d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 Black"/>
              </a:rPr>
              <a:t>Хронические лейк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1042920" y="4508640"/>
            <a:ext cx="28782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ы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ластны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йкозными, т.е. малодифференцированными) клет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5003640" y="4512960"/>
            <a:ext cx="3313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ы боле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релыми форм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нулоцитов, эритроцитов, лимфоцитов или плазмоци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>
            <a:off x="2340000" y="4005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51672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Лейкозы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5003640" y="2203920"/>
            <a:ext cx="3600720" cy="703800"/>
          </a:xfrm>
          <a:prstGeom prst="rect">
            <a:avLst/>
          </a:prstGeom>
          <a:gradFill rotWithShape="0">
            <a:gsLst>
              <a:gs pos="0">
                <a:srgbClr val="666d58"/>
              </a:gs>
              <a:gs pos="50000">
                <a:srgbClr val="ddebbf"/>
              </a:gs>
              <a:gs pos="100000">
                <a:srgbClr val="666d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сновные формы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 Black"/>
              </a:rPr>
              <a:t>хронических лейкозов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42920" y="2205000"/>
            <a:ext cx="2952720" cy="703800"/>
          </a:xfrm>
          <a:prstGeom prst="rect">
            <a:avLst/>
          </a:prstGeom>
          <a:gradFill rotWithShape="0">
            <a:gsLst>
              <a:gs pos="0">
                <a:srgbClr val="666d58"/>
              </a:gs>
              <a:gs pos="50000">
                <a:srgbClr val="ddebbf"/>
              </a:gs>
              <a:gs pos="100000">
                <a:srgbClr val="666d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сновные формы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 Black"/>
              </a:rPr>
              <a:t>острых лейко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2987640" y="1557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 Black"/>
              </a:rPr>
              <a:t>Классификация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900000" y="3284640"/>
            <a:ext cx="3240360" cy="33397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мфобл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елобл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миелоцитар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нобл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еломонобл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змобл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гакариоблас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ритромиел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ифференцируемый лейк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4716360" y="393372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5148360" y="3284640"/>
            <a:ext cx="3240000" cy="33397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елолейк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мфолейк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р.моноцитарный лейк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р.эритромиел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еломная болез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роглобулинемия Вальденстр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ритремия (полицитем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еомиелофибр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>
            <a:off x="241128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2"/>
          <p:cNvSpPr/>
          <p:nvPr/>
        </p:nvSpPr>
        <p:spPr>
          <a:xfrm>
            <a:off x="658800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Лейкозы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3225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Общие признаки картины кров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ельное увеличение в крови лейкоци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состава лейкоцитов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йкоцитарной форм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356000" y="1783440"/>
            <a:ext cx="43196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 Black"/>
              </a:rPr>
              <a:t>Общие клинические 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алокров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ледствие угнетения образования эритроцитов и гемогло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ровоизлияния и кровотеч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-за уменьшения числа тромбоцитов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клонность к развитию инфекционных осложн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зрелых лейкоцитов, "защитников" организма от микроб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увеличение лимфатических узл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 при хроническом лимфатическом лейко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Times New Roman"/>
              </a:rPr>
              <a:t>Острый 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89" name="Picture 4" descr="36"/>
          <p:cNvPicPr/>
          <p:nvPr/>
        </p:nvPicPr>
        <p:blipFill>
          <a:blip r:embed="rId1"/>
          <a:srcRect l="48122" t="44381" r="1512" b="11163"/>
          <a:stretch/>
        </p:blipFill>
        <p:spPr>
          <a:xfrm>
            <a:off x="2843280" y="3789360"/>
            <a:ext cx="1198440" cy="165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90" name="Picture 10" descr="37"/>
          <p:cNvPicPr/>
          <p:nvPr/>
        </p:nvPicPr>
        <p:blipFill>
          <a:blip r:embed="rId2"/>
          <a:srcRect l="0" t="0" r="47860" b="51367"/>
          <a:stretch/>
        </p:blipFill>
        <p:spPr>
          <a:xfrm>
            <a:off x="5076720" y="3789360"/>
            <a:ext cx="1176480" cy="158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91" name="Picture 11" descr="37"/>
          <p:cNvPicPr/>
          <p:nvPr/>
        </p:nvPicPr>
        <p:blipFill>
          <a:blip r:embed="rId3"/>
          <a:srcRect l="2034" t="50016" r="45826" b="2760"/>
          <a:stretch/>
        </p:blipFill>
        <p:spPr>
          <a:xfrm>
            <a:off x="900000" y="3716280"/>
            <a:ext cx="1320840" cy="172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92" name="Rectangle 13"/>
          <p:cNvSpPr/>
          <p:nvPr/>
        </p:nvSpPr>
        <p:spPr>
          <a:xfrm>
            <a:off x="971640" y="1700280"/>
            <a:ext cx="75373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это быстро прогрессирующее заболевание, при котором происходит рост молодых недифференцированных клеток крови, потерявших способность к созрев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 Black"/>
              </a:rPr>
              <a:t>Варианты острого лей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11280" y="32130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змоблас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йк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4932000" y="3284640"/>
            <a:ext cx="167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елоблас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йк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6" descr="36"/>
          <p:cNvPicPr/>
          <p:nvPr/>
        </p:nvPicPr>
        <p:blipFill>
          <a:blip r:embed="rId4"/>
          <a:srcRect l="51049" t="0" r="0" b="55537"/>
          <a:stretch/>
        </p:blipFill>
        <p:spPr>
          <a:xfrm>
            <a:off x="7236000" y="3860640"/>
            <a:ext cx="1139760" cy="151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96" name="Rectangle 17"/>
          <p:cNvSpPr/>
          <p:nvPr/>
        </p:nvSpPr>
        <p:spPr>
          <a:xfrm>
            <a:off x="7020000" y="3284640"/>
            <a:ext cx="17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мфоблас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йк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2771280" y="32846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ноблас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йк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 flipH="1">
            <a:off x="161892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>
            <a:off x="6516720" y="28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1619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356400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572436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9"/>
          <p:cNvSpPr/>
          <p:nvPr/>
        </p:nvSpPr>
        <p:spPr>
          <a:xfrm>
            <a:off x="795672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0"/>
          <p:cNvSpPr/>
          <p:nvPr/>
        </p:nvSpPr>
        <p:spPr>
          <a:xfrm>
            <a:off x="684360" y="5445000"/>
            <a:ext cx="79912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яют две основные формы острого лейкоза - </a:t>
            </a: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стрый лимфобласт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стрый миелобласт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е из этих заболеваний подразделяется на множество подвидов, отличающихся по своими морфологическими, иммунологическими и генетическими свойствами, а также по подходам к их лече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Times New Roman"/>
              </a:rPr>
              <a:t>Острый 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6" name="Picture 3" descr="37"/>
          <p:cNvPicPr/>
          <p:nvPr/>
        </p:nvPicPr>
        <p:blipFill>
          <a:blip r:embed="rId1"/>
          <a:srcRect l="54485" t="0" r="-2193" b="51235"/>
          <a:stretch/>
        </p:blipFill>
        <p:spPr>
          <a:xfrm>
            <a:off x="7164360" y="1844640"/>
            <a:ext cx="1635120" cy="230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07" name="Picture 4" descr="37"/>
          <p:cNvPicPr/>
          <p:nvPr/>
        </p:nvPicPr>
        <p:blipFill>
          <a:blip r:embed="rId2"/>
          <a:srcRect l="52193" t="49989" r="-304" b="5546"/>
          <a:stretch/>
        </p:blipFill>
        <p:spPr>
          <a:xfrm>
            <a:off x="3708360" y="2060640"/>
            <a:ext cx="1511280" cy="201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08" name="Picture 5" descr="37"/>
          <p:cNvPicPr/>
          <p:nvPr/>
        </p:nvPicPr>
        <p:blipFill>
          <a:blip r:embed="rId3"/>
          <a:srcRect l="2034" t="50016" r="45826" b="2760"/>
          <a:stretch/>
        </p:blipFill>
        <p:spPr>
          <a:xfrm>
            <a:off x="250920" y="3860640"/>
            <a:ext cx="1596960" cy="2089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09" name="Picture 6" descr="37"/>
          <p:cNvPicPr/>
          <p:nvPr/>
        </p:nvPicPr>
        <p:blipFill>
          <a:blip r:embed="rId4"/>
          <a:srcRect l="0" t="0" r="47860" b="51367"/>
          <a:stretch/>
        </p:blipFill>
        <p:spPr>
          <a:xfrm>
            <a:off x="1908000" y="1628640"/>
            <a:ext cx="1602000" cy="215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10" name="Rectangle 7"/>
          <p:cNvSpPr/>
          <p:nvPr/>
        </p:nvSpPr>
        <p:spPr>
          <a:xfrm>
            <a:off x="3202920" y="4221000"/>
            <a:ext cx="200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миелоцитар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йкоз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5950080"/>
            <a:ext cx="2160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змоклето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йк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6516720" y="4292640"/>
            <a:ext cx="27622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дифференцируем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йко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1834920" y="3789360"/>
            <a:ext cx="167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елоблас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йк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36"/>
          <p:cNvPicPr/>
          <p:nvPr/>
        </p:nvPicPr>
        <p:blipFill>
          <a:blip r:embed="rId5"/>
          <a:srcRect l="51049" t="0" r="0" b="55537"/>
          <a:stretch/>
        </p:blipFill>
        <p:spPr>
          <a:xfrm>
            <a:off x="5292720" y="3860640"/>
            <a:ext cx="1519200" cy="201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15" name="Rectangle 12"/>
          <p:cNvSpPr/>
          <p:nvPr/>
        </p:nvSpPr>
        <p:spPr>
          <a:xfrm>
            <a:off x="5076720" y="602136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мфоблас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йк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Times New Roman"/>
              </a:rPr>
              <a:t>Острый 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Симптомы, настораживающие в отношении лейко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шне немотивированные подъемы </a:t>
            </a:r>
            <a:r>
              <a:rPr b="0" i="1" lang="ru-RU" sz="2000" spc="-1" strike="noStrike">
                <a:solidFill>
                  <a:srgbClr val="ad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бенок становится </a:t>
            </a:r>
            <a:r>
              <a:rPr b="0" i="1" lang="ru-RU" sz="2000" spc="-1" strike="noStrike">
                <a:solidFill>
                  <a:srgbClr val="ad0000"/>
                </a:solidFill>
                <a:latin typeface="Arial"/>
              </a:rPr>
              <a:t>блед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как бы прозрач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явление </a:t>
            </a:r>
            <a:r>
              <a:rPr b="0" i="1" lang="ru-RU" sz="2000" spc="-1" strike="noStrike">
                <a:solidFill>
                  <a:srgbClr val="ad0000"/>
                </a:solidFill>
                <a:latin typeface="Arial"/>
              </a:rPr>
              <a:t>кровотеч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плохо поддаются остановке: носовые кровотечения, кровоточивости десен, кровотечения вследствие повреждения кожного покр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явление </a:t>
            </a:r>
            <a:r>
              <a:rPr b="0" i="1" lang="ru-RU" sz="2000" spc="-1" strike="noStrike">
                <a:solidFill>
                  <a:srgbClr val="ad0000"/>
                </a:solidFill>
                <a:latin typeface="Arial"/>
              </a:rPr>
              <a:t>синя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езультате малейшего внешнего воз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емежающиеся </a:t>
            </a:r>
            <a:r>
              <a:rPr b="0" i="1" lang="ru-RU" sz="2000" spc="-1" strike="noStrike">
                <a:solidFill>
                  <a:srgbClr val="ad0000"/>
                </a:solidFill>
                <a:latin typeface="Arial"/>
              </a:rPr>
              <a:t>боли в костях и сустав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страя </a:t>
            </a:r>
            <a:r>
              <a:rPr b="0" i="1" lang="ru-RU" sz="2000" spc="-1" strike="noStrike">
                <a:solidFill>
                  <a:srgbClr val="ad0000"/>
                </a:solidFill>
                <a:latin typeface="Arial"/>
              </a:rPr>
              <a:t>утомляем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сталость и вял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d0000"/>
                </a:solidFill>
                <a:latin typeface="Arial"/>
              </a:rPr>
              <a:t>Б</a:t>
            </a:r>
            <a:r>
              <a:rPr b="0" i="1" lang="ru-RU" sz="2000" spc="-1" strike="noStrike">
                <a:solidFill>
                  <a:srgbClr val="ad0000"/>
                </a:solidFill>
                <a:latin typeface="Arial"/>
              </a:rPr>
              <a:t>оли в живот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тсутствие аппет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ение </a:t>
            </a:r>
            <a:r>
              <a:rPr b="0" i="1" lang="ru-RU" sz="2000" spc="-1" strike="noStrike">
                <a:solidFill>
                  <a:srgbClr val="ad0000"/>
                </a:solidFill>
                <a:latin typeface="Arial"/>
              </a:rPr>
              <a:t>лимфатических уз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Times New Roman"/>
              </a:rPr>
              <a:t>Острый 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905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Клинические про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немический 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иперпластический синд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увеличение лимфоузлов, гепатоспленомегалия, гиперплазия миндалин,  лейкозная инфильтрации печени, почек и др.орган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еморагический синд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 мелкоточечных высыпаний до профузных кровотече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нтоксикационный синд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следствие присоединения вторичной инфекции – лейкозный менингит, лейкозный пневмонит, язвенно-нектротические осложнения в ЖКТ вплоть до развития сепси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Times New Roman"/>
              </a:rPr>
              <a:t>Острый 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39640" y="1971720"/>
            <a:ext cx="813600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ый пери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ится </a:t>
            </a:r>
            <a:r>
              <a:rPr b="1" lang="ru-RU" sz="2400" spc="-1" strike="noStrike">
                <a:solidFill>
                  <a:srgbClr val="ad0000"/>
                </a:solidFill>
                <a:latin typeface="Arial"/>
              </a:rPr>
              <a:t>2-3 нед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ногда несколько месяц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 выраженных клинических явл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есколько </a:t>
            </a:r>
            <a:r>
              <a:rPr b="1" lang="ru-RU" sz="2400" spc="-1" strike="noStrike">
                <a:solidFill>
                  <a:srgbClr val="ad0000"/>
                </a:solidFill>
                <a:latin typeface="Arial"/>
              </a:rPr>
              <a:t>недель - месяц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ый пери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арактеризующийся скачкообразным усилением всех симптомов и повышением температуры, - </a:t>
            </a:r>
            <a:r>
              <a:rPr b="1" lang="ru-RU" sz="2400" spc="-1" strike="noStrike">
                <a:solidFill>
                  <a:srgbClr val="ad0000"/>
                </a:solidFill>
                <a:latin typeface="Arial"/>
              </a:rPr>
              <a:t>1-2 нед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достром течении болезнь может продолжаться </a:t>
            </a:r>
            <a:r>
              <a:rPr b="1" lang="ru-RU" sz="2000" spc="-1" strike="noStrike">
                <a:solidFill>
                  <a:srgbClr val="ad0000"/>
                </a:solidFill>
                <a:latin typeface="Arial"/>
              </a:rPr>
              <a:t>до 1-2 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авильно подобранной терапии общая продолжительность жизни больных может достигать </a:t>
            </a:r>
            <a:r>
              <a:rPr b="1" lang="ru-RU" sz="2000" spc="-1" strike="noStrike">
                <a:solidFill>
                  <a:srgbClr val="ad0000"/>
                </a:solidFill>
                <a:latin typeface="Arial"/>
              </a:rPr>
              <a:t>26 месяцев, иногда до 3 л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ол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3348000" y="1484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5" descr="132-1"/>
          <p:cNvPicPr/>
          <p:nvPr/>
        </p:nvPicPr>
        <p:blipFill>
          <a:blip r:embed="rId1"/>
          <a:stretch/>
        </p:blipFill>
        <p:spPr>
          <a:xfrm>
            <a:off x="2268360" y="1557360"/>
            <a:ext cx="40402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Times New Roman"/>
              </a:rPr>
              <a:t>Острый 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Стадии течения острого лей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ая атака заболе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1-я стад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первый острый период: от первых клинических симптомов заболева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 получения эффекта от начатого леч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ндукционной терап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мисс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2-я стад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нивелирование патологических проявлений процесса под воздействием противолейкозной (цитостатической) терапии. Различают полные и неполные ремисс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Times New Roman"/>
              </a:rPr>
              <a:t>Острый 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 Black"/>
              </a:rPr>
              <a:t>Стадии течения 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ецидив заболе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3-я ста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выход остаточной лейкозной клеточной популяции из-под контролирующего действия проводимой поддерживающей и противорецидивной терап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т лейкозного процесса к прежним показател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тадия выздоров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4-я ста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стойкая ремиссия продолжающая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5 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отиволейкозное лечение прекращают, но больные остаются под наблюдением гемато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рминальная ста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завершающий этап опухолевой прогрессии при полном истощении нормального кроветворения, резистентности к цитостатической терапии и бесперспективности терапевтического ле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больные погиб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Times New Roman"/>
              </a:rPr>
              <a:t>Острый 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2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План обследования и диагностика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АК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йкоцитоз, появление большого числа бластных клеток и лейкемический провал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ферической крови присутствуют бласты и зрелые клетки белой крови, без промежуточных стадий созре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еми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ромбоцитопени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овой показатель 1 -1,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иохимический А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тернальная пунк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более 30 % бластных клеток в костном мозге, нарушение нормальных клеточных соотношений в миелограмме, уменьшение или отсутствие мегакариоци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ое иммунологическое исслед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иммунофенотипиров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Цитогенетическое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олекулярно-генетическ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пинномозговая пун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ля исключения нейролейкемии 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ополнительные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КТ, МРТ, УЗ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Times New Roman"/>
              </a:rPr>
              <a:t>Острый 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Принципы лечения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адии заболевания – тщательный уход, изоляция паци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ое падение сопротивляемости приводит к различным инфекционным осложнениям -  очень часто летальный исх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Лечение делится на этап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 лечения для достижения ремисс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ние в период ремисс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нейролейкемии (лейкозного поражения головного мозг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ринципы полихимиотера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рный метод введения препара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ичность применения препара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 леч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етание цитостатических препара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Times New Roman"/>
              </a:rPr>
              <a:t>Острый 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258920" y="3683160"/>
            <a:ext cx="67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042920" y="1562040"/>
            <a:ext cx="770436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Прог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от возраста боль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стром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лимфобластном лейкоз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ЛЛ) прогностически благоприятным является возра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5 до 10 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ойкая ремиссия почти в 100% случаев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доровление в 8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чаев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стром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миелобластном лейкоз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МЛ) у больны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30 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ойкая ремиссия (ремиссия более 5 лет) при адекватном лечении возникает у 95% больны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доровление наступает у 2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о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завершения лечения по поводу острого лейкоза необходимо динамическое наблюдение в поликлинике с целью предупреждения возможных рецидивов болезни и побочных эффектов терап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В целом прогноз неблагоприя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cc"/>
                </a:solidFill>
                <a:latin typeface="Times New Roman"/>
              </a:rPr>
              <a:t>Хронический лимф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905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заболевание, при котором опухолевые лимфоциты накапливаются в периферической крови, костном мозге и лимфатических узлах.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781360"/>
            <a:ext cx="3529080" cy="2655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39" name="Rectangle 6"/>
          <p:cNvSpPr/>
          <p:nvPr/>
        </p:nvSpPr>
        <p:spPr>
          <a:xfrm flipV="1" rot="10800000">
            <a:off x="6516720" y="5444640"/>
            <a:ext cx="23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локачественные лимфоциты в периферической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11280" y="3573360"/>
            <a:ext cx="489744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омально высокое содержание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В-лимфоцито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ри этом злокачественные лимфоциты не способны выполнять свои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иммунные функции.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cc"/>
                </a:solidFill>
                <a:latin typeface="Times New Roman"/>
              </a:rPr>
              <a:t>Хронический лимф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 Black"/>
              </a:rPr>
              <a:t>Эпидем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чается обычно у лиц </a:t>
            </a:r>
            <a:r>
              <a:rPr b="1" lang="ru-RU" sz="2400" spc="-1" strike="noStrike">
                <a:solidFill>
                  <a:srgbClr val="ad0000"/>
                </a:solidFill>
                <a:latin typeface="Arial"/>
              </a:rPr>
              <a:t>старше 40 л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аще в пожилом возра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жч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олеют в два раза чаще женщ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емость достигает 6 случаев на 1000000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25% случаев заболе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аруживают случай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анализе крови, назначенном по другому поводу (диспансеризация, обследование по поводу негематологического заболе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cc"/>
                </a:solidFill>
                <a:latin typeface="Times New Roman"/>
              </a:rPr>
              <a:t>Хронический лимф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 системе стадирования хронического лимфолейкоза, предложенной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Международной рабочей группой по хроническому лимфолейкоз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выделяют три стад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дия 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лимфоцитоз при поражении не </a:t>
            </a:r>
            <a:r>
              <a:rPr b="0" lang="ru-RU" sz="2000" spc="-1" strike="noStrike">
                <a:solidFill>
                  <a:srgbClr val="ad0000"/>
                </a:solidFill>
                <a:latin typeface="Arial"/>
              </a:rPr>
              <a:t>более 2-х групп лимфатических уз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ли в отсутствие их пораж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омбоцитопения и анемия отсутству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дия 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ражены </a:t>
            </a:r>
            <a:r>
              <a:rPr b="0" lang="ru-RU" sz="2000" spc="-1" strike="noStrike">
                <a:solidFill>
                  <a:srgbClr val="ad0000"/>
                </a:solidFill>
                <a:latin typeface="Arial"/>
              </a:rPr>
              <a:t>3 и более группы лимфатических уз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омбоцитопения и анемия отсутству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дия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личие тромбоцитопении или анемии независимо от числа пораженных групп лимфатических уз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cc"/>
                </a:solidFill>
                <a:latin typeface="Times New Roman"/>
              </a:rPr>
              <a:t>Хронический лимф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зависимости от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аличия тех или иных симптом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к буквенному обозначению стадии хронического лимфолейкоза могут быть добавлены римские циф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при наличии лимфаденопат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при увеличении селезенки (спленомегал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при наличии анем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при наличии тромбоцитоп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cc"/>
                </a:solidFill>
                <a:latin typeface="Times New Roman"/>
              </a:rPr>
              <a:t>Хронический лимф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71640" y="1412640"/>
            <a:ext cx="77724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Кли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755640" y="1955520"/>
            <a:ext cx="8064360" cy="46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Неспецифические про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бость, повышенная утомляемость, потлив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ение массы т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ение лимфатических узлов (мягкие, не спаянные, безболезненны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жесть в животе (спленомегалия, реже гепатомегал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епсические расстройства кишеч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ные изменения в виде различных неспецифических проявлений(экзема, эритродермия, псориатические высыпания, пузырчат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908000" y="5084640"/>
            <a:ext cx="60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408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ейкоци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бразуются в красном костном мозге из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диной стволовой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зрева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мфоци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исходит 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мфатических узл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тчасти в селезенке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ноци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тикуло-эндотелиальной ткани.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2192040" y="1628640"/>
            <a:ext cx="54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 Black"/>
              </a:rPr>
              <a:t>Упрощенная схема кроветв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Рисунок1"/>
          <p:cNvPicPr/>
          <p:nvPr/>
        </p:nvPicPr>
        <p:blipFill>
          <a:blip r:embed="rId1"/>
          <a:stretch/>
        </p:blipFill>
        <p:spPr>
          <a:xfrm>
            <a:off x="4788000" y="2276640"/>
            <a:ext cx="411300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cc"/>
                </a:solidFill>
                <a:latin typeface="Times New Roman"/>
              </a:rPr>
              <a:t>Хронический лимф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10840" y="1983960"/>
            <a:ext cx="5327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Специфические про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d0000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ad0000"/>
                </a:solidFill>
                <a:latin typeface="Arial"/>
              </a:rPr>
              <a:t>ейкемическая инфильтрация кож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чаговая или генерализован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Осло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d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ad0000"/>
                </a:solidFill>
                <a:latin typeface="Arial"/>
              </a:rPr>
              <a:t>нфекционные осложн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стороны органов и систем( часто являются причиной смерти пациен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d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ad0000"/>
                </a:solidFill>
                <a:latin typeface="Arial"/>
              </a:rPr>
              <a:t>утоиммунные процес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вязанные с появлением антител против антигенов собственных клеток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403280" y="141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Кли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http://1.bp.blogspot.com/-mwtw2DQk1iA/Tb79MkoMAPI/AAAAAAAAAH0/B7sRe0Vd2MU/s1600/rash.jpg"/>
          <p:cNvPicPr/>
          <p:nvPr/>
        </p:nvPicPr>
        <p:blipFill>
          <a:blip r:embed="rId1"/>
          <a:stretch/>
        </p:blipFill>
        <p:spPr>
          <a:xfrm>
            <a:off x="5580000" y="2117880"/>
            <a:ext cx="344988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cc"/>
                </a:solidFill>
                <a:latin typeface="Times New Roman"/>
              </a:rPr>
              <a:t>Хронический лимф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68360" y="1484280"/>
            <a:ext cx="4680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 Black"/>
              </a:rPr>
              <a:t>Диагно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755640" y="2179080"/>
            <a:ext cx="7993080" cy="42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АК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олютный В-лимфоцитоз в периферической крови, среди них встречаются распадающиеся лимфоциты («тени Боткина-Гумпрехта»)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костного мозг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ыточная популяция В-лимфоцитов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мунофенотип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леток костного мозга и периферической крови: выявление специфических иммунологические маркер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псия пораженного лимфатического уз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е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фологическим и иммунологическим исследовани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химический АК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β 2-микроглобулина(можно прогнозировать течение заболевани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тогенет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рогностическое знач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 уровня иммуноглобули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могает определить риск развития инфекционных осложнений у данного пациен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cc"/>
                </a:solidFill>
                <a:latin typeface="Times New Roman"/>
              </a:rPr>
              <a:t>Хронический лимф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Принципы л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дии 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льные </a:t>
            </a:r>
            <a:r>
              <a:rPr b="1" i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не нуждаются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 в проведении специальной химиотерап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ьшинстве случаев лечение проводится амбулаторно на протяжении всего периода заболевания, за исключением  инфекционных и аутоиммунных осложнений, требующих лечения в стацион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611280" y="3860640"/>
            <a:ext cx="835344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 необходимо начинать лишь при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появлении признаков прогрессирования заболе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 которым относ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изнаки недостаточности костного мозга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емия, нейтропения или тромбоцитоп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азвитие аутоиммунн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молитической ане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аутоиммунн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омбоцитоп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алич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леномегал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ызывающей клиническую симптоматику или сопровождающуюся гиперсплениз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Симптом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ражения лимфатических узлов, кожи или других тка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cc"/>
                </a:solidFill>
                <a:latin typeface="Times New Roman"/>
              </a:rPr>
              <a:t>Хронический лимф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26920" y="21333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имиотерап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аратом 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хлорбут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настоящее время более эффективно использование группы препаратов: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уриновых аналог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Флуд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оиммунотерапия с применением моноклональных антите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и препараты позволяют выборочо уничтожать опухолевые клетки, не повреждая здоровые ткани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одозная химиотерапия с трансплантацией кроветворных стволовых кле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евая терап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ак вспомогательный метод лечения при наличии большой опухолевой мас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ленэктом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казана при значительном увеличении этого орг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1835280" y="155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Принципы л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cc"/>
                </a:solidFill>
                <a:latin typeface="Times New Roman"/>
              </a:rPr>
              <a:t>Хронический лимф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755640" y="263700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жизни больных доброкачественной формой составляет в </a:t>
            </a:r>
            <a:r>
              <a:rPr b="1" lang="ru-RU" sz="2800" spc="-1" strike="noStrike">
                <a:solidFill>
                  <a:srgbClr val="ad0000"/>
                </a:solidFill>
                <a:latin typeface="Arial"/>
              </a:rPr>
              <a:t>среднем 5-9 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ые больные живут </a:t>
            </a:r>
            <a:r>
              <a:rPr b="1" lang="ru-RU" sz="2800" spc="-1" strike="noStrike">
                <a:solidFill>
                  <a:srgbClr val="ad0000"/>
                </a:solidFill>
                <a:latin typeface="Arial"/>
              </a:rPr>
              <a:t>25-30 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оле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Times New Roman"/>
              </a:rPr>
              <a:t>Хронический миел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751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характеризуется нарушением нормального созревания гранулоцитарных лейкоци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- появлением очагов внекостномозгового кроветво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страт ХМЛ составляют созревающие и зрелые клетки гранулоцитарного ря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етамиелоци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алочкояде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егментоядерные гранулоц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74"/>
          <p:cNvPicPr/>
          <p:nvPr/>
        </p:nvPicPr>
        <p:blipFill>
          <a:blip r:embed="rId1"/>
          <a:srcRect l="0" t="16821" r="0" b="19237"/>
          <a:stretch/>
        </p:blipFill>
        <p:spPr>
          <a:xfrm>
            <a:off x="5364000" y="1844640"/>
            <a:ext cx="3554640" cy="36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70" name="Rectangle 6"/>
          <p:cNvSpPr/>
          <p:nvPr/>
        </p:nvSpPr>
        <p:spPr>
          <a:xfrm>
            <a:off x="5148360" y="5734080"/>
            <a:ext cx="38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ртина крови при хроническом миелолей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Times New Roman"/>
              </a:rPr>
              <a:t>Хронический миел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 Black"/>
              </a:rPr>
              <a:t>Эпидемиология</a:t>
            </a: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а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ое мес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труктуре гемобластозов (8,9% случае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олеваемость достигает 1 случай  на 100 000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ково часто встреч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и мужчин и женщ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еют обычно люди в </a:t>
            </a:r>
            <a:r>
              <a:rPr b="1" lang="ru-RU" sz="2400" spc="-1" strike="noStrike">
                <a:solidFill>
                  <a:srgbClr val="ad0000"/>
                </a:solidFill>
                <a:latin typeface="Arial"/>
              </a:rPr>
              <a:t>возрасте 30—70</a:t>
            </a:r>
            <a:r>
              <a:rPr b="0" lang="ru-RU" sz="2400" spc="-1" strike="noStrike">
                <a:solidFill>
                  <a:srgbClr val="ad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, в детском и юношеском возрасте заболевание встречается ред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Times New Roman"/>
              </a:rPr>
              <a:t>Хронический миел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37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Кли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клинико-гематологических признаков выделяют 3 стадии Х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ачальная стад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является случайно при исследовании крови. Длится г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отивированный лейкоцитоз (преимущественно базофильный и эозинофильны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йтрофильный сдвиг вле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мбоцито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начительное увеличение селезе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емии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Times New Roman"/>
              </a:rPr>
              <a:t>Хронический миел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Кли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Развернутая ста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явление клинических признаков заболевания. Продолжительность жизни </a:t>
            </a:r>
            <a:r>
              <a:rPr b="1" lang="ru-RU" sz="2000" spc="-1" strike="noStrike">
                <a:solidFill>
                  <a:srgbClr val="ad0000"/>
                </a:solidFill>
                <a:latin typeface="Arial"/>
              </a:rPr>
              <a:t>без лечения в этот период 1,5-2,5 год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ние продлевает жизнь </a:t>
            </a:r>
            <a:r>
              <a:rPr b="1" lang="ru-RU" sz="2000" spc="-1" strike="noStrike">
                <a:solidFill>
                  <a:srgbClr val="ad0000"/>
                </a:solidFill>
                <a:latin typeface="Arial"/>
              </a:rPr>
              <a:t>до 4-5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страя утомляемость, потливость, субфебрильная температура, потеря ве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жесть и боли в правом пореберье, особенно после ходь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еномегалия до значительных разме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патомегалия менее выражена (диспепсия, желтуха, повышение прямого билирубина в кров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потоматика со стороны ССС (за счет интоксикации и анем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мохромная анемия, анизоцитоз, пойкилоцит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Times New Roman"/>
              </a:rPr>
              <a:t>Хронический миел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Кли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Терминальная ста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бластный кр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лихорад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признаков инфе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моррагический синдро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жа, слизистые, маточные, кишечные кровотечени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кротические измен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коже и слизист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салг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ейкемиды в кож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лимфатических уз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т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екционные осложн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резистент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цитостатической тера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йкоцито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йкоцитоп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стных клеток более 20%, промиелоцитов более 10%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бока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емия и тромбоцитоп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388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ЛЕЙКОЦИТЫ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греч. leukos – белый и от греч. kytos - вместилище, здесь - клетка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бесцветные  клетки крови человека.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тип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ейкоци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мфоциты, моноциты, базофилы, эозинофилы и нейтрофи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меют ядро и способны к активному движ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blood"/>
          <p:cNvPicPr/>
          <p:nvPr/>
        </p:nvPicPr>
        <p:blipFill>
          <a:blip r:embed="rId1"/>
          <a:stretch/>
        </p:blipFill>
        <p:spPr>
          <a:xfrm>
            <a:off x="4643280" y="2205000"/>
            <a:ext cx="428472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Times New Roman"/>
              </a:rPr>
              <a:t>Хронический миел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8208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АК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лейкоцитоз, эритропения и тромбоцитоп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охимический анализ кров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могает уточнить функцию почек и состав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следование костного моз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ет возможность установить диагноз лейкоза и оценить эффективность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инно-мозговая пунк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зволяет выявить опухолевые клетки в спинно-мозговой жидкости и провести лечение путем введения химиопрепар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целью уточнения типа лейкоза используются специальные методы исследования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итохимия, проточная цитометрия, иммуноцитохимия, цитогенетика и молекулярно-генетическое исслед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нтгенологические исследования грудной клетки и кост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зволяют выявить поражение лимфатических узлов средостения, костей и суста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ьютерная томография (КТ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ает возможность обнаружить поражение лимфатических узлов в грудной полости и жив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гнитно-резонансная томография (МРТ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обенно показана при исследовании головного и спинного моз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льтразвуковое исследование (УЗИ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зволяет отличить опухолевые и кистозные образования, выявить поражение почек, печени и селезенки, лимфатических уз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32000" y="148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Диагно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Times New Roman"/>
              </a:rPr>
              <a:t>Хронический миел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755640" y="2145240"/>
            <a:ext cx="799308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 хронического миелолейкоза определяется стадией заболе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хронической стад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укрепляющая терап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ценное питание, богатое витам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ярное диспансерное наблю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развернутой стад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е направлено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ьшение массы опухолевых клет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ление соматической компенса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ление наступления бластного кр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терминальной стад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е направлено на продление жизни пациента (ремиссия в этот период невозможна), особенно важен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627280" y="1700280"/>
            <a:ext cx="432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 Black"/>
              </a:rPr>
              <a:t>Принципы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Times New Roman"/>
              </a:rPr>
              <a:t>Хронический миел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Принципы л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евая терап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чение цитостатиками (миелосан, миелобромол, 6-меркаптопурин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чение ане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о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недельная гемотрансфу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лантация костного моз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ленэкто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Times New Roman"/>
              </a:rPr>
              <a:t>Хронический миелолейк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209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Arial Black"/>
              </a:rPr>
              <a:t>Прогноз</a:t>
            </a: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равильном лечении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развернутая стад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ет продолжаться в среднем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около 4 лет, нередко 5—10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больных вполне удовлетворительное; они сохраняют полностью или частично трудоспособность, ведут обыч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ость жизни больных в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терминальной стад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же при комбинированной полихимиотерапии обычно не превышает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6—12 м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Лейкозы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Проблемы больного лейко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б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ля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ора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воизлияния на коже и слизисты с некротическими измен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и в костях и суста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и в горле, стомат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епсические рас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ение лимфоу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еря аппетита и в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imes New Roman"/>
              </a:rPr>
              <a:t>Лейкозы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Сестринский уход за больными с лейко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троль за соблюдением предписанного режима с ограничением физических нагруз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печить максимальное пребывание на свежем воздухе, но без прямого попадания солнечных луч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троль за соблюдением диеты (больше употреблять мясных продуктов, овощей и фрукт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улярный контроль гемодинамических показателей пациента(АД, пульс, ЧСС, ЧДД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ведение мероприятий по уходу за лихорадящими больн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ведение мероприятий по борьбе с пролежн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ведение мероприятий по подготовке пациента к дополнительным исследова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временно и четкое выполнение назначений вр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0" name="Organization Chart 19"/>
          <p:cNvGrpSpPr/>
          <p:nvPr/>
        </p:nvGrpSpPr>
        <p:grpSpPr>
          <a:xfrm>
            <a:off x="1619280" y="1628640"/>
            <a:ext cx="7056000" cy="4752360"/>
            <a:chOff x="1619280" y="1628640"/>
            <a:chExt cx="7056000" cy="475236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7335360" y="5119560"/>
              <a:ext cx="342720" cy="8265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H="1" flipV="1" rot="5400000">
              <a:off x="6461640" y="5072400"/>
              <a:ext cx="342720" cy="92124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3" idx="1"/>
              <a:endCxn id="127" idx="2"/>
            </p:cNvCxnSpPr>
            <p:nvPr/>
          </p:nvCxnSpPr>
          <p:spPr>
            <a:xfrm rot="10800000">
              <a:off x="5592240" y="3326040"/>
              <a:ext cx="771120" cy="169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9" idx="1"/>
              <a:endCxn id="127" idx="2"/>
            </p:cNvCxnSpPr>
            <p:nvPr/>
          </p:nvCxnSpPr>
          <p:spPr>
            <a:xfrm rot="10800000">
              <a:off x="5592240" y="3326040"/>
              <a:ext cx="771120" cy="680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3"/>
              <a:endCxn id="132" idx="2"/>
            </p:cNvCxnSpPr>
            <p:nvPr/>
          </p:nvCxnSpPr>
          <p:spPr>
            <a:xfrm flipV="1">
              <a:off x="3078720" y="3326400"/>
              <a:ext cx="230040" cy="271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033"/>
            <p:cNvCxnSpPr>
              <a:stCxn id="134" idx="3"/>
              <a:endCxn id="132" idx="2"/>
            </p:cNvCxnSpPr>
            <p:nvPr/>
          </p:nvCxnSpPr>
          <p:spPr>
            <a:xfrm flipV="1">
              <a:off x="3078720" y="3326040"/>
              <a:ext cx="230040" cy="1706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4"/>
            <p:cNvCxnSpPr>
              <a:stCxn id="136" idx="3"/>
              <a:endCxn id="132" idx="2"/>
            </p:cNvCxnSpPr>
            <p:nvPr/>
          </p:nvCxnSpPr>
          <p:spPr>
            <a:xfrm flipV="1">
              <a:off x="3195000" y="3326040"/>
              <a:ext cx="113400" cy="680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035"/>
            <p:cNvCxnSpPr>
              <a:stCxn id="127" idx="1"/>
              <a:endCxn id="138" idx="2"/>
            </p:cNvCxnSpPr>
            <p:nvPr/>
          </p:nvCxnSpPr>
          <p:spPr>
            <a:xfrm rot="10800000">
              <a:off x="4396680" y="2307240"/>
              <a:ext cx="142200" cy="680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036"/>
            <p:cNvCxnSpPr>
              <a:stCxn id="132" idx="3"/>
              <a:endCxn id="138" idx="2"/>
            </p:cNvCxnSpPr>
            <p:nvPr/>
          </p:nvCxnSpPr>
          <p:spPr>
            <a:xfrm flipV="1">
              <a:off x="4244760" y="2307240"/>
              <a:ext cx="152640" cy="680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8" name="_s1037"/>
            <p:cNvSpPr/>
            <p:nvPr/>
          </p:nvSpPr>
          <p:spPr>
            <a:xfrm>
              <a:off x="3345840" y="1628640"/>
              <a:ext cx="2102040" cy="67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67"/>
                </a:gs>
                <a:gs pos="50000">
                  <a:srgbClr val="ffffe1"/>
                </a:gs>
                <a:gs pos="100000">
                  <a:srgbClr val="757567"/>
                </a:gs>
              </a:gsLst>
              <a:lin ang="5400000"/>
            </a:gradFill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 Black"/>
                </a:rPr>
                <a:t>Лейкоц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8"/>
            <p:cNvSpPr/>
            <p:nvPr/>
          </p:nvSpPr>
          <p:spPr>
            <a:xfrm>
              <a:off x="2370960" y="2647440"/>
              <a:ext cx="1873440" cy="67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67"/>
                </a:gs>
                <a:gs pos="50000">
                  <a:srgbClr val="ffffe1"/>
                </a:gs>
                <a:gs pos="100000">
                  <a:srgbClr val="7575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 Black"/>
                </a:rPr>
                <a:t>Гранулоц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(зернисты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9"/>
            <p:cNvSpPr/>
            <p:nvPr/>
          </p:nvSpPr>
          <p:spPr>
            <a:xfrm>
              <a:off x="4538880" y="2647440"/>
              <a:ext cx="2108520" cy="67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67"/>
                </a:gs>
                <a:gs pos="50000">
                  <a:srgbClr val="ffffe1"/>
                </a:gs>
                <a:gs pos="100000">
                  <a:srgbClr val="7575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 Black"/>
                </a:rPr>
                <a:t>Агранулоц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(незернисты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0"/>
            <p:cNvSpPr/>
            <p:nvPr/>
          </p:nvSpPr>
          <p:spPr>
            <a:xfrm>
              <a:off x="1619280" y="3666600"/>
              <a:ext cx="1576080" cy="67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67"/>
                </a:gs>
                <a:gs pos="50000">
                  <a:srgbClr val="ffffe1"/>
                </a:gs>
                <a:gs pos="100000">
                  <a:srgbClr val="7575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эозинофи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619280" y="4692600"/>
              <a:ext cx="1459800" cy="67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67"/>
                </a:gs>
                <a:gs pos="50000">
                  <a:srgbClr val="ffffe1"/>
                </a:gs>
                <a:gs pos="100000">
                  <a:srgbClr val="7575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базофи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42"/>
            <p:cNvSpPr/>
            <p:nvPr/>
          </p:nvSpPr>
          <p:spPr>
            <a:xfrm>
              <a:off x="1619280" y="5704560"/>
              <a:ext cx="145980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67"/>
                </a:gs>
                <a:gs pos="50000">
                  <a:srgbClr val="ffffe1"/>
                </a:gs>
                <a:gs pos="100000">
                  <a:srgbClr val="7575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нейтрофи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3"/>
            <p:cNvSpPr/>
            <p:nvPr/>
          </p:nvSpPr>
          <p:spPr>
            <a:xfrm>
              <a:off x="6363720" y="3666600"/>
              <a:ext cx="145980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67"/>
                </a:gs>
                <a:gs pos="50000">
                  <a:srgbClr val="ffffe1"/>
                </a:gs>
                <a:gs pos="100000">
                  <a:srgbClr val="7575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моноц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44"/>
            <p:cNvSpPr/>
            <p:nvPr/>
          </p:nvSpPr>
          <p:spPr>
            <a:xfrm>
              <a:off x="6363720" y="4685760"/>
              <a:ext cx="145980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67"/>
                </a:gs>
                <a:gs pos="50000">
                  <a:srgbClr val="ffffe1"/>
                </a:gs>
                <a:gs pos="100000">
                  <a:srgbClr val="7575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лимфоц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5"/>
            <p:cNvSpPr/>
            <p:nvPr/>
          </p:nvSpPr>
          <p:spPr>
            <a:xfrm>
              <a:off x="5371920" y="5704560"/>
              <a:ext cx="159984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67"/>
                </a:gs>
                <a:gs pos="50000">
                  <a:srgbClr val="ffffe1"/>
                </a:gs>
                <a:gs pos="100000">
                  <a:srgbClr val="7575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В-лимфоци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46"/>
            <p:cNvSpPr/>
            <p:nvPr/>
          </p:nvSpPr>
          <p:spPr>
            <a:xfrm>
              <a:off x="7164720" y="5704560"/>
              <a:ext cx="1510560" cy="67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67"/>
                </a:gs>
                <a:gs pos="50000">
                  <a:srgbClr val="ffffe1"/>
                </a:gs>
                <a:gs pos="100000">
                  <a:srgbClr val="7575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"/>
                </a:rPr>
                <a:t>Т-лимфоци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43" descr="30"/>
          <p:cNvPicPr/>
          <p:nvPr/>
        </p:nvPicPr>
        <p:blipFill>
          <a:blip r:embed="rId1">
            <a:lum bright="-12000"/>
          </a:blip>
          <a:srcRect l="71" t="51147" r="78242" b="35344"/>
          <a:stretch/>
        </p:blipFill>
        <p:spPr>
          <a:xfrm>
            <a:off x="7956720" y="3645000"/>
            <a:ext cx="718920" cy="718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1" name="Picture 44" descr="80"/>
          <p:cNvPicPr/>
          <p:nvPr/>
        </p:nvPicPr>
        <p:blipFill>
          <a:blip r:embed="rId2"/>
          <a:srcRect l="53059" t="20619" r="30097" b="66651"/>
          <a:stretch/>
        </p:blipFill>
        <p:spPr>
          <a:xfrm>
            <a:off x="755640" y="4724280"/>
            <a:ext cx="647640" cy="64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2" name="Picture 45" descr="80"/>
          <p:cNvPicPr/>
          <p:nvPr/>
        </p:nvPicPr>
        <p:blipFill>
          <a:blip r:embed="rId3"/>
          <a:srcRect l="2504" t="-812" r="78290" b="87561"/>
          <a:stretch/>
        </p:blipFill>
        <p:spPr>
          <a:xfrm>
            <a:off x="755640" y="3645000"/>
            <a:ext cx="720720" cy="68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3" name="Picture 46" descr="17"/>
          <p:cNvPicPr/>
          <p:nvPr/>
        </p:nvPicPr>
        <p:blipFill>
          <a:blip r:embed="rId4"/>
          <a:srcRect l="55422" t="71814" r="25537" b="16504"/>
          <a:stretch/>
        </p:blipFill>
        <p:spPr>
          <a:xfrm>
            <a:off x="755640" y="5661000"/>
            <a:ext cx="647640" cy="64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4" name="Picture 47" descr="66"/>
          <p:cNvPicPr/>
          <p:nvPr/>
        </p:nvPicPr>
        <p:blipFill>
          <a:blip r:embed="rId5"/>
          <a:srcRect l="43421" t="3213" r="37302" b="86182"/>
          <a:stretch/>
        </p:blipFill>
        <p:spPr>
          <a:xfrm>
            <a:off x="7956720" y="4724280"/>
            <a:ext cx="718920" cy="636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5" name="Picture 48" descr="эозинофил"/>
          <p:cNvPicPr/>
          <p:nvPr/>
        </p:nvPicPr>
        <p:blipFill>
          <a:blip r:embed="rId6"/>
          <a:stretch/>
        </p:blipFill>
        <p:spPr>
          <a:xfrm>
            <a:off x="3564000" y="3573360"/>
            <a:ext cx="7794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9" descr="базофил"/>
          <p:cNvPicPr/>
          <p:nvPr/>
        </p:nvPicPr>
        <p:blipFill>
          <a:blip r:embed="rId7"/>
          <a:stretch/>
        </p:blipFill>
        <p:spPr>
          <a:xfrm>
            <a:off x="3564000" y="4508640"/>
            <a:ext cx="777960" cy="868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0" descr="нейтрофил"/>
          <p:cNvPicPr/>
          <p:nvPr/>
        </p:nvPicPr>
        <p:blipFill>
          <a:blip r:embed="rId8"/>
          <a:stretch/>
        </p:blipFill>
        <p:spPr>
          <a:xfrm>
            <a:off x="3492360" y="5589720"/>
            <a:ext cx="814680" cy="86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1" descr="моноцит"/>
          <p:cNvPicPr/>
          <p:nvPr/>
        </p:nvPicPr>
        <p:blipFill>
          <a:blip r:embed="rId9"/>
          <a:stretch/>
        </p:blipFill>
        <p:spPr>
          <a:xfrm>
            <a:off x="4643280" y="3573360"/>
            <a:ext cx="785880" cy="803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2" descr="лимфоцит"/>
          <p:cNvPicPr/>
          <p:nvPr/>
        </p:nvPicPr>
        <p:blipFill>
          <a:blip r:embed="rId10"/>
          <a:stretch/>
        </p:blipFill>
        <p:spPr>
          <a:xfrm>
            <a:off x="4716360" y="4581360"/>
            <a:ext cx="7984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9200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Лейкоци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ют много разных форм, но отличить их внешне нелегко. Так выглядят под микроскопом лабораторные мазки, содержащие некоторые виды лейкоц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picture4"/>
          <p:cNvPicPr/>
          <p:nvPr/>
        </p:nvPicPr>
        <p:blipFill>
          <a:blip r:embed="rId1"/>
          <a:stretch/>
        </p:blipFill>
        <p:spPr>
          <a:xfrm>
            <a:off x="4788000" y="3340080"/>
            <a:ext cx="4008240" cy="2967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3" name="Picture 6" descr="krov-3"/>
          <p:cNvPicPr/>
          <p:nvPr/>
        </p:nvPicPr>
        <p:blipFill>
          <a:blip r:embed="rId2"/>
          <a:stretch/>
        </p:blipFill>
        <p:spPr>
          <a:xfrm>
            <a:off x="900000" y="3284640"/>
            <a:ext cx="3687840" cy="2954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4" descr="krovv-2"/>
          <p:cNvPicPr/>
          <p:nvPr/>
        </p:nvPicPr>
        <p:blipFill>
          <a:blip r:embed="rId1"/>
          <a:stretch/>
        </p:blipFill>
        <p:spPr>
          <a:xfrm>
            <a:off x="971640" y="1628640"/>
            <a:ext cx="1857240" cy="1400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6" name="Rectangle 5"/>
          <p:cNvSpPr/>
          <p:nvPr/>
        </p:nvSpPr>
        <p:spPr>
          <a:xfrm>
            <a:off x="110520" y="306792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лочкоядерный нейтроф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krovv-3"/>
          <p:cNvPicPr/>
          <p:nvPr/>
        </p:nvPicPr>
        <p:blipFill>
          <a:blip r:embed="rId2"/>
          <a:stretch/>
        </p:blipFill>
        <p:spPr>
          <a:xfrm>
            <a:off x="971640" y="3645000"/>
            <a:ext cx="1850760" cy="139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8" name="Rectangle 7"/>
          <p:cNvSpPr/>
          <p:nvPr/>
        </p:nvSpPr>
        <p:spPr>
          <a:xfrm>
            <a:off x="183600" y="508392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гментоядерный нейтроф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krovv-5"/>
          <p:cNvPicPr/>
          <p:nvPr/>
        </p:nvPicPr>
        <p:blipFill>
          <a:blip r:embed="rId3"/>
          <a:stretch/>
        </p:blipFill>
        <p:spPr>
          <a:xfrm>
            <a:off x="3851280" y="1628640"/>
            <a:ext cx="1836720" cy="1393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0" name="Rectangle 9"/>
          <p:cNvSpPr/>
          <p:nvPr/>
        </p:nvSpPr>
        <p:spPr>
          <a:xfrm>
            <a:off x="3997800" y="30679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озиноф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krovv-4"/>
          <p:cNvPicPr/>
          <p:nvPr/>
        </p:nvPicPr>
        <p:blipFill>
          <a:blip r:embed="rId4"/>
          <a:stretch/>
        </p:blipFill>
        <p:spPr>
          <a:xfrm>
            <a:off x="6516720" y="1700280"/>
            <a:ext cx="1865160" cy="1400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Rectangle 11"/>
          <p:cNvSpPr/>
          <p:nvPr/>
        </p:nvSpPr>
        <p:spPr>
          <a:xfrm>
            <a:off x="6735240" y="3141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blood_ce"/>
          <p:cNvPicPr/>
          <p:nvPr/>
        </p:nvPicPr>
        <p:blipFill>
          <a:blip r:embed="rId5"/>
          <a:stretch/>
        </p:blipFill>
        <p:spPr>
          <a:xfrm>
            <a:off x="4140360" y="3573360"/>
            <a:ext cx="4286160" cy="2210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4" name="Rectangle 13"/>
          <p:cNvSpPr/>
          <p:nvPr/>
        </p:nvSpPr>
        <p:spPr>
          <a:xfrm>
            <a:off x="3924360" y="6021000"/>
            <a:ext cx="46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 и относительный размер основных клеточных элементов кро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Times New Roman"/>
              </a:rPr>
              <a:t>Состав и свойства </a:t>
            </a:r>
            <a:r>
              <a:rPr b="1" lang="ru-RU" sz="4200" spc="-1" strike="noStrike" u="sng">
                <a:solidFill>
                  <a:srgbClr val="6600cc"/>
                </a:solidFill>
                <a:uFillTx/>
                <a:latin typeface="Times New Roman"/>
              </a:rPr>
              <a:t>лейкоци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Основная функция лейкоцитов – защитная</a:t>
            </a:r>
            <a:r>
              <a:rPr b="0" lang="ru-RU" sz="2400" spc="-1" strike="noStrike">
                <a:solidFill>
                  <a:srgbClr val="008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Фагоцит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йтрофи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оц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асток воспа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гибшие 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рус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леточные детр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рушени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ндоцит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чищение ткани от продукто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спа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krovv-3"/>
          <p:cNvPicPr/>
          <p:nvPr/>
        </p:nvPicPr>
        <p:blipFill>
          <a:blip r:embed="rId1"/>
          <a:srcRect l="35866" t="15584" r="20690" b="26715"/>
          <a:stretch/>
        </p:blipFill>
        <p:spPr>
          <a:xfrm>
            <a:off x="971640" y="2565360"/>
            <a:ext cx="803160" cy="80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8" name="Picture 9" descr="krovv-4"/>
          <p:cNvPicPr/>
          <p:nvPr/>
        </p:nvPicPr>
        <p:blipFill>
          <a:blip r:embed="rId2"/>
          <a:srcRect l="41091" t="24068" r="17817" b="9385"/>
          <a:stretch/>
        </p:blipFill>
        <p:spPr>
          <a:xfrm>
            <a:off x="7596360" y="2421000"/>
            <a:ext cx="766440" cy="928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9" name="Line 25"/>
          <p:cNvSpPr/>
          <p:nvPr/>
        </p:nvSpPr>
        <p:spPr>
          <a:xfrm>
            <a:off x="3059280" y="2781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>
            <a:off x="630072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>
            <a:off x="2843280" y="42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6227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2843280" y="486900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5003280" y="486900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1"/>
          <p:cNvSpPr/>
          <p:nvPr/>
        </p:nvSpPr>
        <p:spPr>
          <a:xfrm flipH="1">
            <a:off x="2987640" y="4221000"/>
            <a:ext cx="32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7:20:25Z</dcterms:created>
  <dc:creator>User</dc:creator>
  <dc:description/>
  <dc:language>en-US</dc:language>
  <cp:lastModifiedBy>USER</cp:lastModifiedBy>
  <dcterms:modified xsi:type="dcterms:W3CDTF">2020-06-08T10:10:32Z</dcterms:modified>
  <cp:revision>68</cp:revision>
  <dc:subject/>
  <dc:title>Тема 3.5.1. Сестринский процесс при лейкозах</dc:title>
</cp:coreProperties>
</file>