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0C3-DC94-4094-A8B5-826EA28C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EEF2-8696-43DD-8277-64ED85EF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32E02-8666-46FE-B3DC-3C126FA6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58D8C-DF27-4B71-A558-10DA07CF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7AEDE-94ED-49B8-BD5C-C9A7CD71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12397-C5CA-4C68-BC95-87F0ABA1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C01ED-339A-4AEC-89DD-D86CE774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0BFEF-85CC-4C81-878C-6CF414D4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E40FB-55D4-4C8C-BE6F-CC866721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80893-2B2B-4A24-A08F-28120539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9218E-E084-449D-9B43-91422FFD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2A0-EFB2-464A-94B4-59DA953A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149-55A0-4FB9-8392-3F9695D3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D877-63B2-4D07-936D-74C2C1D2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7F42-469D-4996-AFB6-7E3125DD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6C19-F9C0-4369-8100-E897160B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BBD6-C804-4C4B-8E76-78051E61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1381-397C-4BC8-A88B-CADA5F5B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0E87-E226-4E76-8121-0ED5C1BA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F0F4-A9DC-4DD9-8697-4D9B813D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5D2-5BBE-41F7-A977-504F904E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7B9F-ACB0-4A45-9105-90DC4F4A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9970-0A52-4FF3-AEE2-0464AEC4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F4EF-5152-491A-8CDA-AF097882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230B-3BEA-4DF0-8FAD-1788817D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063D-DC82-42DA-A2EA-716868FF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67D2C-5D89-4FC8-9FD8-841A1F97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D9567-5A6C-41FC-8451-11AB44D4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37D7D-8BA1-4181-ADBA-9C73CF8A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1E143-A19E-4E73-B6CE-E48DFE9E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CD0D9-9B1F-463E-88FB-1171688A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AAD-2FF5-41DE-9512-35EA03FB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73B23-3484-4FD8-BAC0-5A76594F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57F88-1A46-440E-8F1C-43A5E255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39060-C4BB-4B4F-9CA7-3296AD7F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864F-D195-4BD3-95EB-97DBF48C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4AFD8-DDB4-4373-936A-3DF91EBD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984F8-E95E-4110-BA63-37587112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97E1-C319-40CC-903A-2EA92C90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BB20D-21A9-4298-BA28-8D114607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121FA-5CCA-453D-8E9A-C22118CA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3E580-940D-47FA-90DD-9E8BCFAD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D03-5BF2-496E-93A8-DE8FB60C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C6388-DFA6-430F-AF00-6C06BF97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99042-D2E5-4A72-A163-14E90790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33E9C-31B6-4704-9B93-C4A774C5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50446-2C7E-4931-9E52-1852B08A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CB504-8154-4CB6-AA5C-BB176445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1BC01-CC60-4311-AA68-B09DC633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4701-42F4-4D90-BFC1-B665E433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A92A7-BC20-47C2-B4C8-4B861AD0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03EEF-0EFA-43E1-89C1-8CC564E4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B5979-7B08-473C-9E59-0B2347BE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294-4CE8-4A1D-A84B-EBE6210F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004F4-AE99-41CF-8405-CCB4ED86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9A6F3-C22C-4638-AAC5-0988D415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9ADB8-0C40-4471-9AE0-FFD27D43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26DB0-EF4C-4AEB-8598-C7D7C21C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D38AC-0536-4D9E-9958-6E76BDAA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504D5-5F45-49DD-98EA-09A61855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7F1ED-3420-45DB-8F83-87FFE930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39092-69D8-4B18-ABEA-AE1E6D90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90F5E-7A23-46A5-83B1-100A9F13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5E6CE-DF1A-4C66-B322-72EC749D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A3E-D9FF-40C6-BB83-64FB63F2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39391-7A00-4281-97E2-1E396AFF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6FCE4-2EA3-44F7-BFDD-FECC45C8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85F1A-7E9E-438B-BFC0-79AD647C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2F465-1397-4451-90DC-A5470379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FF4F2-90CA-4531-9120-120B1CE4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7D55B-7D31-4341-81DA-173EE279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F964D-510D-4BAE-A5B0-51FFF9A7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8624D-9B86-4087-9EF4-A31670C9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4B3A0-52A5-44D8-BC02-6E1639B6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BFE56-8BF6-48F4-BC47-E36B197F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52E-FAC4-41E6-887F-6F8AD619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11FCD-E1E6-4362-BF54-E2A7BF66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9651B-4AEB-4AA8-9908-D8784BA3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F086D-5FA7-429A-AEC3-C019C851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75E81-4034-48AE-A696-22977E78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394CC-E24E-4296-B3CD-E5042C01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0D89D-20D2-42F2-953A-24DD0611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41A8F-CF2A-4568-A3FB-05A8E521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93F46-6345-4145-BD69-3FA8721C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20860-E388-414E-B2CD-64487BEF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B6D6D-6C54-46A6-8ED4-51AB766B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304-D44F-4912-8147-F4517311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76130-CC30-4D44-9058-207225E4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7CB92-D369-4405-9F02-5993434C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2460-2C43-437D-877F-9E78AB27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2DD6E-6DBC-4CB5-AB15-608E95EC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F8B0F-C159-4F25-BC77-F1973E6B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CB1B4-1782-481E-B999-F580E3C3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2BEC3-FB7A-45F5-AA07-26253979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76594-B708-44A9-9E45-D8F57D81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F6692-E9F6-4E25-B84E-88C79067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603B8-0731-4069-A4EB-81668FFB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4F1-D1E3-4674-83F5-46D13728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E899C-87E0-407D-BB9A-47D4F5E0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BCBB0-8F00-4CD8-B2EA-14BBFD2E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62459-0F75-4C58-A755-51620D99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5CB89-93CE-44AA-BBA1-1B608FD6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061D4-D157-4AA1-B281-FAF24D9B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BFD82-1134-4E75-8107-76F3EB39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720C8-7AE1-4B80-9CB1-F28C95CF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2D6A0-C63B-43F5-99A3-EA8A79CC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FD5AE-C2B1-47C4-9690-C11A14BB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9C7F1-FD0A-46C2-B026-8BFFB7FF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F7A6-FEF0-4283-8D50-FD4E6FC1C52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3EA9-C459-462D-985D-3BC817D187D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E410-D86E-477A-882D-2D536F931B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DD2A-C234-48E5-826C-FF5939BFC82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9A87-97D1-40DD-B3AC-0CC8E013CD8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2B2E-AEAD-4654-B1F4-73B2F171EE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E326-AAE0-4364-8BE3-98C66A70151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CC86-8813-45A2-9D0A-77F92446C2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63BC-2150-4A6E-92AC-3715489E5AB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3" descr="kolokol58"/>
          <p:cNvPicPr/>
          <p:nvPr/>
        </p:nvPicPr>
        <p:blipFill>
          <a:blip r:embed="rId1"/>
          <a:stretch/>
        </p:blipFill>
        <p:spPr>
          <a:xfrm>
            <a:off x="179280" y="0"/>
            <a:ext cx="1778040" cy="22017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9"/>
          <p:cNvSpPr/>
          <p:nvPr/>
        </p:nvSpPr>
        <p:spPr>
          <a:xfrm>
            <a:off x="395280" y="2421000"/>
            <a:ext cx="841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3333ff"/>
                </a:solidFill>
                <a:latin typeface="Century Schoolbook"/>
              </a:rPr>
              <a:t>РУССКИЙ ЯЗЫ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37"/>
          <p:cNvSpPr/>
          <p:nvPr/>
        </p:nvSpPr>
        <p:spPr>
          <a:xfrm>
            <a:off x="395280" y="1413000"/>
            <a:ext cx="8352000" cy="30186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Century Schoolbook"/>
              </a:rPr>
              <a:t>ОПРЕДЕЛЕНИЕ РОДА ИМЁН СУЩЕСТВИТЕЛЬНЫХ В НАЧАЛЬНОЙ И ДРУГИХ ФОРМ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6"/>
          <p:cNvSpPr/>
          <p:nvPr/>
        </p:nvSpPr>
        <p:spPr>
          <a:xfrm>
            <a:off x="3419640" y="5589720"/>
            <a:ext cx="5364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1"/>
          <p:cNvSpPr/>
          <p:nvPr/>
        </p:nvSpPr>
        <p:spPr>
          <a:xfrm>
            <a:off x="611280" y="1844640"/>
            <a:ext cx="784836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2400" spc="-1" strike="noStrike">
                <a:solidFill>
                  <a:srgbClr val="0000ff"/>
                </a:solidFill>
                <a:latin typeface="Century Schoolbook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​Найди имя существительное в предложении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entury Schoolbook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.Поставь существительное в начальную форму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:  Ед.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КТО?    ЧТО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entury Schoolbook"/>
                <a:ea typeface="Times New Roman"/>
              </a:rPr>
              <a:t>3.​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предели род имени существительного при помощи личного местоим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Н, мой – 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НА, моя – 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НО, моё – ср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468360" y="54936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  <a:ea typeface="Times New Roman"/>
              </a:rPr>
              <a:t>Алгоритм определения рода имени существите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4"/>
          <p:cNvSpPr/>
          <p:nvPr/>
        </p:nvSpPr>
        <p:spPr>
          <a:xfrm flipH="1">
            <a:off x="1979640" y="3213000"/>
            <a:ext cx="2887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6"/>
          <p:cNvSpPr/>
          <p:nvPr/>
        </p:nvSpPr>
        <p:spPr>
          <a:xfrm>
            <a:off x="2340000" y="3213000"/>
            <a:ext cx="2872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6481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100" spc="-1" strike="noStrike">
              <a:solidFill>
                <a:srgbClr val="ff3300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27432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00ff"/>
              </a:solidFill>
              <a:latin typeface="Franklin Gothic Book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9120240" cy="128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0" name=""/>
          <p:cNvGraphicFramePr/>
          <p:nvPr/>
        </p:nvGraphicFramePr>
        <p:xfrm>
          <a:off x="304920" y="1554120"/>
          <a:ext cx="8686800" cy="4794120"/>
        </p:xfrm>
        <a:graphic>
          <a:graphicData uri="http://schemas.openxmlformats.org/drawingml/2006/table">
            <a:tbl>
              <a:tblPr/>
              <a:tblGrid>
                <a:gridCol w="3043080"/>
                <a:gridCol w="2952720"/>
                <a:gridCol w="2691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Имя 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чальная фор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ож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ож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неб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б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р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т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т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пол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р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не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ова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о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 А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4621320" y="1844640"/>
            <a:ext cx="1839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7"/>
          <p:cNvSpPr/>
          <p:nvPr/>
        </p:nvSpPr>
        <p:spPr>
          <a:xfrm>
            <a:off x="971640" y="90792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2124000" y="907920"/>
            <a:ext cx="54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 понятна, затруднений н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9"/>
          <p:cNvSpPr/>
          <p:nvPr/>
        </p:nvSpPr>
        <p:spPr>
          <a:xfrm>
            <a:off x="971640" y="256536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2124000" y="249228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Тема понятна, но надо ещё потренироват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5"/>
          <p:cNvSpPr/>
          <p:nvPr/>
        </p:nvSpPr>
        <p:spPr>
          <a:xfrm>
            <a:off x="971640" y="450864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2050920" y="4022640"/>
            <a:ext cx="59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тались затруднения, нужна консультац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22:01:38Z</dcterms:created>
  <dc:creator>Сотрудник</dc:creator>
  <dc:description/>
  <dc:language>en-US</dc:language>
  <cp:lastModifiedBy>user</cp:lastModifiedBy>
  <dcterms:modified xsi:type="dcterms:W3CDTF">2016-01-26T13:42:39Z</dcterms:modified>
  <cp:revision>89</cp:revision>
  <dc:subject/>
  <dc:title>Слайд 1</dc:title>
</cp:coreProperties>
</file>