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703760"/>
            <a:ext cx="86011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70376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720" y="470376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70376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680" y="470376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7760" y="4703760"/>
            <a:ext cx="27694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42880"/>
            <a:ext cx="860112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70376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720" y="470376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703760"/>
            <a:ext cx="860112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42880"/>
            <a:ext cx="8601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31720"/>
            <a:ext cx="860904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Детская школа искусств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г.Облучь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0360" y="3181320"/>
            <a:ext cx="50180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АСС ФОРТЕПИ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ХОРЕНКО ЕЛЕНА ГЕОРГИ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580000" y="2340000"/>
            <a:ext cx="4140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Марш деревянных солдатиков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Новгородов Констан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20720" y="2127240"/>
            <a:ext cx="378000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Старая французская песе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40000" y="2101320"/>
            <a:ext cx="7912080" cy="13179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ьянова Дарья  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160720" y="3240000"/>
            <a:ext cx="540072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Немецкая песе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арева Яна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00000" y="1979640"/>
            <a:ext cx="3600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Итальянская песе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досеева 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20720" y="197964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Шарманщик пое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8800" y="2089080"/>
            <a:ext cx="420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рофеев 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580000" y="2160720"/>
            <a:ext cx="34718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Неаполитанская песе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рофе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43196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Сладкая грез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9912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ыче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216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Баба-Яг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рофе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32403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Камаринская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0000" y="1979280"/>
            <a:ext cx="809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38040" indent="-3380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   Ерофеев 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79640" y="2700360"/>
            <a:ext cx="77403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31800"/>
            <a:ext cx="86058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0880" y="2235240"/>
            <a:ext cx="86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17560" y="1593720"/>
            <a:ext cx="7281720" cy="56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90960" y="2317680"/>
            <a:ext cx="4289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Петр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Ильич Чайковский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0360" y="4859280"/>
            <a:ext cx="32320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40 - 18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5219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Чайковский Петр Ильич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Детский альб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Бим-бом , бим-б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Открывается альб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То веселы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то печальны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Не просто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а музыкальный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40440" y="1979640"/>
            <a:ext cx="42195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Зимнее утро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Ерофе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140360" cy="46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6119640" y="3564000"/>
            <a:ext cx="36738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853560"/>
            <a:ext cx="860904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Песня жаворон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9520" y="197964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Ерофеев Анатол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817560" y="2160720"/>
            <a:ext cx="4221000" cy="485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-36705" b="0"/>
          <a:stretch/>
        </p:blipFill>
        <p:spPr>
          <a:xfrm>
            <a:off x="5327640" y="3995640"/>
            <a:ext cx="446400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853560"/>
            <a:ext cx="860904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Болезнь кукл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фимова К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140360" cy="485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659640" y="3780000"/>
            <a:ext cx="270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30440" y="360360"/>
            <a:ext cx="46688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Вальс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20360" y="5400360"/>
            <a:ext cx="9180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Марыч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5759280" cy="48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6480000" y="1908000"/>
            <a:ext cx="329904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Новая кукл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9280" y="2160360"/>
            <a:ext cx="48592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едосеева 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20720" y="2160720"/>
            <a:ext cx="4140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Игра в лошадк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3517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00000" y="2101320"/>
            <a:ext cx="845208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яет Ерофеев 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160720" y="3060720"/>
            <a:ext cx="4859280" cy="41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4:35:00Z</dcterms:created>
  <dc:creator>номе</dc:creator>
  <dc:description>Сиреневая область заголовка с тремя сине-зелеными элементами на левой границе; серый фон</dc:description>
  <dc:language>en-US</dc:language>
  <cp:lastModifiedBy>номе</cp:lastModifiedBy>
  <dcterms:modified xsi:type="dcterms:W3CDTF">2020-06-12T09:34:50Z</dcterms:modified>
  <cp:revision>4</cp:revision>
  <dc:subject/>
  <dc:title>Тонкие акценты</dc:title>
</cp:coreProperties>
</file>