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5BA-CF06-44A8-A118-703D62BC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7CF-7D70-4126-B9EE-66865558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496D0-D5C3-4C65-BA93-4F93FCF6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88A1E-E604-406A-89A7-5BABD4E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8543E-96A5-4616-A05F-145C84F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1BEB2-643E-4676-90AC-9B7624BA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65968-E502-4719-A35B-D463D2B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1A35-18C8-407E-BF73-BA35DDE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AFAA-FA6E-449D-80C0-5BDFD0C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A4BD-136E-4F50-94F9-63781990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C4E4-1DEB-4EDB-B26A-BE62F8A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026-D307-4A80-9413-7DF12050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CC0-7450-423B-8323-9E03E5C6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1360-E506-454B-B2B9-60E0A646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E2A-03B7-410A-A490-DB45755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235-9752-4FD8-BBA4-BC19C6B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3CC-2982-438A-9294-9A303287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19C4-C8DF-47C4-9FEB-33E4156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DAF7-8FA9-4C37-9C3A-7074B24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3B2-B0B1-458C-A900-EDDE907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5A7-D79D-44DF-A5C1-D6E7CA0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1A8-108B-45DA-9E05-FAF9C6A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BA1D-F628-40B6-9F1E-5371BA5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9D2-4640-4967-AECA-9BA03F4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B5EF-B31B-4751-9CC3-54A1C681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0FD9-9A4C-45A5-876B-EAA1AE0E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895B-8341-41C3-8540-DCA8BBD2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9062-F49E-4D53-B7E1-50012BD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8596-55BD-4214-B525-61C0C20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D777-B4B4-4339-BCE9-6BB6701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B0D6-7E28-4461-AC7E-CA2FF186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8DB-718A-4623-AD5A-31D5A49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64BF-2B54-4668-83F5-21236DA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6D47-1073-4B2D-899B-903222B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C904-F040-46F9-8BB4-B6D77ED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F75C-7523-492E-86BC-F5D6E76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273B-8113-4DB2-B3F6-9FFE69C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BC97-6A61-4A02-9BFC-8FD01265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8707-B44F-4A31-AD81-3DEF0FA9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D818-8671-4F65-BA02-B4DDBBFA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0DFE-4D41-43B4-891C-2F53286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EA8A-C3B7-4077-9BB8-ADCD4CF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7B-90B2-4EF2-88CE-B4F2E91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6648-3025-4315-9395-8F206515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BFFF-1EC0-444B-9BEB-8D5771B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F4F6-C7B2-4F5A-8521-CB7497D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30BF-0AE5-4668-A7CA-FF3FBC8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178F-0885-4943-B171-8C993B2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17FD-E0AD-421F-AC3B-2F83A1F2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8442-64D7-464D-8DBF-0A4DEEF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9714-C35C-4DCE-8FED-9AD4B457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73F0-7B70-43BF-91E1-9F85AF5E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7D62-8A60-466E-B15C-2860DED7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A8F-C649-44F2-AC44-DCDBEF1A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5C5E-0AE8-4357-9BE8-03478002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F282-3703-4439-82B4-DE88DE6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BF82-02D5-4C73-82AB-BDFA406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B981-AEF7-45D0-AD45-F6983ED6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8BD5-8330-4292-85CE-33D5C189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31B0-7C75-40E2-9D91-B8908D4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61FE-A267-45E9-B3CF-EE877F1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BD6B-DE92-4CE7-9A41-B8F4CCF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263C-F853-43CC-83C9-02FE743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D1EE-7C64-4224-BC0B-570E2DC1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3D6-4FF4-4A96-8177-289DB14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F126-D609-46DA-947D-58D6E2F8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C061-E00A-47E0-8AE9-2FA522A0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1BF4-6536-4BE4-877F-929BA96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4A29-38F0-4070-B4C2-940CEA5F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CA13-B911-4776-B814-B628F69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5D9EC-8F93-4184-A946-133DB8F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2451-CE69-4CD2-BFDC-7CA96C2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14195-DC45-4A89-BACB-65B1018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0916-C7E1-467C-8598-4B56263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8F70-6DBD-49E1-B1BD-35F197E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7D8-2C7B-4219-AF76-1A6450C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FFF9-2CCC-4179-9F51-E53D8B22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B8A1-9E1C-40F6-95B5-9EDCCB00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B86A-4F8A-465A-BE48-689EB8A3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AA98-2610-4E3E-86F6-93316886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D581-A4FB-4807-B0D4-C642E8F3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25D4-9763-4728-829F-F21622B2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64CF-0528-4057-B2C7-DF608F1D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A24F-FFF1-4BF0-BA76-A3E0049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5C74-7170-441F-9178-D5E8CBA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C4A0-3B34-4DC1-A839-7EEE619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274-4312-4212-8B28-1D0E3F9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0F6DF-CBC7-4DD2-ACE6-34AA6FD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C3A0-9DD1-4356-9204-A100E62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492ED-0306-439F-9C97-D7E3B01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76EF-DF3A-49F5-AAE9-EBFCFCA4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BF34-5938-4DA1-9A79-ABC02197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7D1E-412B-452E-B3B9-9B1568D4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9FDD3-F596-49AA-96A3-597C5482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43181-A767-4047-8C31-AF0BC644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FCC3B-9C52-4BC8-B097-717D88F0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7708-1F7B-4CA8-8D73-695A6C8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BC5-A933-4B8C-9256-51B8071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6886-7403-47B4-8066-CF1D9BC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6FF0D-A141-47D9-9184-D380ADB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44B2-ED53-43B8-B9BB-704AE12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CFBE-C355-4933-B11A-F211B3B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1071D-4890-42B3-A691-0B01CCE6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C715C-06ED-4B0D-B25D-C1D1B7DD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6932-0306-4FF5-9EA1-473ECC59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10C67-D6FF-4FBC-ACAE-491760F8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CA8B-9397-49A0-9C32-F43454A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6E56E-DD9E-45CC-B1F2-C0CA3F3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6D6-C989-479B-8FE1-3188B1A499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713-FD41-4A0E-AD9A-84CBC48C28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872-0B2D-481C-9549-D5AD7A681C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4035-8EA5-47CE-9F16-02172766EA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880A-8174-4B43-9E5D-5276AC5E69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B98-2C30-4D50-AFE2-ACA7625378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DFA-50BC-4C48-BF91-F394250A76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9A55-0E0D-46DE-8B2E-35D71992E7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Monotype Corsiv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F627-E104-4080-9276-ADBEC4F54C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fdc.narod.ru/" TargetMode="External"/><Relationship Id="rId3" Type="http://schemas.openxmlformats.org/officeDocument/2006/relationships/hyperlink" Target="http://900igr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dfdc.narod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4" descr=""/>
          <p:cNvPicPr/>
          <p:nvPr/>
        </p:nvPicPr>
        <p:blipFill>
          <a:blip r:embed="rId1"/>
          <a:stretch/>
        </p:blipFill>
        <p:spPr>
          <a:xfrm>
            <a:off x="298440" y="4863960"/>
            <a:ext cx="8345520" cy="11401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1">
            <a:hlinkClick r:id="rId2"/>
          </p:cNvPr>
          <p:cNvSpPr/>
          <p:nvPr/>
        </p:nvSpPr>
        <p:spPr>
          <a:xfrm>
            <a:off x="6286680" y="600696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바탕"/>
              </a:rPr>
              <a:t>www.cdfdc.narod.ru</a:t>
            </a:r>
            <a:endParaRPr b="0" lang="en-US" sz="1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3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pic>
        <p:nvPicPr>
          <p:cNvPr id="434" name="Picture 6" descr="C:\Users\Dom\Pictures\ОЛЯ СПОРТ.ИГРЫ\B1lIz-NXlI4.jpg"/>
          <p:cNvPicPr/>
          <p:nvPr/>
        </p:nvPicPr>
        <p:blipFill>
          <a:blip r:embed="rId4"/>
          <a:stretch/>
        </p:blipFill>
        <p:spPr>
          <a:xfrm>
            <a:off x="1447920" y="414360"/>
            <a:ext cx="6100560" cy="431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фигур катание2"/>
          <p:cNvPicPr/>
          <p:nvPr/>
        </p:nvPicPr>
        <p:blipFill>
          <a:blip r:embed="rId1"/>
          <a:stretch/>
        </p:blipFill>
        <p:spPr>
          <a:xfrm>
            <a:off x="228600" y="4792680"/>
            <a:ext cx="2438280" cy="1817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фигур катание3"/>
          <p:cNvPicPr/>
          <p:nvPr/>
        </p:nvPicPr>
        <p:blipFill>
          <a:blip r:embed="rId2"/>
          <a:stretch/>
        </p:blipFill>
        <p:spPr>
          <a:xfrm>
            <a:off x="7162920" y="152280"/>
            <a:ext cx="1724040" cy="1933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фигур катание4"/>
          <p:cNvPicPr/>
          <p:nvPr/>
        </p:nvPicPr>
        <p:blipFill>
          <a:blip r:embed="rId3"/>
          <a:stretch/>
        </p:blipFill>
        <p:spPr>
          <a:xfrm>
            <a:off x="7169040" y="2514600"/>
            <a:ext cx="1733760" cy="193356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9"/>
          <p:cNvSpPr/>
          <p:nvPr/>
        </p:nvSpPr>
        <p:spPr>
          <a:xfrm>
            <a:off x="1371600" y="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Фигурное катание,</a:t>
            </a:r>
            <a:endParaRPr b="0" lang="en-US" sz="4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609480" y="68580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ид конькобежного спорта, основу которого составляют движения спортсмена с переменами направления скольжения, вращениями и прыжками</a:t>
            </a:r>
            <a:r>
              <a:rPr b="0" i="1" lang="ru-RU" sz="28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2819520" y="479268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ключает в себя одиночное катание, парное и спортивные танцы.</a:t>
            </a:r>
            <a:endParaRPr b="0" lang="en-US" sz="2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скор бег на коньках"/>
          <p:cNvPicPr/>
          <p:nvPr/>
        </p:nvPicPr>
        <p:blipFill>
          <a:blip r:embed="rId1"/>
          <a:stretch/>
        </p:blipFill>
        <p:spPr>
          <a:xfrm>
            <a:off x="990720" y="4114800"/>
            <a:ext cx="2333520" cy="2590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скор бег на коньках2"/>
          <p:cNvPicPr/>
          <p:nvPr/>
        </p:nvPicPr>
        <p:blipFill>
          <a:blip r:embed="rId2"/>
          <a:stretch/>
        </p:blipFill>
        <p:spPr>
          <a:xfrm>
            <a:off x="5429160" y="4105440"/>
            <a:ext cx="2210040" cy="2476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0" y="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Скоростной бег на коньках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вид спорта, в котором необходимо как можно быстрее преодолевать соревновательную дистанцию на ледовом стадионе по замкнутому круг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прыжки в воду1"/>
          <p:cNvPicPr/>
          <p:nvPr/>
        </p:nvPicPr>
        <p:blipFill>
          <a:blip r:embed="rId1"/>
          <a:stretch/>
        </p:blipFill>
        <p:spPr>
          <a:xfrm>
            <a:off x="228600" y="4724280"/>
            <a:ext cx="1752480" cy="19335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синхр1"/>
          <p:cNvPicPr/>
          <p:nvPr/>
        </p:nvPicPr>
        <p:blipFill>
          <a:blip r:embed="rId2"/>
          <a:stretch/>
        </p:blipFill>
        <p:spPr>
          <a:xfrm>
            <a:off x="228600" y="2438280"/>
            <a:ext cx="1714680" cy="1943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плавание1"/>
          <p:cNvPicPr/>
          <p:nvPr/>
        </p:nvPicPr>
        <p:blipFill>
          <a:blip r:embed="rId3"/>
          <a:stretch/>
        </p:blipFill>
        <p:spPr>
          <a:xfrm>
            <a:off x="228600" y="152280"/>
            <a:ext cx="1724040" cy="19144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"/>
          <p:cNvSpPr/>
          <p:nvPr/>
        </p:nvSpPr>
        <p:spPr>
          <a:xfrm>
            <a:off x="2133720" y="152280"/>
            <a:ext cx="67053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Плавани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ид спорта, заключающийся в преодолении определенным стилем соревновательной дистанции от 50 до 1500 м. в бассейне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33720" y="2662200"/>
            <a:ext cx="647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Синхронное плаван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ыполнение в воде различных фигур под музыку. Участвуют только женщины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2133720" y="4114800"/>
            <a:ext cx="68580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Прыжки в воду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ид спорта, включающий выполнение прыжков с трамплина с разнообразными вращениями и входом в воду головой или ногами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автоспорт"/>
          <p:cNvPicPr/>
          <p:nvPr/>
        </p:nvPicPr>
        <p:blipFill>
          <a:blip r:embed="rId1"/>
          <a:stretch/>
        </p:blipFill>
        <p:spPr>
          <a:xfrm>
            <a:off x="152280" y="304920"/>
            <a:ext cx="2144880" cy="1706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мотоспорт"/>
          <p:cNvPicPr/>
          <p:nvPr/>
        </p:nvPicPr>
        <p:blipFill>
          <a:blip r:embed="rId2"/>
          <a:stretch/>
        </p:blipFill>
        <p:spPr>
          <a:xfrm>
            <a:off x="152280" y="2286000"/>
            <a:ext cx="2144880" cy="1859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парашют"/>
          <p:cNvPicPr/>
          <p:nvPr/>
        </p:nvPicPr>
        <p:blipFill>
          <a:blip r:embed="rId3"/>
          <a:stretch/>
        </p:blipFill>
        <p:spPr>
          <a:xfrm>
            <a:off x="152280" y="4495680"/>
            <a:ext cx="2144880" cy="21812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7"/>
          <p:cNvSpPr/>
          <p:nvPr/>
        </p:nvSpPr>
        <p:spPr>
          <a:xfrm>
            <a:off x="2514600" y="304920"/>
            <a:ext cx="6400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Автомобильный спор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оревнования на гоночных, спортивных, серийных автомобилях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2590920" y="2286000"/>
            <a:ext cx="60958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тоспор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ид включающий мотоциклетный кросс, шоссейные гонки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2362320" y="4495680"/>
            <a:ext cx="67816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Парашютный спор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ид авиационного спорта, прыжки с парашютом с летательных аппаратов на точность приземления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380880" y="380880"/>
            <a:ext cx="85345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пасибо за внимание!</a:t>
            </a:r>
            <a:endParaRPr b="0" lang="en-US" sz="4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98" name="Text Box 5">
            <a:hlinkClick r:id="rId1"/>
          </p:cNvPr>
          <p:cNvSpPr/>
          <p:nvPr/>
        </p:nvSpPr>
        <p:spPr>
          <a:xfrm>
            <a:off x="7345440" y="623736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</a:rPr>
              <a:t>www.cdfdc.narod.ru</a:t>
            </a:r>
            <a:endParaRPr b="0" lang="en-US" sz="1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60440" y="533160"/>
            <a:ext cx="7929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ndara"/>
              </a:rPr>
              <a:t>Физическая культура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Georgia"/>
              </a:rPr>
              <a:t>- органическая составная часть общей культуры общества и личности, вид социальной деятельности людей, направленный на укрепление здоровья и развитие их физических способностей, на подготовку к жизненной практи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609480" y="365760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порт  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авная часть физической культуры, вид социальной деятельности людей, заключающийся в организованном сопоставлении их сил и физических способностей в борьбе за первенство или высокий спортивный результат.</a:t>
            </a:r>
            <a:endParaRPr b="0" lang="en-US" sz="2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4"/>
          <p:cNvSpPr txBox="1"/>
          <p:nvPr/>
        </p:nvSpPr>
        <p:spPr>
          <a:xfrm>
            <a:off x="609480" y="22860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7c80"/>
                    </a:gs>
                  </a:gsLst>
                  <a:lin ang="5400000"/>
                </a:gradFill>
                <a:uFillTx/>
                <a:latin typeface="Times New Roman"/>
              </a:rPr>
              <a:t> </a:t>
            </a:r>
            <a:endParaRPr b="0" lang="en-US" sz="18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7c80"/>
                  </a:gs>
                </a:gsLst>
                <a:lin ang="5400000"/>
              </a:gradFill>
              <a:uFillTx/>
              <a:latin typeface="Times New Roman"/>
              <a:ea typeface="Times New Roman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609480" y="13716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 спортивным играм относятся игры, имеющие все характерные признаки спорта; они требуют подготовки и спортивного совершенствования играющих.</a:t>
            </a:r>
            <a:endParaRPr b="0" lang="en-US" sz="32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Футбол</a:t>
            </a:r>
            <a:r>
              <a:rPr b="1" i="1" lang="ru-RU" sz="5900" spc="-1" strike="noStrike" u="sng">
                <a:solidFill>
                  <a:srgbClr val="000000"/>
                </a:solidFill>
                <a:uFillTx/>
                <a:latin typeface="Monotype Corsiva"/>
              </a:rPr>
              <a:t>,</a:t>
            </a:r>
            <a:br>
              <a:rPr sz="3600"/>
            </a:b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438280" y="838080"/>
            <a:ext cx="6248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портивная игра на травяном поле, в которой две противоборствующие команды ( 11 человек ), используя ведение и передачи мяча ногами или другой частью тела ( кроме рук ) стремятся забить его в ворота соперника и не пропустить в свои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pic>
        <p:nvPicPr>
          <p:cNvPr id="441" name="Picture 6" descr="футб1"/>
          <p:cNvPicPr/>
          <p:nvPr/>
        </p:nvPicPr>
        <p:blipFill>
          <a:blip r:embed="rId1"/>
          <a:stretch/>
        </p:blipFill>
        <p:spPr>
          <a:xfrm>
            <a:off x="0" y="228600"/>
            <a:ext cx="2079720" cy="2286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амер футб"/>
          <p:cNvPicPr/>
          <p:nvPr/>
        </p:nvPicPr>
        <p:blipFill>
          <a:blip r:embed="rId2"/>
          <a:stretch/>
        </p:blipFill>
        <p:spPr>
          <a:xfrm>
            <a:off x="6881760" y="4038480"/>
            <a:ext cx="2138400" cy="2381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0"/>
          <p:cNvSpPr/>
          <p:nvPr/>
        </p:nvSpPr>
        <p:spPr>
          <a:xfrm>
            <a:off x="304920" y="289548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Американский футбол,</a:t>
            </a:r>
            <a:endParaRPr b="0" lang="en-US" sz="5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4920" y="3819600"/>
            <a:ext cx="6400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портивная командная игра с овальным мячом на прямоугольной площадке, разделенной на 20 равных отрезков, в командах по 11 человек.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Цель игры – приземлить мяч за лицевую линию ворот (6 очков), попасть в створ ворот с игры (3 очка ), со штрафного (1 очко). Разрешены силовые приемы. Футболисты имеют защитное снаряжение.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волейбол1"/>
          <p:cNvPicPr/>
          <p:nvPr/>
        </p:nvPicPr>
        <p:blipFill>
          <a:blip r:embed="rId1"/>
          <a:stretch/>
        </p:blipFill>
        <p:spPr>
          <a:xfrm>
            <a:off x="228600" y="228600"/>
            <a:ext cx="2701800" cy="2286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648320" y="3429000"/>
            <a:ext cx="3808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47" name="Picture 9" descr="пляж волейбол"/>
          <p:cNvPicPr/>
          <p:nvPr/>
        </p:nvPicPr>
        <p:blipFill>
          <a:blip r:embed="rId2"/>
          <a:stretch/>
        </p:blipFill>
        <p:spPr>
          <a:xfrm>
            <a:off x="1614600" y="4065480"/>
            <a:ext cx="1724040" cy="1933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648320" y="5866920"/>
            <a:ext cx="304560" cy="2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28954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Волейбол - </a:t>
            </a:r>
            <a:endParaRPr b="0" lang="en-US" sz="4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3200400" y="6858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омандный вид спорта: две команды по шесть игроков ведут игру на площадке размерами 18 х 9 м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990720" y="32767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ляжный волейбол,</a:t>
            </a:r>
            <a:endParaRPr b="0" lang="en-US" sz="4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609480" y="419112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едставляет собой игру двух команд – по два игрока каждая – на песчаной игровой площадке, разделенной сеткой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баскетбол"/>
          <p:cNvPicPr/>
          <p:nvPr/>
        </p:nvPicPr>
        <p:blipFill>
          <a:blip r:embed="rId1"/>
          <a:stretch/>
        </p:blipFill>
        <p:spPr>
          <a:xfrm>
            <a:off x="162000" y="380880"/>
            <a:ext cx="2425680" cy="2743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теннис"/>
          <p:cNvPicPr/>
          <p:nvPr/>
        </p:nvPicPr>
        <p:blipFill>
          <a:blip r:embed="rId2"/>
          <a:stretch/>
        </p:blipFill>
        <p:spPr>
          <a:xfrm>
            <a:off x="228600" y="3505320"/>
            <a:ext cx="2511360" cy="28191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2817720" y="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Баскетбол -</a:t>
            </a:r>
            <a:endParaRPr b="0" lang="en-US" sz="4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743200" y="60948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то игра двух команд каждая из которых состоит из пяти игроков. Цель обеих команд – забросить мяч в корзину соперника и помешать другой команде овладеть мячом и забросить его в корзину. Мяч можно передавать, отбивать, бросать, катить или вести в любом направлении при условии соблюдения правил по баскетболу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2362320" y="34290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Теннис,</a:t>
            </a:r>
            <a:endParaRPr b="0" lang="en-US" sz="4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2819520" y="411480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портивная игра с мячом и ракеткой на специальной площадке – корте, разделенном посредине сеткой. 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2895480" y="5410080"/>
            <a:ext cx="54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Ударами ракетки мяч посылается через сетку на половину соперника т. о., чтобы тот не смог вернуть мяч обратно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бейс"/>
          <p:cNvPicPr/>
          <p:nvPr/>
        </p:nvPicPr>
        <p:blipFill>
          <a:blip r:embed="rId1"/>
          <a:stretch/>
        </p:blipFill>
        <p:spPr>
          <a:xfrm>
            <a:off x="228600" y="152280"/>
            <a:ext cx="1901880" cy="2133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гандбол"/>
          <p:cNvPicPr/>
          <p:nvPr/>
        </p:nvPicPr>
        <p:blipFill>
          <a:blip r:embed="rId2"/>
          <a:stretch/>
        </p:blipFill>
        <p:spPr>
          <a:xfrm>
            <a:off x="228600" y="4267080"/>
            <a:ext cx="2116080" cy="23623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1"/>
          <p:cNvSpPr/>
          <p:nvPr/>
        </p:nvSpPr>
        <p:spPr>
          <a:xfrm>
            <a:off x="243828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Бейсбол,</a:t>
            </a:r>
            <a:endParaRPr b="0" lang="en-US" sz="32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2209680" y="45720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портивная игра с мячом и битой, в которой две команды ( по 9 человек ) поочередно выполняют определенные правила атакующие и защитные действия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228600" y="2286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Игроки атакующей команды по очереди, стоя у базы, отбивают битой посланный к ним мяч и во время его полета перебегают от одной базы к другой, защищающиеся стремятся поймать мяч и попасть им в перебегающего противника. Команды  соревнуются за право подачи мяча и перебежки, чтобы, перебежав на одну базу, получить очко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3009960" y="4094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андбол,</a:t>
            </a:r>
            <a:endParaRPr b="0" lang="en-US" sz="4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2362320" y="4843440"/>
            <a:ext cx="601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омандная спортивная игра, в процессе которой две противоборствующие команды стремятся забросить в ворота соперника большее количество мячей и не пропустить в свои ( по 7 человек ).</a:t>
            </a:r>
            <a:endParaRPr b="0" lang="en-US" sz="20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хоккей на траве"/>
          <p:cNvPicPr/>
          <p:nvPr/>
        </p:nvPicPr>
        <p:blipFill>
          <a:blip r:embed="rId1"/>
          <a:stretch/>
        </p:blipFill>
        <p:spPr>
          <a:xfrm>
            <a:off x="334800" y="4249800"/>
            <a:ext cx="2019600" cy="1485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хоккей2"/>
          <p:cNvPicPr/>
          <p:nvPr/>
        </p:nvPicPr>
        <p:blipFill>
          <a:blip r:embed="rId2"/>
          <a:stretch/>
        </p:blipFill>
        <p:spPr>
          <a:xfrm>
            <a:off x="285840" y="990720"/>
            <a:ext cx="2038320" cy="15048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2819520" y="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Monotype Corsiva"/>
              </a:rPr>
              <a:t>Хоккей,</a:t>
            </a:r>
            <a:endParaRPr b="0" lang="en-US" sz="48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2819520" y="68580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портивная игра, заключающаяся в противоборстве двух команд, которые, передавая шайбу клюшками, стремятся забросить ее наибольшее количество раз в ворота соперника и не пропустить в свои ( 5 игроков )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2819520" y="342900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Хоккей на трав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портивная игра на травяном поле, в которой две противоборствующие команды ( по 11 человек ) за счет передач мяча партнеру клюшками стремится забить его в ворота соперника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боулинг"/>
          <p:cNvPicPr/>
          <p:nvPr/>
        </p:nvPicPr>
        <p:blipFill>
          <a:blip r:embed="rId1"/>
          <a:stretch/>
        </p:blipFill>
        <p:spPr>
          <a:xfrm>
            <a:off x="152280" y="228600"/>
            <a:ext cx="2171880" cy="2438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городки"/>
          <p:cNvPicPr/>
          <p:nvPr/>
        </p:nvPicPr>
        <p:blipFill>
          <a:blip r:embed="rId2"/>
          <a:stretch/>
        </p:blipFill>
        <p:spPr>
          <a:xfrm>
            <a:off x="152280" y="4267080"/>
            <a:ext cx="2175120" cy="2438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9"/>
          <p:cNvSpPr/>
          <p:nvPr/>
        </p:nvSpPr>
        <p:spPr>
          <a:xfrm>
            <a:off x="2514600" y="152280"/>
            <a:ext cx="60958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оулинг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портивная игра в шары, разновидность кеглей, сущность заключается в катании шаров по специальной деревянной дорожке с целью сбить установленные в виде треугольника 10 кеглей.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2895480" y="3657600"/>
            <a:ext cx="563904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ородки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усская народная спортивная игра. Выбивание палками с определенных расстояний из города пяти городков, составленных в виде различных фигур.</a:t>
            </a:r>
            <a:r>
              <a:rPr b="1" lang="ru-RU" sz="2400" spc="-1" strike="noStrike">
                <a:solidFill>
                  <a:srgbClr val="009900"/>
                </a:solidFill>
                <a:latin typeface="Georgia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transition spd="slow">
    <p:wipe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</dc:creator>
  <dc:description/>
  <dc:language>en-US</dc:language>
  <cp:lastModifiedBy>Dom</cp:lastModifiedBy>
  <dcterms:modified xsi:type="dcterms:W3CDTF">2020-04-28T08:18:43Z</dcterms:modified>
  <cp:revision>182</cp:revision>
  <dc:subject/>
  <dc:title>Спортивные иг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240000000000010243000207f6000400038000</vt:lpwstr>
  </property>
  <property fmtid="{D5CDD505-2E9C-101B-9397-08002B2CF9AE}" pid="3" name="Version">
    <vt:r8>1</vt:r8>
  </property>
</Properties>
</file>