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6F8-8468-4931-9ED6-069028F5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A31-32CC-4FB8-91E5-FE20525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59B-8293-4699-B36F-8D518E1C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FBD-FAD8-4162-B9CB-AE65F457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5FB-32BA-45BE-9A1D-E9AD2729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11C5-2145-4B47-BD5C-F3825CD8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7241-2962-402F-8B38-B4B71D0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4AC-4D8E-4A10-961D-1E1AADE3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F8F-4EE8-457B-8012-EF070F5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4D0B-FAE5-4DB5-AAA5-78DF9EC5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4EB-2F38-4468-B05A-C06004B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050-BA93-4223-9E74-D034F49D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23E7-A25A-49A3-864E-B1EDC1F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3BA-E8A0-444D-9C38-575268E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EA98-2D28-4FAC-AFCD-BEAECEA5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47F8-3077-4AFC-A18E-572191AF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8746-8764-4491-BA05-278EF081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87A-D939-4FD7-8DBB-06D3EF4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137-312C-4767-A19A-9A2AC70F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D9B-989D-43D9-884E-35D2F2A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767-BD62-40BB-9B0D-A205565E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88-17F7-4864-81B8-4A528AF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0E2-FFCD-43A1-A67C-9CD943C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E89-66D3-453E-A386-0195FAC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EFB-1CF7-4FE9-89F7-8A5499E60E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5CE-C164-4817-8301-C20E4AE1F1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1920" y="1676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Book Antiqua"/>
              </a:rPr>
              <a:t>Долой авторитет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Book Antiqua"/>
              </a:rPr>
              <a:t>или Формула жу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57200" y="3181320"/>
            <a:ext cx="22860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581280" y="75960"/>
            <a:ext cx="5486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Евгений Баз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86704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Нигилизм База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Прямая со стрелкой 4"/>
          <p:cNvCxnSpPr/>
          <p:nvPr/>
        </p:nvCxnSpPr>
        <p:spPr>
          <a:xfrm flipH="1">
            <a:off x="2142360" y="1071720"/>
            <a:ext cx="2429640" cy="42912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9" name="Прямая со стрелкой 6"/>
          <p:cNvCxnSpPr/>
          <p:nvPr/>
        </p:nvCxnSpPr>
        <p:spPr>
          <a:xfrm>
            <a:off x="4572000" y="1071360"/>
            <a:ext cx="2286720" cy="50076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0" name="TextBox 7"/>
          <p:cNvSpPr/>
          <p:nvPr/>
        </p:nvSpPr>
        <p:spPr>
          <a:xfrm>
            <a:off x="228600" y="183672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 Antiqua"/>
              </a:rPr>
              <a:t>   </a:t>
            </a:r>
            <a:r>
              <a:rPr b="1" i="1" lang="ru-RU" sz="3600" spc="-1" strike="noStrike">
                <a:solidFill>
                  <a:srgbClr val="632523"/>
                </a:solidFill>
                <a:latin typeface="Book Antiqua"/>
              </a:rPr>
              <a:t>+        «з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Положительные стороны мировоззрения гер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495680" y="1857240"/>
            <a:ext cx="393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632523"/>
                </a:solidFill>
                <a:latin typeface="Book Antiqua"/>
              </a:rPr>
              <a:t>--     «проти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Отрицательные стороны мировоззрения гер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500040" y="5716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Х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Х век   60-е гг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714920" y="357120"/>
            <a:ext cx="3929040" cy="82548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они новые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27120" y="157464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Смена вековых устое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42960" y="292896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емление к обра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286160" y="285768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ким должен быть образованный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8"/>
          <p:cNvCxnSpPr/>
          <p:nvPr/>
        </p:nvCxnSpPr>
        <p:spPr>
          <a:xfrm flipH="1">
            <a:off x="1998360" y="1071360"/>
            <a:ext cx="2160" cy="500760"/>
          </a:xfrm>
          <a:prstGeom prst="straightConnector1">
            <a:avLst/>
          </a:prstGeom>
          <a:ln w="284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8" name="Прямая со стрелкой 10"/>
          <p:cNvCxnSpPr>
            <a:stCxn id="124" idx="2"/>
            <a:endCxn id="125" idx="0"/>
          </p:cNvCxnSpPr>
          <p:nvPr/>
        </p:nvCxnSpPr>
        <p:spPr>
          <a:xfrm>
            <a:off x="2055960" y="2404800"/>
            <a:ext cx="16560" cy="524160"/>
          </a:xfrm>
          <a:prstGeom prst="straightConnector1">
            <a:avLst/>
          </a:prstGeom>
          <a:ln w="2844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9" name="Прямая со стрелкой 12"/>
          <p:cNvCxnSpPr/>
          <p:nvPr/>
        </p:nvCxnSpPr>
        <p:spPr>
          <a:xfrm flipV="1">
            <a:off x="3714840" y="713880"/>
            <a:ext cx="1000800" cy="21528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30" name="TextBox 13"/>
          <p:cNvSpPr/>
          <p:nvPr/>
        </p:nvSpPr>
        <p:spPr>
          <a:xfrm>
            <a:off x="4500720" y="142884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разночи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7"/>
          <p:cNvCxnSpPr/>
          <p:nvPr/>
        </p:nvCxnSpPr>
        <p:spPr>
          <a:xfrm flipH="1">
            <a:off x="5643360" y="1143000"/>
            <a:ext cx="2160" cy="35784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132" name="Прямая со стрелкой 19"/>
          <p:cNvCxnSpPr/>
          <p:nvPr/>
        </p:nvCxnSpPr>
        <p:spPr>
          <a:xfrm flipH="1">
            <a:off x="7071480" y="1071360"/>
            <a:ext cx="2520" cy="178668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133" name="Прямая со стрелкой 21"/>
          <p:cNvCxnSpPr/>
          <p:nvPr/>
        </p:nvCxnSpPr>
        <p:spPr>
          <a:xfrm>
            <a:off x="2714400" y="3285720"/>
            <a:ext cx="1500840" cy="25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triangle" w="med"/>
          </a:ln>
        </p:spPr>
      </p:cxnSp>
      <p:sp>
        <p:nvSpPr>
          <p:cNvPr id="134" name="TextBox 22"/>
          <p:cNvSpPr/>
          <p:nvPr/>
        </p:nvSpPr>
        <p:spPr>
          <a:xfrm>
            <a:off x="1357200" y="43578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заров – ниги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Book Antiqua"/>
              </a:rPr>
              <a:t>Базаров - доктор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295280"/>
            <a:ext cx="56390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Book Antiqua"/>
              </a:rPr>
              <a:t>Главный предмет его — естественные науки. Да он все знает. Он в будущем году хочет держать на докт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Book Antiqua"/>
              </a:rPr>
              <a:t>Я лягушку распластаю да посмотрю, что у нее там внутри делается; а так как мы с тобой те же лягушки, только что на ногах ходим, я и буду знать, что и у нас внутри делает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gavi-night-frog"/>
          <p:cNvPicPr/>
          <p:nvPr/>
        </p:nvPicPr>
        <p:blipFill>
          <a:blip r:embed="rId1"/>
          <a:stretch/>
        </p:blipFill>
        <p:spPr>
          <a:xfrm>
            <a:off x="6189840" y="4800600"/>
            <a:ext cx="259056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Picture 6" descr="&amp;Icy;&amp;lcy;&amp;lcy;&amp;yucy;&amp;scy;&amp;tcy;&amp;rcy;&amp;acy;&amp;tscy;&amp;icy;&amp;yacy; &amp;numero; 2 &amp;kcy; &amp;kcy;&amp;ncy;&amp;icy;&amp;gcy;&amp;iecy; &quot;&amp;Ocy;&amp;tcy;&amp;tscy;&amp;ycy; &amp;icy; &amp;dcy;&amp;iecy;&amp;tcy;&amp;icy;: &amp;rcy;&amp;ocy;&amp;mcy;&amp;acy;&amp;ncy;&quot;, &amp;fcy;&amp;ocy;&amp;tcy;&amp;ocy;&amp;gcy;&amp;rcy;&amp;acy;&amp;fcy;&amp;icy;&amp;yacy;, &amp;icy;&amp;zcy;&amp;ocy;&amp;bcy;&amp;rcy;&amp;acy;&amp;zhcy;&amp;iecy;&amp;ncy;&amp;icy;&amp;iecy;, &amp;kcy;&amp;acy;&amp;rcy;&amp;tcy;&amp;icy;&amp;ncy;&amp;kcy;&amp;acy;"/>
          <p:cNvPicPr/>
          <p:nvPr/>
        </p:nvPicPr>
        <p:blipFill>
          <a:blip r:embed="rId2"/>
          <a:stretch/>
        </p:blipFill>
        <p:spPr>
          <a:xfrm>
            <a:off x="6172200" y="762120"/>
            <a:ext cx="25970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Нигилизм База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Мы действуем в силу того, что мы признаём полезным, – промолвил Базаров. – В теперешнее время полезнее всего отрицание – мы отрица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– 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Вс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– 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Вс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– 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Как? не только искусство, поэзию… но и… страшно вымолвить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– 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Все, – с невыразимым спокойствием повторил Базар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8" descr="slowoslyshannoenerastworennoeweroj-10"/>
          <p:cNvPicPr/>
          <p:nvPr/>
        </p:nvPicPr>
        <p:blipFill>
          <a:blip r:embed="rId1"/>
          <a:stretch/>
        </p:blipFill>
        <p:spPr>
          <a:xfrm>
            <a:off x="4952880" y="990720"/>
            <a:ext cx="3405240" cy="495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на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447560"/>
            <a:ext cx="6095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науки, как есть ремесла, звания; а наука вообще не существует вов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чный химик в двадцать раз полезнее всякого поэ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 то, что дважды два четы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остальное все пустя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да не храм, а мастерская, и человек в ней работни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&amp;shcy;&amp;icy;&amp;shcy;&amp;kcy;&amp;icy;&amp;ncy;, &amp;vcy; &amp;lcy;&amp;iecy;&amp;scy;&amp;ucy;, &amp;kcy;&amp;acy;&amp;rcy;&amp;tcy;&amp;icy;&amp;ncy;&amp;acy;, gdefon"/>
          <p:cNvPicPr/>
          <p:nvPr/>
        </p:nvPicPr>
        <p:blipFill>
          <a:blip r:embed="rId1"/>
          <a:stretch/>
        </p:blipFill>
        <p:spPr>
          <a:xfrm>
            <a:off x="4648320" y="3276720"/>
            <a:ext cx="4038480" cy="320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0010-010-I"/>
          <p:cNvPicPr/>
          <p:nvPr/>
        </p:nvPicPr>
        <p:blipFill>
          <a:blip r:embed="rId2"/>
          <a:stretch/>
        </p:blipFill>
        <p:spPr>
          <a:xfrm>
            <a:off x="533520" y="2590920"/>
            <a:ext cx="2795400" cy="39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 искусст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фаэль гроша медного не сто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усство наживать деньги,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более гемороя!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шкина читает. Ведь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мальчик: пора бросить э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рун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250px-Sanzio_00"/>
          <p:cNvPicPr/>
          <p:nvPr/>
        </p:nvPicPr>
        <p:blipFill>
          <a:blip r:embed="rId1"/>
          <a:stretch/>
        </p:blipFill>
        <p:spPr>
          <a:xfrm>
            <a:off x="6485040" y="76320"/>
            <a:ext cx="238104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000091"/>
          <p:cNvPicPr/>
          <p:nvPr/>
        </p:nvPicPr>
        <p:blipFill>
          <a:blip r:embed="rId2"/>
          <a:stretch/>
        </p:blipFill>
        <p:spPr>
          <a:xfrm>
            <a:off x="6513480" y="3505320"/>
            <a:ext cx="235440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люб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&amp;Icy;&amp;lcy;&amp;lcy;&amp;yucy;&amp;scy;&amp;tcy;&amp;rcy;&amp;acy;&amp;tscy;&amp;icy;&amp;yacy; &amp;numero; 3 &amp;kcy; &amp;kcy;&amp;ncy;&amp;icy;&amp;gcy;&amp;iecy; &quot;&amp;Ocy;&amp;tcy;&amp;tscy;&amp;ycy; &amp;icy; &amp;dcy;&amp;iecy;&amp;tcy;&amp;icy;: &amp;rcy;&amp;ocy;&amp;mcy;&amp;acy;&amp;ncy;&quot;, &amp;fcy;&amp;ocy;&amp;tcy;&amp;ocy;&amp;gcy;&amp;rcy;&amp;acy;&amp;fcy;&amp;icy;&amp;yacy;, &amp;icy;&amp;zcy;&amp;ocy;&amp;bcy;&amp;rcy;&amp;acy;&amp;zhcy;&amp;iecy;&amp;ncy;&amp;icy;&amp;iecy;, &amp;kcy;&amp;acy;&amp;rcy;&amp;tcy;&amp;icy;&amp;ncy;&amp;kcy;&amp;acy;"/>
          <p:cNvPicPr/>
          <p:nvPr/>
        </p:nvPicPr>
        <p:blipFill>
          <a:blip r:embed="rId1"/>
          <a:stretch/>
        </p:blipFill>
        <p:spPr>
          <a:xfrm>
            <a:off x="228600" y="1371600"/>
            <a:ext cx="3017880" cy="4678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191120" y="1447560"/>
            <a:ext cx="44956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что за таинственные отношения между мужчиной и женщиной? Мы, физиологи, знаем, какие это отношения. Ты проштудируй-ка анатомию глаза: откуда тут взяться, как ты говоришь, загадочному взгляду? Это все романтизм, чепуха, гниль, художе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513680" y="1665360"/>
            <a:ext cx="6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равится тебе женщина, старайся добиться толку; а нельзя — ну, не надо, отвернись — земля не клином сошлас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заров считал рыцарск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а чем-то вро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дства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и не однажд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л свое удивл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не посад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желтый дом Тогген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 всеми миннезинге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рубадурам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7" descr="trovatore_poster"/>
          <p:cNvPicPr/>
          <p:nvPr/>
        </p:nvPicPr>
        <p:blipFill>
          <a:blip r:embed="rId1"/>
          <a:stretch/>
        </p:blipFill>
        <p:spPr>
          <a:xfrm>
            <a:off x="5486400" y="685800"/>
            <a:ext cx="35416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воспи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який человек сам себя воспитать долж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что касается до времени – отчего я от него зависеть буду? Пускай же лучше оно зависит от ме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помочь нельзя, о том и говорить сты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ий человек  тот, о котором думать нечего, а которого надобно слушаться или ненавиде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cd5b5">
              <a:alpha val="4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Евгений База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052640"/>
            <a:ext cx="4332240" cy="5472000"/>
          </a:xfrm>
          <a:prstGeom prst="rect">
            <a:avLst/>
          </a:prstGeom>
          <a:solidFill>
            <a:srgbClr val="fdeada">
              <a:alpha val="5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заров противопоставлен всем действующим лицам. </a:t>
            </a:r>
            <a:r>
              <a:rPr b="0" lang="ru-RU" sz="2000" spc="-1" strike="noStrike">
                <a:solidFill>
                  <a:srgbClr val="ff0000"/>
                </a:solidFill>
                <a:latin typeface="Bookman Old Style"/>
              </a:rPr>
              <a:t>Он человек ин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Bookman Old Style"/>
              </a:rPr>
              <a:t>среды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и это проявляется в его взглядах, словах, во взаимоотношениях с другом, любимой, родит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нами </a:t>
            </a:r>
            <a:r>
              <a:rPr b="0" lang="ru-RU" sz="2000" spc="-1" strike="noStrike">
                <a:solidFill>
                  <a:srgbClr val="ff0000"/>
                </a:solidFill>
                <a:latin typeface="Bookman Old Style"/>
              </a:rPr>
              <a:t>человек дела, труд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не считающий нужным соблюдать правила «хорошего тона», столь существенные в дворянском быту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index_"/>
          <p:cNvPicPr/>
          <p:nvPr/>
        </p:nvPicPr>
        <p:blipFill>
          <a:blip r:embed="rId1"/>
          <a:srcRect l="0" t="0" r="0" b="11514"/>
          <a:stretch/>
        </p:blipFill>
        <p:spPr>
          <a:xfrm>
            <a:off x="4952880" y="1219320"/>
            <a:ext cx="3924360" cy="496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России и  русском на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сский человек только тем и хорош, что он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ам о себе прескверного мне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нужен России… Нет, видно, не нужен. Да и кто нужен?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апожник нужен, портной нужен, мясник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он жить в белой избе, а из меня лопух расти будет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rcRect l="26239" t="0" r="25951" b="0"/>
          <a:stretch/>
        </p:blipFill>
        <p:spPr>
          <a:xfrm>
            <a:off x="5486400" y="1447920"/>
            <a:ext cx="281772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9120" y="76320"/>
            <a:ext cx="864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Что отрицает База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О народе"/>
          <p:cNvPicPr/>
          <p:nvPr/>
        </p:nvPicPr>
        <p:blipFill>
          <a:blip r:embed="rId1"/>
          <a:srcRect l="26693" t="13123" r="16042" b="13123"/>
          <a:stretch/>
        </p:blipFill>
        <p:spPr>
          <a:xfrm>
            <a:off x="301680" y="1066680"/>
            <a:ext cx="2523960" cy="26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6" name="Text Box 7"/>
          <p:cNvSpPr/>
          <p:nvPr/>
        </p:nvSpPr>
        <p:spPr>
          <a:xfrm>
            <a:off x="3124080" y="1055520"/>
            <a:ext cx="5919840" cy="5946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«в теперешнее время» самодержавно-крепостнический строй и религию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искусство за непрактичность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аристократизм (как право группы)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пустословие, безделие либералов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поверхностность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брак (как юридические отношения)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романтику чувств ( в том числе любви)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природ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отвлечённую теоретическую науку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автор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гилисты в «Отцах и детях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809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таринный знакомый Евгения Васильича и могу сказать — его ученик. Я ему обязан моим перерождением..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mancipee в истинном смысле слова, передовая женщ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зовите фамилии этих герое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10" descr="&amp;Ocy;&amp;tcy;&amp;tscy;&amp;ycy; &amp;icy; &amp;dcy;&amp;iecy;&amp;tcy;&amp;icy;"/>
          <p:cNvPicPr/>
          <p:nvPr/>
        </p:nvPicPr>
        <p:blipFill>
          <a:blip r:embed="rId1"/>
          <a:stretch/>
        </p:blipFill>
        <p:spPr>
          <a:xfrm>
            <a:off x="4572000" y="1523880"/>
            <a:ext cx="4019400" cy="27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3886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торой половине XIX века нигилистами в Российской империи стали называть молодых людей, которые хотели изменить существовавший в стране государственный и общественный строй, отрицали религию, проповедовали материализм и атеизм, а также не признавали господствовавшие нормы морали (выступали за свободную любовь и т. п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астности, так называли революционеров-народников. Слово имело явную негативную коннотацию. Нигилисты изображались как лохматые, нечёсаные, грязные мужчины и утратившие всякую женственность женщ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repin_48"/>
          <p:cNvPicPr/>
          <p:nvPr/>
        </p:nvPicPr>
        <p:blipFill>
          <a:blip r:embed="rId1"/>
          <a:stretch/>
        </p:blipFill>
        <p:spPr>
          <a:xfrm>
            <a:off x="5029200" y="304920"/>
            <a:ext cx="3505320" cy="23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5105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концу 1860-х и началу 1870-х гг. слово «нигилист» почти исчезло из русской полемической литературы, но стало употребляться в западноевропейской литературе как обозначение русского революционного движения; его приняли и некоторые русские эмигранты, писавшие на иностранных языках о русском революционном движении. В 1884 году была издана повесть Софьи Ковалевской «Нигилист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240px-Sofja_Wassiljewna_Kowalewskaja_1"/>
          <p:cNvPicPr/>
          <p:nvPr/>
        </p:nvPicPr>
        <p:blipFill>
          <a:blip r:embed="rId1"/>
          <a:stretch/>
        </p:blipFill>
        <p:spPr>
          <a:xfrm>
            <a:off x="6324480" y="1447920"/>
            <a:ext cx="228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елове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ть отдельные личности не стоит труда. Все люди друг на друга похожи как телом, так и душой; у каждого из нас мозг, селезенка, сердце, легкие одинаково устроены; и так называемые нравственные качества одни и те же у всех: небольшие видоизменения ничего не значат. Достаточно одного человеческого экземпляра, чтобы судить обо всех других. Люди, что деревья в лесу; ни один ботаник не станет заниматься каждою отдельною берез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berezovaya_roshcha"/>
          <p:cNvPicPr/>
          <p:nvPr/>
        </p:nvPicPr>
        <p:blipFill>
          <a:blip r:embed="rId1"/>
          <a:stretch/>
        </p:blipFill>
        <p:spPr>
          <a:xfrm>
            <a:off x="5486400" y="1447920"/>
            <a:ext cx="342576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жение База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1814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енькое местечко, которое я занимаю, до того крохотно в сравнении с остальным пространством, где меня нет и где дела до меня нет; и часть времени, которую мне удастся прожить, так ничтожна перед вечностию, где меня не было и не будет… А в этом атоме, в этой математической точке кровь обращается, мозг работает, чего-то хочет тоже… Что за безобразие! Что за пустяк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0" descr="&amp;Icy;&amp;lcy;&amp;lcy;&amp;yucy;&amp;scy;&amp;tcy;&amp;rcy;&amp;acy;&amp;tscy;&amp;icy;&amp;yacy; &amp;numero; 4 &amp;kcy; &amp;kcy;&amp;ncy;&amp;icy;&amp;gcy;&amp;iecy; &quot;&amp;Ocy;&amp;tcy;&amp;tscy;&amp;ycy; &amp;icy; &amp;dcy;&amp;iecy;&amp;tcy;&amp;icy;: &amp;rcy;&amp;ocy;&amp;mcy;&amp;acy;&amp;ncy;&quot;, &amp;fcy;&amp;ocy;&amp;tcy;&amp;ocy;&amp;gcy;&amp;rcy;&amp;acy;&amp;fcy;&amp;icy;&amp;yacy;, &amp;icy;&amp;zcy;&amp;ocy;&amp;bcy;&amp;rcy;&amp;acy;&amp;zhcy;&amp;iecy;&amp;ncy;&amp;icy;&amp;iecy;, &amp;kcy;&amp;acy;&amp;rcy;&amp;tcy;&amp;icy;&amp;ncy;&amp;kcy;&amp;acy;"/>
          <p:cNvPicPr/>
          <p:nvPr/>
        </p:nvPicPr>
        <p:blipFill>
          <a:blip r:embed="rId1"/>
          <a:stretch/>
        </p:blipFill>
        <p:spPr>
          <a:xfrm>
            <a:off x="6261120" y="1143000"/>
            <a:ext cx="2882880" cy="46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ерть Базар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осмотрите, что за безобразное зрелище: червяк полураздавленный, а еще топорщится. И ведь тоже думал: обломаю дел много, не умру, куда! задача есть, ведь я гигант! А теперь вся задача гиганта – как бы умереть прилично, хотя никому до этого дела нет… Все равно: вилять хвостом не ста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4" descr="&amp;Icy;&amp;lcy;&amp;lcy;&amp;yucy;&amp;scy;&amp;tcy;&amp;rcy;&amp;acy;&amp;tscy;&amp;icy;&amp;yacy; &amp;numero; 8 &amp;kcy; &amp;kcy;&amp;ncy;&amp;icy;&amp;gcy;&amp;iecy; &quot;&amp;Ocy;&amp;tcy;&amp;tscy;&amp;ycy; &amp;icy; &amp;dcy;&amp;iecy;&amp;tcy;&amp;icy;: &amp;rcy;&amp;ocy;&amp;mcy;&amp;acy;&amp;ncy;&quot;, &amp;fcy;&amp;ocy;&amp;tcy;&amp;ocy;&amp;gcy;&amp;rcy;&amp;acy;&amp;fcy;&amp;icy;&amp;yacy;, &amp;icy;&amp;zcy;&amp;ocy;&amp;bcy;&amp;rcy;&amp;acy;&amp;zhcy;&amp;iecy;&amp;ncy;&amp;icy;&amp;iecy;, &amp;kcy;&amp;acy;&amp;rcy;&amp;tcy;&amp;icy;&amp;ncy;&amp;kcy;&amp;acy;"/>
          <p:cNvPicPr/>
          <p:nvPr/>
        </p:nvPicPr>
        <p:blipFill>
          <a:blip r:embed="rId1"/>
          <a:stretch/>
        </p:blipFill>
        <p:spPr>
          <a:xfrm>
            <a:off x="5638680" y="1295280"/>
            <a:ext cx="32259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61760" y="837720"/>
            <a:ext cx="37335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ньте на умирающую лампаду, и пусть она погаснет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5" descr="lampada"/>
          <p:cNvPicPr/>
          <p:nvPr/>
        </p:nvPicPr>
        <p:blipFill>
          <a:blip r:embed="rId1"/>
          <a:stretch/>
        </p:blipFill>
        <p:spPr>
          <a:xfrm>
            <a:off x="4876920" y="838080"/>
            <a:ext cx="36590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240" y="380520"/>
            <a:ext cx="38098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жели их молитвы, их слезы бесплодны? Неужели любовь, святая, преданная любовь не всесильна? О нет! Какое бы страстное, грешное, бунтующее сердце ни скрылось в могиле, цветы, растущие на ней, безмятежно глядят на нас своими невинными глазами: не об одном вечном спокойствии говорят нам они, о том великом спокойствии «равнодушной» природы; они говорят также о вечном примирении и о жизни бесконеч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9" descr="1334-16"/>
          <p:cNvPicPr/>
          <p:nvPr/>
        </p:nvPicPr>
        <p:blipFill>
          <a:blip r:embed="rId1"/>
          <a:stretch/>
        </p:blipFill>
        <p:spPr>
          <a:xfrm>
            <a:off x="4495680" y="457200"/>
            <a:ext cx="43815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Нигилизм – эт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28760" y="1143000"/>
            <a:ext cx="8358120" cy="7489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(от лат, </a:t>
            </a: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nihi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– «</a:t>
            </a:r>
            <a:r>
              <a:rPr b="1" i="1" lang="ru-RU" sz="2400" spc="-1" strike="noStrike">
                <a:solidFill>
                  <a:srgbClr val="cc3300"/>
                </a:solidFill>
                <a:latin typeface="Book Antiqua"/>
              </a:rPr>
              <a:t>ничто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») отрицание общепринятых ценностей: идеалов, моральных норм, культуры, форм общественой жизни.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 (Большой энциклопедически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i="1" lang="ru-RU" sz="2400" spc="-1" strike="noStrike">
                <a:solidFill>
                  <a:srgbClr val="17375e"/>
                </a:solidFill>
                <a:latin typeface="Book Antiqua"/>
              </a:rPr>
              <a:t>«безобразное и безнравственное учение, отвергающее все, чего нельзя ощупать».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(Толковый словарь В.Да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«голое отрицание всего, логически неоправданный скептицизм»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(Толковый словарь русского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- «</a:t>
            </a:r>
            <a:r>
              <a:rPr b="1" i="1" lang="ru-RU" sz="2400" spc="-1" strike="noStrike">
                <a:solidFill>
                  <a:srgbClr val="17375e"/>
                </a:solidFill>
                <a:latin typeface="Book Antiqua"/>
              </a:rPr>
              <a:t>философия скептицизма, которая возникла в России в </a:t>
            </a:r>
            <a:r>
              <a:rPr b="1" i="1" lang="en-US" sz="2400" spc="-1" strike="noStrike">
                <a:solidFill>
                  <a:srgbClr val="17375e"/>
                </a:solidFill>
                <a:latin typeface="Book Antiqua"/>
              </a:rPr>
              <a:t>XIX </a:t>
            </a:r>
            <a:r>
              <a:rPr b="1" i="1" lang="ru-RU" sz="2400" spc="-1" strike="noStrike">
                <a:solidFill>
                  <a:srgbClr val="17375e"/>
                </a:solidFill>
                <a:latin typeface="Book Antiqua"/>
              </a:rPr>
              <a:t>веке в начале правления Александра </a:t>
            </a:r>
            <a:r>
              <a:rPr b="1" i="1" lang="en-US" sz="2400" spc="-1" strike="noStrike">
                <a:solidFill>
                  <a:srgbClr val="17375e"/>
                </a:solidFill>
                <a:latin typeface="Book Antiqua"/>
              </a:rPr>
              <a:t>II</a:t>
            </a:r>
            <a:r>
              <a:rPr b="1" i="1" lang="ru-RU" sz="2400" spc="-1" strike="noStrike">
                <a:solidFill>
                  <a:srgbClr val="17375e"/>
                </a:solidFill>
                <a:latin typeface="Book Antiqua"/>
              </a:rPr>
              <a:t>. Ранее этот термин применялся к некоторым ересям в Средние века. В русской литературе термин нигилизм был впервые использован Н. Надеждиным в статье в «Вестнике Европы».</a:t>
            </a:r>
            <a:r>
              <a:rPr b="0" i="1" lang="ru-RU" sz="2400" spc="-1" strike="noStrike">
                <a:solidFill>
                  <a:srgbClr val="17375e"/>
                </a:solidFill>
                <a:latin typeface="Book Antiqu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(М. Кат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4"/>
          <p:cNvSpPr/>
          <p:nvPr/>
        </p:nvSpPr>
        <p:spPr>
          <a:xfrm>
            <a:off x="4608360" y="1562040"/>
            <a:ext cx="1428840" cy="180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6"/>
          <p:cNvSpPr/>
          <p:nvPr/>
        </p:nvSpPr>
        <p:spPr>
          <a:xfrm>
            <a:off x="3143160" y="2786040"/>
            <a:ext cx="3286080" cy="144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>
            <a:off x="1214280" y="4100400"/>
            <a:ext cx="1928880" cy="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1447920" y="4645080"/>
            <a:ext cx="3671640" cy="0"/>
          </a:xfrm>
          <a:prstGeom prst="line">
            <a:avLst/>
          </a:prstGeom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920" y="20574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«Нигилист – это человек, который не склоняется ни перед какими авторитетами, который не принимает ни одного принципа на веру, каким бы уважением ни был окружен этот принцип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И.С. Тургенев                               «Отцы и дет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8" descr="slowoslyshannoenerastworennoeweroj-10"/>
          <p:cNvPicPr/>
          <p:nvPr/>
        </p:nvPicPr>
        <p:blipFill>
          <a:blip r:embed="rId1"/>
          <a:stretch/>
        </p:blipFill>
        <p:spPr>
          <a:xfrm>
            <a:off x="5334120" y="380880"/>
            <a:ext cx="340524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Нигилизм в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3657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В русской литературе слово «нигилизм» впервые было употреблено Н. И. Надеждиным в статье «Сонмище нигилистов» (журнал «Вестник Европы», 1829 год). В 1858 г. вышла книга казанского профессора В. В. Берви «Психологический сравнительный взгляд на начало и конец жизни». В ней тоже употребляется слово «нигилизм» как синоним скептиц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File:Vasilij V. Bervi-Flerovskij.jpg"/>
          <p:cNvPicPr/>
          <p:nvPr/>
        </p:nvPicPr>
        <p:blipFill>
          <a:blip r:embed="rId1"/>
          <a:stretch/>
        </p:blipFill>
        <p:spPr>
          <a:xfrm>
            <a:off x="5181480" y="1143000"/>
            <a:ext cx="347832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457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Первый нигил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3886200"/>
            <a:ext cx="586728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Огромное впечатление, произведённое «Отцами и детьми», сделало крылатым и термин «нигилист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52680" y="60912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Критик и публицист Н. А. Добролюбов подхватил это слово, но оно не стало популярным до тех пор, пока И. С. Тургенев в романе «Отцы и дети» (1862) не назвал «нигилистом» Базарова, отрицавшего взгляды «отцов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Dobrolyubov.jpg"/>
          <p:cNvPicPr/>
          <p:nvPr/>
        </p:nvPicPr>
        <p:blipFill>
          <a:blip r:embed="rId1"/>
          <a:stretch/>
        </p:blipFill>
        <p:spPr>
          <a:xfrm>
            <a:off x="533520" y="609480"/>
            <a:ext cx="2625480" cy="29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20" descr="&amp;Bcy;&amp;acy;&amp;zcy;&amp;acy;&amp;rcy;&amp;ocy;&amp;vcy;. &amp;Icy;&amp;lcy;&amp;lcy;&amp;yucy;&amp;scy;&amp;tcy;&amp;rcy;&amp;acy;&amp;tscy;&amp;icy;&amp;yacy; &amp;Kcy;.&amp;Icy;. &amp;Rcy;&amp;ucy;&amp;dcy;&amp;acy;&amp;kcy;&amp;ocy;&amp;vcy;&amp;acy;. 1946 &amp;gcy;."/>
          <p:cNvPicPr/>
          <p:nvPr/>
        </p:nvPicPr>
        <p:blipFill>
          <a:blip r:embed="rId2"/>
          <a:stretch/>
        </p:blipFill>
        <p:spPr>
          <a:xfrm>
            <a:off x="6477120" y="3352680"/>
            <a:ext cx="2286000" cy="325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В своих воспоминаниях Тургенев рассказывал, что когда он вернулся в Петербург после выхода в свет его романа — а это случилось во время известных петербургских пожаров 1862, — то слово «нигилист» уже было подхвачено мног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ервое восклицание, вырвавшееся из уст первого знакомого, встреченного Тургеневым, было: «Посмотрите, что ваши нигилисты делают: жгут Петербург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Image #1383233, 128.8 KB"/>
          <p:cNvPicPr/>
          <p:nvPr/>
        </p:nvPicPr>
        <p:blipFill>
          <a:blip r:embed="rId1"/>
          <a:stretch/>
        </p:blipFill>
        <p:spPr>
          <a:xfrm>
            <a:off x="4267080" y="3505320"/>
            <a:ext cx="4114800" cy="30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4360" y="260280"/>
            <a:ext cx="784836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Возникновение  образа База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obrolyub"/>
          <p:cNvPicPr/>
          <p:nvPr/>
        </p:nvPicPr>
        <p:blipFill>
          <a:blip r:embed="rId1"/>
          <a:stretch/>
        </p:blipFill>
        <p:spPr>
          <a:xfrm>
            <a:off x="6756480" y="2666880"/>
            <a:ext cx="215892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 Box 7"/>
          <p:cNvSpPr/>
          <p:nvPr/>
        </p:nvSpPr>
        <p:spPr>
          <a:xfrm>
            <a:off x="7010280" y="5407200"/>
            <a:ext cx="2016360" cy="33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Н.А. Добролю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imgB"/>
          <p:cNvPicPr/>
          <p:nvPr/>
        </p:nvPicPr>
        <p:blipFill>
          <a:blip r:embed="rId2"/>
          <a:stretch/>
        </p:blipFill>
        <p:spPr>
          <a:xfrm>
            <a:off x="152280" y="1219320"/>
            <a:ext cx="2187720" cy="321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 Box 9"/>
          <p:cNvSpPr/>
          <p:nvPr/>
        </p:nvSpPr>
        <p:spPr>
          <a:xfrm>
            <a:off x="2666880" y="1219320"/>
            <a:ext cx="57610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 Antiqua"/>
              </a:rPr>
              <a:t>Тургенев о Базарове: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«Нигилист. Самоуверен, говорит отрывисто и немного – работящ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438280" y="2590920"/>
            <a:ext cx="419112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Образ создан на основе смешения индивидуальных психологических качеств следующих людей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- Добролюбов – критик и публицист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- Павлов – провинциальный врач (знаком с Тургеневым с 1853 года), позже стал литературоведом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- Преображенский – институтский товарищ Добролюбова, один из авторов журнала «Современ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50920" y="152280"/>
            <a:ext cx="864216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Программа нигилизм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X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гла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50920" y="1371600"/>
            <a:ext cx="4027320" cy="253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 Antiqua"/>
              </a:rPr>
              <a:t>Отношение База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к общественному устройст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русскому нар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искусст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люб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 Antiqua"/>
              </a:rPr>
              <a:t>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Споры"/>
          <p:cNvPicPr/>
          <p:nvPr/>
        </p:nvPicPr>
        <p:blipFill>
          <a:blip r:embed="rId1"/>
          <a:srcRect l="2100" t="13123" r="2100" b="13123"/>
          <a:stretch/>
        </p:blipFill>
        <p:spPr>
          <a:xfrm>
            <a:off x="2828880" y="2743200"/>
            <a:ext cx="60609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 33</dc:creator>
  <dc:description/>
  <dc:language>en-US</dc:language>
  <cp:lastModifiedBy>Кабинет 33</cp:lastModifiedBy>
  <dcterms:modified xsi:type="dcterms:W3CDTF">2017-12-11T12:37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