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52BD-17D4-4DE2-BD4A-59A4218B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CEAD-2008-4149-8789-0EFBFB5E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D717-C483-43F7-9053-96E49CDF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9419-ED41-42D4-93CA-7191A93C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D31D-098B-442D-96CB-53F7EF90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9EE2-D6F3-4364-B4E3-CD04F868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E220-16C5-44AE-B23C-4BDCC15C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7B46-457D-4219-A34E-91EEA6A1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B1E0-4EC1-4B67-83DD-44F0C209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ADA2-8887-4197-AE6A-78EC4FD5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974B-4BE3-4056-8613-5E9FF825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029C-5439-49E1-B771-DF0EFB68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44CD-889C-4F65-9A98-612003AC42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nasledie.by.ru/index33.gif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371600" y="533520"/>
            <a:ext cx="62006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нет мне ответа..."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5280" y="304812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Слово о Викторе Астафье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228600" y="0"/>
            <a:ext cx="35053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В Чусовом Астафьев работал слесарем, подсобным рабочим кладовщ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В 1951 году в газете «Чусовской рабочий» опубликован первый рассказ Астафьева </a:t>
            </a:r>
            <a:r>
              <a:rPr b="1" lang="ru-RU" sz="2400" spc="-1" strike="noStrike" u="sng">
                <a:solidFill>
                  <a:srgbClr val="666633"/>
                </a:solidFill>
                <a:uFillTx/>
                <a:latin typeface="Arial"/>
              </a:rPr>
              <a:t>«Гражданский человек».</a:t>
            </a: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С 1951 года работал в редакции этой газеты, Первая его книга «До будущей весны» вышла в Перми в 1953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i_021"/>
          <p:cNvPicPr/>
          <p:nvPr/>
        </p:nvPicPr>
        <p:blipFill>
          <a:blip r:embed="rId1"/>
          <a:stretch/>
        </p:blipFill>
        <p:spPr>
          <a:xfrm>
            <a:off x="4419720" y="685800"/>
            <a:ext cx="380988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0" y="152280"/>
            <a:ext cx="3429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6633"/>
                </a:solidFill>
                <a:uFillTx/>
                <a:latin typeface="Arial"/>
              </a:rPr>
              <a:t>Рома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«До будущей весны» (195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«Тают снега»(195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«Прокляты                    и убиты» (199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6633"/>
                </a:solidFill>
                <a:uFillTx/>
                <a:latin typeface="Arial"/>
              </a:rPr>
              <a:t>Пове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«Перевал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«Звездопад» (197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«Кража» (196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«Где-то гремит война» (196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«Последний поклон» (196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«Царь-рыба» (197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476522"/>
          <p:cNvPicPr/>
          <p:nvPr/>
        </p:nvPicPr>
        <p:blipFill>
          <a:blip r:embed="rId1"/>
          <a:stretch/>
        </p:blipFill>
        <p:spPr>
          <a:xfrm>
            <a:off x="2895480" y="129528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8"/>
          <p:cNvSpPr/>
          <p:nvPr/>
        </p:nvSpPr>
        <p:spPr>
          <a:xfrm>
            <a:off x="5791320" y="762120"/>
            <a:ext cx="3352680" cy="61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«Печальный детектив» (198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Пастух и пастушка» (1967—1971—198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«Людочка» (19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«Так хочется жить» (199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«Обертон» (199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«Из тихого света»  (1997) (попытка исповед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«Весёлый солдат» (199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6633"/>
                </a:solidFill>
                <a:uFillTx/>
                <a:latin typeface="Arial"/>
              </a:rPr>
              <a:t>Пье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«Прости меня» (198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352680" y="15228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ПРОИЗВЕДЕНИЯ ВИКТОРА АСТАФЬ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0" y="45720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В 1975 году за повести «Перевал», «Последний поклон», «Кража», «Пастух и пастушка» В. П. Астафьеву была присуждена Государственная премия РСФСР имени М. Горь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В 1978 году за повествование в рассказах «Царь-рыба» В. П. Астафьев был удостоен Государственной премии ССС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В 1989 году В. П. Астафьеву присвоено звание Героя Социалистического Тр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В 1995 году за роман «Прокляты и убиты» В. П. Астафьев был удостоен Государственной премии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В 1997 году писателю присуждена Международная Пушкинская премия, а в 1998 году он удостоен премии «За честь и достоинство таланта» Международного литфон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В конце 1998 года В. П. Астафьеву присуждена премия Академии русской современной слове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981080" y="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33"/>
                </a:solidFill>
                <a:latin typeface="Arial"/>
              </a:rPr>
              <a:t>Высокие награ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%D0%9F%D0%B0%D0%BC%D1%8F%D1%82%D0%BD%D0%B8%D0%BA_%D0%92%D0%B8%D0%BA%D1%82%D0%BE%D1%80%D1%83_%D0%9F%D0%B5%D1%82%D1%80%D0%BE%D0%B2%D0%B8%D1%87%D1%83_%D0%90%D1%81%D1%82%D0%B0%D1%84%D1%8C%D0%B5%D0%B2%D1%83_%D0%B2_%D0%9A%D1%80%D0%B0%D1%81%D0%BD%D0%BE%D1%8F%D1%80%D1%81%D0%BA%D0%B5"/>
          <p:cNvPicPr/>
          <p:nvPr/>
        </p:nvPicPr>
        <p:blipFill>
          <a:blip r:embed="rId1"/>
          <a:stretch/>
        </p:blipFill>
        <p:spPr>
          <a:xfrm>
            <a:off x="152280" y="152280"/>
            <a:ext cx="4724640" cy="35434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6"/>
          <p:cNvSpPr/>
          <p:nvPr/>
        </p:nvSpPr>
        <p:spPr>
          <a:xfrm>
            <a:off x="457200" y="393372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Памятник В. П. Астафьеву в Красноярске (200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Скульптор Игорь Линевич-Явор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astafiev1"/>
          <p:cNvPicPr/>
          <p:nvPr/>
        </p:nvPicPr>
        <p:blipFill>
          <a:blip r:embed="rId2"/>
          <a:stretch/>
        </p:blipFill>
        <p:spPr>
          <a:xfrm>
            <a:off x="5153040" y="1066680"/>
            <a:ext cx="3990960" cy="56199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9"/>
          <p:cNvSpPr/>
          <p:nvPr/>
        </p:nvSpPr>
        <p:spPr>
          <a:xfrm>
            <a:off x="5105520" y="22860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Могила писателя в родном се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Ast100"/>
          <p:cNvPicPr/>
          <p:nvPr/>
        </p:nvPicPr>
        <p:blipFill>
          <a:blip r:embed="rId1"/>
          <a:stretch/>
        </p:blipFill>
        <p:spPr>
          <a:xfrm>
            <a:off x="228600" y="457200"/>
            <a:ext cx="8763120" cy="5767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детства, с ним навечно расстав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ад ни тропок нету, ни сле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т мир далёк, и лишь воспомин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ё чаще возвращают нас т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йсын Кули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7"/>
          <p:cNvSpPr/>
          <p:nvPr/>
        </p:nvSpPr>
        <p:spPr>
          <a:xfrm>
            <a:off x="5181480" y="838080"/>
            <a:ext cx="396252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Рассказ «Конь с розовой гривой» был написан в 1968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Главные геро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Бабушка Екатерина Петровна,                             Витя, ее внук,        дядька Левонтий, соседка тётя Весения,  Левонтьевские ребята:                                         Санька,                             Танька, Кеша.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0_a4d7e_1598ca21_orig"/>
          <p:cNvPicPr/>
          <p:nvPr/>
        </p:nvPicPr>
        <p:blipFill>
          <a:blip r:embed="rId1"/>
          <a:stretch/>
        </p:blipFill>
        <p:spPr>
          <a:xfrm>
            <a:off x="304920" y="609480"/>
            <a:ext cx="4705200" cy="5372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.62-6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.64-7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zvezda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astafiev"/>
          <p:cNvPicPr/>
          <p:nvPr/>
        </p:nvPicPr>
        <p:blipFill>
          <a:blip r:embed="rId1"/>
          <a:stretch/>
        </p:blipFill>
        <p:spPr>
          <a:xfrm>
            <a:off x="685800" y="380880"/>
            <a:ext cx="4572000" cy="61531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5562720" y="685800"/>
            <a:ext cx="32763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33"/>
                </a:solidFill>
                <a:latin typeface="Arial"/>
              </a:rPr>
              <a:t>Вик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33"/>
                </a:solidFill>
                <a:latin typeface="Arial"/>
              </a:rPr>
              <a:t>Пет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33"/>
                </a:solidFill>
                <a:latin typeface="Arial"/>
              </a:rPr>
              <a:t>Астафь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33"/>
                </a:solidFill>
                <a:latin typeface="Arial"/>
              </a:rPr>
              <a:t>1924 -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 flipV="1" rot="10800000">
            <a:off x="380880" y="3504960"/>
            <a:ext cx="32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Деревня Овсянка     под Красноярском -  родина Виктора Астафь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515587_html_m12db4a"/>
          <p:cNvPicPr/>
          <p:nvPr/>
        </p:nvPicPr>
        <p:blipFill>
          <a:blip r:embed="rId1"/>
          <a:stretch/>
        </p:blipFill>
        <p:spPr>
          <a:xfrm>
            <a:off x="533520" y="304920"/>
            <a:ext cx="4572000" cy="3124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ykzdruzr-aulorwtx1"/>
          <p:cNvPicPr/>
          <p:nvPr/>
        </p:nvPicPr>
        <p:blipFill>
          <a:blip r:embed="rId2"/>
          <a:stretch/>
        </p:blipFill>
        <p:spPr>
          <a:xfrm>
            <a:off x="4114800" y="3200400"/>
            <a:ext cx="4572000" cy="3352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4495680" y="30492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В этом доме родился         Виктор Петрович Астаф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krasno_041"/>
          <p:cNvPicPr/>
          <p:nvPr/>
        </p:nvPicPr>
        <p:blipFill>
          <a:blip r:embed="rId1"/>
          <a:stretch/>
        </p:blipFill>
        <p:spPr>
          <a:xfrm>
            <a:off x="4343400" y="3124080"/>
            <a:ext cx="4343400" cy="3429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89106543"/>
          <p:cNvPicPr/>
          <p:nvPr/>
        </p:nvPicPr>
        <p:blipFill>
          <a:blip r:embed="rId2"/>
          <a:stretch/>
        </p:blipFill>
        <p:spPr>
          <a:xfrm>
            <a:off x="0" y="380880"/>
            <a:ext cx="4343400" cy="2907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8"/>
          <p:cNvSpPr/>
          <p:nvPr/>
        </p:nvSpPr>
        <p:spPr>
          <a:xfrm>
            <a:off x="762120" y="685800"/>
            <a:ext cx="2514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193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Семейная фотография Астафьев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Мать, Лидия Ильинич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Отец, Петр Павл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Вите 7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3" descr="i_004"/>
          <p:cNvPicPr/>
          <p:nvPr/>
        </p:nvPicPr>
        <p:blipFill>
          <a:blip r:embed="rId1"/>
          <a:stretch/>
        </p:blipFill>
        <p:spPr>
          <a:xfrm>
            <a:off x="3429000" y="533520"/>
            <a:ext cx="4648320" cy="5790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i_005"/>
          <p:cNvPicPr/>
          <p:nvPr/>
        </p:nvPicPr>
        <p:blipFill>
          <a:blip r:embed="rId1"/>
          <a:stretch/>
        </p:blipFill>
        <p:spPr>
          <a:xfrm>
            <a:off x="838080" y="762120"/>
            <a:ext cx="3810240" cy="30384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4876920" y="563400"/>
            <a:ext cx="3886200" cy="52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В восемь лет он потерял мать (она утонула в Енисее, зацепившись косой за дерево), при живом отце оказался в детском доме. Он убегал оттуда, скитался, голодал, воровал… Единственной радостью были книги, которые подросток читал запо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04920" y="4114800"/>
            <a:ext cx="44956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Виктор Астафьев среди детдомовцев                               (с книгой в рук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Игарка. Школа №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28847445767425347_astaf_yuong2"/>
          <p:cNvPicPr/>
          <p:nvPr/>
        </p:nvPicPr>
        <p:blipFill>
          <a:blip r:embed="rId1"/>
          <a:stretch/>
        </p:blipFill>
        <p:spPr>
          <a:xfrm>
            <a:off x="457200" y="304920"/>
            <a:ext cx="6667560" cy="4410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457200" y="49528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Виктор с друзьями. Выпускники детдома. 194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Картинка 13 из 47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609480"/>
            <a:ext cx="3357720" cy="49165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9"/>
          <p:cNvSpPr/>
          <p:nvPr/>
        </p:nvSpPr>
        <p:spPr>
          <a:xfrm>
            <a:off x="304920" y="228600"/>
            <a:ext cx="4724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Осенью 1942 года Виктор Астафьев добровольцем уходит в армию, а весной 1943 года попадает на фронт. Был шофёром, артразведчиком, связистом.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В 1944 году в Польше был контужен.  Несколько раз был тяжело ранен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Фронтовая биография солдата Астафьева отмечена орденом Красной Звезды, медалями "За отвагу", "За победу над Германией" и "За освобождение Польш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0007-005-Viktor-Petrovich-Astafev-i-Marija-Semenovna-Astafeva"/>
          <p:cNvPicPr/>
          <p:nvPr/>
        </p:nvPicPr>
        <p:blipFill>
          <a:blip r:embed="rId1"/>
          <a:stretch/>
        </p:blipFill>
        <p:spPr>
          <a:xfrm>
            <a:off x="4343400" y="304920"/>
            <a:ext cx="4429080" cy="6191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152280" y="152280"/>
            <a:ext cx="4038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В 1945 году женился на Марии Семеновне Корякиной, уехал на  ее родину в город Чусовой Пермской об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1366070291_astafev3"/>
          <p:cNvPicPr/>
          <p:nvPr/>
        </p:nvPicPr>
        <p:blipFill>
          <a:blip r:embed="rId2"/>
          <a:stretch/>
        </p:blipFill>
        <p:spPr>
          <a:xfrm>
            <a:off x="0" y="2133720"/>
            <a:ext cx="3962520" cy="29034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1"/>
          <p:cNvSpPr/>
          <p:nvPr/>
        </p:nvSpPr>
        <p:spPr>
          <a:xfrm>
            <a:off x="152280" y="525780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В мире и согласии супруги прожили 56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2T05:52:51Z</dcterms:created>
  <dc:creator>denver</dc:creator>
  <dc:description/>
  <dc:language>en-US</dc:language>
  <cp:lastModifiedBy>учитель</cp:lastModifiedBy>
  <dcterms:modified xsi:type="dcterms:W3CDTF">2020-06-17T09:31:07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