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937-FCAC-4BB0-83AA-63D94C16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01A-B224-43BF-A53E-F0B62D58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453-2C93-4072-8DED-43A93FA3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FC9-72B7-40BC-BCFC-D1DD3BC5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BB3-1805-464E-95D3-0BECFD8B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E69-F134-4A09-A37F-6902E559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9F4-DD68-41F6-94B3-3525538E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261-39B4-4161-9AD6-02FC129E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46B-9455-4F91-9F1F-B7049068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B9B-AC59-4CC0-9211-C28BEEA8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D2C-2596-4D27-B7CA-4B3E17FC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F0A-D324-4DDE-A048-25C4E5CA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F987-955A-4215-B922-4D0CA0393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с двумя скругленными противолежащими углами 3"/>
          <p:cNvGrpSpPr/>
          <p:nvPr/>
        </p:nvGrpSpPr>
        <p:grpSpPr>
          <a:xfrm>
            <a:off x="298440" y="347760"/>
            <a:ext cx="8547120" cy="6168960"/>
            <a:chOff x="298440" y="347760"/>
            <a:chExt cx="8547120" cy="6168960"/>
          </a:xfrm>
        </p:grpSpPr>
        <p:pic>
          <p:nvPicPr>
            <p:cNvPr id="42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298440" y="347760"/>
              <a:ext cx="854712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52400" y="762120"/>
              <a:ext cx="7639200" cy="52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841320" y="1316160"/>
            <a:ext cx="746136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350560" cy="1078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4859280" y="1306440"/>
            <a:ext cx="3889440" cy="5133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542880" y="1306440"/>
            <a:ext cx="38401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3" descr=""/>
          <p:cNvPicPr/>
          <p:nvPr/>
        </p:nvPicPr>
        <p:blipFill>
          <a:blip r:embed="rId1"/>
          <a:stretch/>
        </p:blipFill>
        <p:spPr>
          <a:xfrm>
            <a:off x="512640" y="506520"/>
            <a:ext cx="8193240" cy="1773000"/>
          </a:xfrm>
          <a:prstGeom prst="rect">
            <a:avLst/>
          </a:prstGeom>
          <a:ln w="0">
            <a:noFill/>
          </a:ln>
        </p:spPr>
      </p:pic>
      <p:grpSp>
        <p:nvGrpSpPr>
          <p:cNvPr id="220" name="Прямоугольник с двумя скругленными противолежащими углами 4"/>
          <p:cNvGrpSpPr/>
          <p:nvPr/>
        </p:nvGrpSpPr>
        <p:grpSpPr>
          <a:xfrm>
            <a:off x="1036800" y="2023920"/>
            <a:ext cx="7169040" cy="4145040"/>
            <a:chOff x="1036800" y="2023920"/>
            <a:chExt cx="7169040" cy="4145040"/>
          </a:xfrm>
        </p:grpSpPr>
        <p:pic>
          <p:nvPicPr>
            <p:cNvPr id="221" name="Прямоугольник с двумя скругле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036800" y="2023920"/>
              <a:ext cx="7169040" cy="41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290600" y="2257560"/>
              <a:ext cx="6662880" cy="36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002060"/>
                  </a:solidFill>
                  <a:latin typeface="Bookman Old Style"/>
                </a:rPr>
                <a:t>44.3, 44.4, 44.8, 44.12, 44.13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8360" y="345960"/>
          <a:ext cx="8278920" cy="1392480"/>
        </p:xfrm>
        <a:graphic>
          <a:graphicData uri="http://schemas.openxmlformats.org/drawingml/2006/table">
            <a:tbl>
              <a:tblPr/>
              <a:tblGrid>
                <a:gridCol w="826920"/>
                <a:gridCol w="828720"/>
                <a:gridCol w="827280"/>
                <a:gridCol w="684000"/>
                <a:gridCol w="971640"/>
                <a:gridCol w="685800"/>
                <a:gridCol w="971640"/>
                <a:gridCol w="826920"/>
                <a:gridCol w="828720"/>
                <a:gridCol w="82728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Box 5"/>
          <p:cNvSpPr/>
          <p:nvPr/>
        </p:nvSpPr>
        <p:spPr>
          <a:xfrm>
            <a:off x="648360" y="34920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55560" y="1057320"/>
            <a:ext cx="4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1482480" y="4222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6"/>
          <p:cNvSpPr/>
          <p:nvPr/>
        </p:nvSpPr>
        <p:spPr>
          <a:xfrm>
            <a:off x="2945160" y="4143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7"/>
          <p:cNvSpPr/>
          <p:nvPr/>
        </p:nvSpPr>
        <p:spPr>
          <a:xfrm>
            <a:off x="3670920" y="422280"/>
            <a:ext cx="8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4756320" y="411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6464520" y="444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5420880" y="42696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8062920" y="426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2335680" y="43164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7329600" y="444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1548000" y="1119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7"/>
          <p:cNvSpPr/>
          <p:nvPr/>
        </p:nvSpPr>
        <p:spPr>
          <a:xfrm>
            <a:off x="7329600" y="10904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8"/>
          <p:cNvSpPr/>
          <p:nvPr/>
        </p:nvSpPr>
        <p:spPr>
          <a:xfrm>
            <a:off x="6464520" y="10904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9"/>
          <p:cNvSpPr/>
          <p:nvPr/>
        </p:nvSpPr>
        <p:spPr>
          <a:xfrm>
            <a:off x="4768920" y="1119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5357520" y="114768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0,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1"/>
          <p:cNvSpPr/>
          <p:nvPr/>
        </p:nvSpPr>
        <p:spPr>
          <a:xfrm>
            <a:off x="3620880" y="109044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0,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2"/>
          <p:cNvSpPr/>
          <p:nvPr/>
        </p:nvSpPr>
        <p:spPr>
          <a:xfrm>
            <a:off x="3084480" y="10904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3"/>
          <p:cNvSpPr/>
          <p:nvPr/>
        </p:nvSpPr>
        <p:spPr>
          <a:xfrm>
            <a:off x="2327400" y="1119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4"/>
          <p:cNvSpPr/>
          <p:nvPr/>
        </p:nvSpPr>
        <p:spPr>
          <a:xfrm>
            <a:off x="8193240" y="10904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Группа 43"/>
          <p:cNvGrpSpPr/>
          <p:nvPr/>
        </p:nvGrpSpPr>
        <p:grpSpPr>
          <a:xfrm>
            <a:off x="2330280" y="1996920"/>
            <a:ext cx="6269040" cy="4560840"/>
            <a:chOff x="2330280" y="1996920"/>
            <a:chExt cx="6269040" cy="4560840"/>
          </a:xfrm>
        </p:grpSpPr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2330280" y="1996920"/>
              <a:ext cx="6269040" cy="44877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8" name="Прямая со стрелкой 40"/>
            <p:cNvCxnSpPr/>
            <p:nvPr/>
          </p:nvCxnSpPr>
          <p:spPr>
            <a:xfrm flipV="1">
              <a:off x="5665680" y="2047680"/>
              <a:ext cx="1080" cy="4385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Прямая со стрелкой 44"/>
            <p:cNvCxnSpPr/>
            <p:nvPr/>
          </p:nvCxnSpPr>
          <p:spPr>
            <a:xfrm flipV="1">
              <a:off x="3438000" y="6092640"/>
              <a:ext cx="4456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" name="TextBox 42"/>
            <p:cNvSpPr/>
            <p:nvPr/>
          </p:nvSpPr>
          <p:spPr>
            <a:xfrm>
              <a:off x="5349600" y="6098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47"/>
            <p:cNvSpPr/>
            <p:nvPr/>
          </p:nvSpPr>
          <p:spPr>
            <a:xfrm>
              <a:off x="6474600" y="6076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48"/>
            <p:cNvSpPr/>
            <p:nvPr/>
          </p:nvSpPr>
          <p:spPr>
            <a:xfrm>
              <a:off x="5638680" y="5013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9"/>
            <p:cNvSpPr/>
            <p:nvPr/>
          </p:nvSpPr>
          <p:spPr>
            <a:xfrm>
              <a:off x="5667840" y="414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50"/>
            <p:cNvSpPr/>
            <p:nvPr/>
          </p:nvSpPr>
          <p:spPr>
            <a:xfrm>
              <a:off x="5682600" y="2162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51"/>
            <p:cNvSpPr/>
            <p:nvPr/>
          </p:nvSpPr>
          <p:spPr>
            <a:xfrm>
              <a:off x="4501800" y="6076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52"/>
            <p:cNvSpPr/>
            <p:nvPr/>
          </p:nvSpPr>
          <p:spPr>
            <a:xfrm>
              <a:off x="7911720" y="58453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Bookman Old Style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TextBox 53"/>
          <p:cNvSpPr/>
          <p:nvPr/>
        </p:nvSpPr>
        <p:spPr>
          <a:xfrm>
            <a:off x="5294520" y="17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507600" y="500040"/>
            <a:ext cx="184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Bookman Old Style"/>
              </a:rPr>
              <a:t>у = х</a:t>
            </a:r>
            <a:r>
              <a:rPr b="1" i="1" lang="ru-RU" sz="4800" spc="-1" strike="noStrike" baseline="30000">
                <a:solidFill>
                  <a:srgbClr val="953735"/>
                </a:solidFill>
                <a:latin typeface="Bookman Old Style"/>
              </a:rPr>
              <a:t>2</a:t>
            </a:r>
            <a:r>
              <a:rPr b="1" i="1" lang="ru-RU" sz="4800" spc="-1" strike="noStrike">
                <a:solidFill>
                  <a:srgbClr val="953735"/>
                </a:solidFill>
                <a:latin typeface="Bookman Old Styl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Блок-схема: узел 45"/>
          <p:cNvSpPr/>
          <p:nvPr/>
        </p:nvSpPr>
        <p:spPr>
          <a:xfrm>
            <a:off x="5589720" y="601200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Блок-схема: узел 56"/>
          <p:cNvSpPr/>
          <p:nvPr/>
        </p:nvSpPr>
        <p:spPr>
          <a:xfrm>
            <a:off x="4624560" y="4379760"/>
            <a:ext cx="123480" cy="10188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Блок-схема: узел 57"/>
          <p:cNvSpPr/>
          <p:nvPr/>
        </p:nvSpPr>
        <p:spPr>
          <a:xfrm>
            <a:off x="6559560" y="4379760"/>
            <a:ext cx="123840" cy="10188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Блок-схема: узел 58"/>
          <p:cNvSpPr/>
          <p:nvPr/>
        </p:nvSpPr>
        <p:spPr>
          <a:xfrm>
            <a:off x="5129280" y="559584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Блок-схема: узел 59"/>
          <p:cNvSpPr/>
          <p:nvPr/>
        </p:nvSpPr>
        <p:spPr>
          <a:xfrm>
            <a:off x="6108840" y="558972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Блок-схема: узел 60"/>
          <p:cNvSpPr/>
          <p:nvPr/>
        </p:nvSpPr>
        <p:spPr>
          <a:xfrm>
            <a:off x="5369040" y="5910120"/>
            <a:ext cx="123840" cy="10188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Блок-схема: узел 61"/>
          <p:cNvSpPr/>
          <p:nvPr/>
        </p:nvSpPr>
        <p:spPr>
          <a:xfrm>
            <a:off x="5834160" y="5910120"/>
            <a:ext cx="122040" cy="10188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Блок-схема: узел 62"/>
          <p:cNvSpPr/>
          <p:nvPr/>
        </p:nvSpPr>
        <p:spPr>
          <a:xfrm>
            <a:off x="7020000" y="234324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Блок-схема: узел 63"/>
          <p:cNvSpPr/>
          <p:nvPr/>
        </p:nvSpPr>
        <p:spPr>
          <a:xfrm>
            <a:off x="4183200" y="229248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0"/>
          <p:cNvSpPr/>
          <p:nvPr/>
        </p:nvSpPr>
        <p:spPr>
          <a:xfrm>
            <a:off x="4245120" y="2108160"/>
            <a:ext cx="1455480" cy="3967200"/>
          </a:xfrm>
          <a:custGeom>
            <a:avLst/>
            <a:gdLst>
              <a:gd name="textAreaLeft" fmla="*/ 0 w 1455480"/>
              <a:gd name="textAreaRight" fmla="*/ 1455480 w 1455480"/>
              <a:gd name="textAreaTop" fmla="*/ 0 h 3967200"/>
              <a:gd name="textAreaBottom" fmla="*/ 3967560 h 3967200"/>
            </a:gdLst>
            <a:ahLst/>
            <a:rect l="textAreaLeft" t="textAreaTop" r="textAreaRight" b="textAreaBottom"/>
            <a:pathLst>
              <a:path w="808" h="2499">
                <a:moveTo>
                  <a:pt x="0" y="0"/>
                </a:moveTo>
                <a:cubicBezTo>
                  <a:pt x="10" y="88"/>
                  <a:pt x="96" y="615"/>
                  <a:pt x="121" y="765"/>
                </a:cubicBezTo>
                <a:cubicBezTo>
                  <a:pt x="146" y="915"/>
                  <a:pt x="139" y="844"/>
                  <a:pt x="148" y="900"/>
                </a:cubicBezTo>
                <a:cubicBezTo>
                  <a:pt x="164" y="985"/>
                  <a:pt x="204" y="1188"/>
                  <a:pt x="220" y="1275"/>
                </a:cubicBezTo>
                <a:cubicBezTo>
                  <a:pt x="249" y="1405"/>
                  <a:pt x="296" y="1583"/>
                  <a:pt x="322" y="1683"/>
                </a:cubicBezTo>
                <a:cubicBezTo>
                  <a:pt x="348" y="1783"/>
                  <a:pt x="358" y="1809"/>
                  <a:pt x="376" y="1874"/>
                </a:cubicBezTo>
                <a:cubicBezTo>
                  <a:pt x="404" y="1954"/>
                  <a:pt x="467" y="2104"/>
                  <a:pt x="490" y="2162"/>
                </a:cubicBezTo>
                <a:cubicBezTo>
                  <a:pt x="532" y="2227"/>
                  <a:pt x="483" y="2145"/>
                  <a:pt x="516" y="2223"/>
                </a:cubicBezTo>
                <a:cubicBezTo>
                  <a:pt x="549" y="2301"/>
                  <a:pt x="520" y="2199"/>
                  <a:pt x="542" y="2276"/>
                </a:cubicBezTo>
                <a:cubicBezTo>
                  <a:pt x="553" y="2294"/>
                  <a:pt x="573" y="2319"/>
                  <a:pt x="580" y="2331"/>
                </a:cubicBezTo>
                <a:cubicBezTo>
                  <a:pt x="587" y="2343"/>
                  <a:pt x="576" y="2331"/>
                  <a:pt x="586" y="2345"/>
                </a:cubicBezTo>
                <a:cubicBezTo>
                  <a:pt x="602" y="2368"/>
                  <a:pt x="616" y="2390"/>
                  <a:pt x="638" y="2415"/>
                </a:cubicBezTo>
                <a:cubicBezTo>
                  <a:pt x="659" y="2438"/>
                  <a:pt x="687" y="2473"/>
                  <a:pt x="715" y="2486"/>
                </a:cubicBezTo>
                <a:cubicBezTo>
                  <a:pt x="743" y="2499"/>
                  <a:pt x="793" y="2491"/>
                  <a:pt x="808" y="2492"/>
                </a:cubicBezTo>
              </a:path>
            </a:pathLst>
          </a:custGeom>
          <a:noFill/>
          <a:ln w="95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13"/>
          <p:cNvSpPr/>
          <p:nvPr/>
        </p:nvSpPr>
        <p:spPr>
          <a:xfrm flipH="1">
            <a:off x="5698440" y="2023920"/>
            <a:ext cx="1438200" cy="4038840"/>
          </a:xfrm>
          <a:custGeom>
            <a:avLst/>
            <a:gdLst>
              <a:gd name="textAreaLeft" fmla="*/ -360 w 1438200"/>
              <a:gd name="textAreaRight" fmla="*/ 1438200 w 143820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808" h="2499">
                <a:moveTo>
                  <a:pt x="0" y="0"/>
                </a:moveTo>
                <a:cubicBezTo>
                  <a:pt x="10" y="88"/>
                  <a:pt x="96" y="615"/>
                  <a:pt x="121" y="765"/>
                </a:cubicBezTo>
                <a:cubicBezTo>
                  <a:pt x="146" y="915"/>
                  <a:pt x="139" y="844"/>
                  <a:pt x="148" y="900"/>
                </a:cubicBezTo>
                <a:cubicBezTo>
                  <a:pt x="164" y="985"/>
                  <a:pt x="204" y="1188"/>
                  <a:pt x="220" y="1275"/>
                </a:cubicBezTo>
                <a:cubicBezTo>
                  <a:pt x="249" y="1405"/>
                  <a:pt x="296" y="1583"/>
                  <a:pt x="322" y="1683"/>
                </a:cubicBezTo>
                <a:cubicBezTo>
                  <a:pt x="348" y="1783"/>
                  <a:pt x="358" y="1809"/>
                  <a:pt x="376" y="1874"/>
                </a:cubicBezTo>
                <a:cubicBezTo>
                  <a:pt x="404" y="1954"/>
                  <a:pt x="467" y="2104"/>
                  <a:pt x="490" y="2162"/>
                </a:cubicBezTo>
                <a:cubicBezTo>
                  <a:pt x="532" y="2227"/>
                  <a:pt x="483" y="2145"/>
                  <a:pt x="516" y="2223"/>
                </a:cubicBezTo>
                <a:cubicBezTo>
                  <a:pt x="549" y="2301"/>
                  <a:pt x="520" y="2199"/>
                  <a:pt x="542" y="2276"/>
                </a:cubicBezTo>
                <a:cubicBezTo>
                  <a:pt x="553" y="2294"/>
                  <a:pt x="573" y="2319"/>
                  <a:pt x="580" y="2331"/>
                </a:cubicBezTo>
                <a:cubicBezTo>
                  <a:pt x="587" y="2343"/>
                  <a:pt x="576" y="2331"/>
                  <a:pt x="586" y="2345"/>
                </a:cubicBezTo>
                <a:cubicBezTo>
                  <a:pt x="602" y="2368"/>
                  <a:pt x="616" y="2390"/>
                  <a:pt x="638" y="2415"/>
                </a:cubicBezTo>
                <a:cubicBezTo>
                  <a:pt x="659" y="2438"/>
                  <a:pt x="687" y="2473"/>
                  <a:pt x="715" y="2486"/>
                </a:cubicBezTo>
                <a:cubicBezTo>
                  <a:pt x="743" y="2499"/>
                  <a:pt x="793" y="2491"/>
                  <a:pt x="808" y="2492"/>
                </a:cubicBezTo>
              </a:path>
            </a:pathLst>
          </a:custGeom>
          <a:noFill/>
          <a:ln w="95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2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2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2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6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6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Группа 16"/>
          <p:cNvGrpSpPr/>
          <p:nvPr/>
        </p:nvGrpSpPr>
        <p:grpSpPr>
          <a:xfrm>
            <a:off x="5003640" y="231840"/>
            <a:ext cx="3956040" cy="3726000"/>
            <a:chOff x="5003640" y="231840"/>
            <a:chExt cx="3956040" cy="3726000"/>
          </a:xfrm>
        </p:grpSpPr>
        <p:grpSp>
          <p:nvGrpSpPr>
            <p:cNvPr id="91" name="Группа 3"/>
            <p:cNvGrpSpPr/>
            <p:nvPr/>
          </p:nvGrpSpPr>
          <p:grpSpPr>
            <a:xfrm>
              <a:off x="5003640" y="231840"/>
              <a:ext cx="3956040" cy="3726000"/>
              <a:chOff x="5003640" y="231840"/>
              <a:chExt cx="3956040" cy="3726000"/>
            </a:xfrm>
          </p:grpSpPr>
          <p:pic>
            <p:nvPicPr>
              <p:cNvPr id="9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3640" y="231840"/>
                <a:ext cx="3956040" cy="35740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93" name="Прямая со стрелкой 5"/>
              <p:cNvCxnSpPr/>
              <p:nvPr/>
            </p:nvCxnSpPr>
            <p:spPr>
              <a:xfrm flipV="1">
                <a:off x="7108200" y="272160"/>
                <a:ext cx="1080" cy="34927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94" name="Прямая со стрелкой 6"/>
              <p:cNvCxnSpPr/>
              <p:nvPr/>
            </p:nvCxnSpPr>
            <p:spPr>
              <a:xfrm flipV="1">
                <a:off x="5702400" y="3493800"/>
                <a:ext cx="281268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95" name="TextBox 7"/>
              <p:cNvSpPr/>
              <p:nvPr/>
            </p:nvSpPr>
            <p:spPr>
              <a:xfrm>
                <a:off x="6843960" y="3498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TextBox 8"/>
              <p:cNvSpPr/>
              <p:nvPr/>
            </p:nvSpPr>
            <p:spPr>
              <a:xfrm>
                <a:off x="7553880" y="3480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Box 9"/>
              <p:cNvSpPr/>
              <p:nvPr/>
            </p:nvSpPr>
            <p:spPr>
              <a:xfrm>
                <a:off x="7026120" y="2634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10"/>
              <p:cNvSpPr/>
              <p:nvPr/>
            </p:nvSpPr>
            <p:spPr>
              <a:xfrm>
                <a:off x="7044480" y="194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TextBox 11"/>
              <p:cNvSpPr/>
              <p:nvPr/>
            </p:nvSpPr>
            <p:spPr>
              <a:xfrm>
                <a:off x="7053840" y="363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TextBox 12"/>
              <p:cNvSpPr/>
              <p:nvPr/>
            </p:nvSpPr>
            <p:spPr>
              <a:xfrm>
                <a:off x="6290640" y="34808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Box 13"/>
              <p:cNvSpPr/>
              <p:nvPr/>
            </p:nvSpPr>
            <p:spPr>
              <a:xfrm>
                <a:off x="8462880" y="32968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Freeform 110"/>
            <p:cNvSpPr/>
            <p:nvPr/>
          </p:nvSpPr>
          <p:spPr>
            <a:xfrm>
              <a:off x="6212160" y="319680"/>
              <a:ext cx="918360" cy="31604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3160440"/>
                <a:gd name="textAreaBottom" fmla="*/ 3160800 h 3160440"/>
              </a:gdLst>
              <a:ahLst/>
              <a:rect l="textAreaLeft" t="textAreaTop" r="textAreaRight" b="textAreaBottom"/>
              <a:pathLst>
                <a:path w="808" h="2499">
                  <a:moveTo>
                    <a:pt x="0" y="0"/>
                  </a:moveTo>
                  <a:cubicBezTo>
                    <a:pt x="10" y="88"/>
                    <a:pt x="96" y="615"/>
                    <a:pt x="121" y="765"/>
                  </a:cubicBezTo>
                  <a:cubicBezTo>
                    <a:pt x="146" y="915"/>
                    <a:pt x="139" y="844"/>
                    <a:pt x="148" y="900"/>
                  </a:cubicBezTo>
                  <a:cubicBezTo>
                    <a:pt x="164" y="985"/>
                    <a:pt x="204" y="1188"/>
                    <a:pt x="220" y="1275"/>
                  </a:cubicBezTo>
                  <a:cubicBezTo>
                    <a:pt x="249" y="1405"/>
                    <a:pt x="296" y="1583"/>
                    <a:pt x="322" y="1683"/>
                  </a:cubicBezTo>
                  <a:cubicBezTo>
                    <a:pt x="348" y="1783"/>
                    <a:pt x="358" y="1809"/>
                    <a:pt x="376" y="1874"/>
                  </a:cubicBezTo>
                  <a:cubicBezTo>
                    <a:pt x="404" y="1954"/>
                    <a:pt x="467" y="2104"/>
                    <a:pt x="490" y="2162"/>
                  </a:cubicBezTo>
                  <a:cubicBezTo>
                    <a:pt x="532" y="2227"/>
                    <a:pt x="483" y="2145"/>
                    <a:pt x="516" y="2223"/>
                  </a:cubicBezTo>
                  <a:cubicBezTo>
                    <a:pt x="549" y="2301"/>
                    <a:pt x="520" y="2199"/>
                    <a:pt x="542" y="2276"/>
                  </a:cubicBezTo>
                  <a:cubicBezTo>
                    <a:pt x="553" y="2294"/>
                    <a:pt x="573" y="2319"/>
                    <a:pt x="580" y="2331"/>
                  </a:cubicBezTo>
                  <a:cubicBezTo>
                    <a:pt x="587" y="2343"/>
                    <a:pt x="576" y="2331"/>
                    <a:pt x="586" y="2345"/>
                  </a:cubicBezTo>
                  <a:cubicBezTo>
                    <a:pt x="602" y="2368"/>
                    <a:pt x="616" y="2390"/>
                    <a:pt x="638" y="2415"/>
                  </a:cubicBezTo>
                  <a:cubicBezTo>
                    <a:pt x="659" y="2438"/>
                    <a:pt x="687" y="2473"/>
                    <a:pt x="715" y="2486"/>
                  </a:cubicBezTo>
                  <a:cubicBezTo>
                    <a:pt x="743" y="2499"/>
                    <a:pt x="793" y="2491"/>
                    <a:pt x="808" y="2492"/>
                  </a:cubicBezTo>
                </a:path>
              </a:pathLst>
            </a:custGeom>
            <a:noFill/>
            <a:ln w="38160">
              <a:solidFill>
                <a:srgbClr val="4f81b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3"/>
            <p:cNvSpPr/>
            <p:nvPr/>
          </p:nvSpPr>
          <p:spPr>
            <a:xfrm flipH="1">
              <a:off x="7111800" y="262800"/>
              <a:ext cx="907200" cy="3217320"/>
            </a:xfrm>
            <a:custGeom>
              <a:avLst/>
              <a:gdLst>
                <a:gd name="textAreaLeft" fmla="*/ 360 w 907200"/>
                <a:gd name="textAreaRight" fmla="*/ 907920 w 907200"/>
                <a:gd name="textAreaTop" fmla="*/ 0 h 3217320"/>
                <a:gd name="textAreaBottom" fmla="*/ 3217680 h 3217320"/>
              </a:gdLst>
              <a:ahLst/>
              <a:rect l="textAreaLeft" t="textAreaTop" r="textAreaRight" b="textAreaBottom"/>
              <a:pathLst>
                <a:path w="808" h="2499">
                  <a:moveTo>
                    <a:pt x="0" y="0"/>
                  </a:moveTo>
                  <a:cubicBezTo>
                    <a:pt x="10" y="88"/>
                    <a:pt x="96" y="615"/>
                    <a:pt x="121" y="765"/>
                  </a:cubicBezTo>
                  <a:cubicBezTo>
                    <a:pt x="146" y="915"/>
                    <a:pt x="139" y="844"/>
                    <a:pt x="148" y="900"/>
                  </a:cubicBezTo>
                  <a:cubicBezTo>
                    <a:pt x="164" y="985"/>
                    <a:pt x="204" y="1188"/>
                    <a:pt x="220" y="1275"/>
                  </a:cubicBezTo>
                  <a:cubicBezTo>
                    <a:pt x="249" y="1405"/>
                    <a:pt x="296" y="1583"/>
                    <a:pt x="322" y="1683"/>
                  </a:cubicBezTo>
                  <a:cubicBezTo>
                    <a:pt x="348" y="1783"/>
                    <a:pt x="358" y="1809"/>
                    <a:pt x="376" y="1874"/>
                  </a:cubicBezTo>
                  <a:cubicBezTo>
                    <a:pt x="404" y="1954"/>
                    <a:pt x="467" y="2104"/>
                    <a:pt x="490" y="2162"/>
                  </a:cubicBezTo>
                  <a:cubicBezTo>
                    <a:pt x="532" y="2227"/>
                    <a:pt x="483" y="2145"/>
                    <a:pt x="516" y="2223"/>
                  </a:cubicBezTo>
                  <a:cubicBezTo>
                    <a:pt x="549" y="2301"/>
                    <a:pt x="520" y="2199"/>
                    <a:pt x="542" y="2276"/>
                  </a:cubicBezTo>
                  <a:cubicBezTo>
                    <a:pt x="553" y="2294"/>
                    <a:pt x="573" y="2319"/>
                    <a:pt x="580" y="2331"/>
                  </a:cubicBezTo>
                  <a:cubicBezTo>
                    <a:pt x="587" y="2343"/>
                    <a:pt x="576" y="2331"/>
                    <a:pt x="586" y="2345"/>
                  </a:cubicBezTo>
                  <a:cubicBezTo>
                    <a:pt x="602" y="2368"/>
                    <a:pt x="616" y="2390"/>
                    <a:pt x="638" y="2415"/>
                  </a:cubicBezTo>
                  <a:cubicBezTo>
                    <a:pt x="659" y="2438"/>
                    <a:pt x="687" y="2473"/>
                    <a:pt x="715" y="2486"/>
                  </a:cubicBezTo>
                  <a:cubicBezTo>
                    <a:pt x="743" y="2499"/>
                    <a:pt x="793" y="2491"/>
                    <a:pt x="808" y="2492"/>
                  </a:cubicBezTo>
                </a:path>
              </a:pathLst>
            </a:custGeom>
            <a:noFill/>
            <a:ln w="38160">
              <a:solidFill>
                <a:srgbClr val="4f81b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TextBox 17"/>
          <p:cNvSpPr/>
          <p:nvPr/>
        </p:nvSpPr>
        <p:spPr>
          <a:xfrm>
            <a:off x="669240" y="380880"/>
            <a:ext cx="392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Bookman Old Style"/>
              </a:rPr>
              <a:t>График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Bookman Old Style"/>
              </a:rPr>
              <a:t>          </a:t>
            </a:r>
            <a:r>
              <a:rPr b="1" i="1" lang="ru-RU" sz="4000" spc="-1" strike="noStrike">
                <a:solidFill>
                  <a:srgbClr val="0070c0"/>
                </a:solidFill>
                <a:latin typeface="Bookman Old Style"/>
              </a:rPr>
              <a:t>парабо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68360" y="1704960"/>
            <a:ext cx="51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Narrow"/>
              </a:rPr>
              <a:t>Парабола симметрична относительно оси 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 Narrow"/>
              </a:rPr>
              <a:t>Ветви параболы направлены ввер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Narrow"/>
              </a:rPr>
              <a:t>Вершина параболы в начале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Narrow"/>
              </a:rPr>
              <a:t>Парабола касается оси абсцисс, не пересекает 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6301080" y="4005360"/>
            <a:ext cx="184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Bookman Old Style"/>
              </a:rPr>
              <a:t>у = х</a:t>
            </a:r>
            <a:r>
              <a:rPr b="1" i="1" lang="ru-RU" sz="4800" spc="-1" strike="noStrike" baseline="30000">
                <a:solidFill>
                  <a:srgbClr val="953735"/>
                </a:solidFill>
                <a:latin typeface="Bookman Old Style"/>
              </a:rPr>
              <a:t>2</a:t>
            </a:r>
            <a:r>
              <a:rPr b="1" i="1" lang="ru-RU" sz="4800" spc="-1" strike="noStrike">
                <a:solidFill>
                  <a:srgbClr val="953735"/>
                </a:solidFill>
                <a:latin typeface="Bookman Old Styl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Группа 3"/>
          <p:cNvGrpSpPr/>
          <p:nvPr/>
        </p:nvGrpSpPr>
        <p:grpSpPr>
          <a:xfrm>
            <a:off x="5003640" y="231840"/>
            <a:ext cx="3956040" cy="3726000"/>
            <a:chOff x="5003640" y="231840"/>
            <a:chExt cx="3956040" cy="3726000"/>
          </a:xfrm>
        </p:grpSpPr>
        <p:grpSp>
          <p:nvGrpSpPr>
            <p:cNvPr id="108" name="Группа 4"/>
            <p:cNvGrpSpPr/>
            <p:nvPr/>
          </p:nvGrpSpPr>
          <p:grpSpPr>
            <a:xfrm>
              <a:off x="5003640" y="231840"/>
              <a:ext cx="3956040" cy="3726000"/>
              <a:chOff x="5003640" y="231840"/>
              <a:chExt cx="3956040" cy="3726000"/>
            </a:xfrm>
          </p:grpSpPr>
          <p:pic>
            <p:nvPicPr>
              <p:cNvPr id="109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3640" y="231840"/>
                <a:ext cx="3956040" cy="35740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10" name="Прямая со стрелкой 8"/>
              <p:cNvCxnSpPr/>
              <p:nvPr/>
            </p:nvCxnSpPr>
            <p:spPr>
              <a:xfrm flipV="1">
                <a:off x="7108200" y="272160"/>
                <a:ext cx="1080" cy="34927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11" name="Прямая со стрелкой 9"/>
              <p:cNvCxnSpPr/>
              <p:nvPr/>
            </p:nvCxnSpPr>
            <p:spPr>
              <a:xfrm flipV="1">
                <a:off x="5702400" y="3493800"/>
                <a:ext cx="281268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12" name="TextBox 10"/>
              <p:cNvSpPr/>
              <p:nvPr/>
            </p:nvSpPr>
            <p:spPr>
              <a:xfrm>
                <a:off x="6843960" y="3498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1"/>
              <p:cNvSpPr/>
              <p:nvPr/>
            </p:nvSpPr>
            <p:spPr>
              <a:xfrm>
                <a:off x="7553880" y="3480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TextBox 12"/>
              <p:cNvSpPr/>
              <p:nvPr/>
            </p:nvSpPr>
            <p:spPr>
              <a:xfrm>
                <a:off x="7026120" y="2634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TextBox 13"/>
              <p:cNvSpPr/>
              <p:nvPr/>
            </p:nvSpPr>
            <p:spPr>
              <a:xfrm>
                <a:off x="7044480" y="194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TextBox 14"/>
              <p:cNvSpPr/>
              <p:nvPr/>
            </p:nvSpPr>
            <p:spPr>
              <a:xfrm>
                <a:off x="7053840" y="363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TextBox 15"/>
              <p:cNvSpPr/>
              <p:nvPr/>
            </p:nvSpPr>
            <p:spPr>
              <a:xfrm>
                <a:off x="6290640" y="34808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TextBox 16"/>
              <p:cNvSpPr/>
              <p:nvPr/>
            </p:nvSpPr>
            <p:spPr>
              <a:xfrm>
                <a:off x="8462880" y="32968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Freeform 110"/>
            <p:cNvSpPr/>
            <p:nvPr/>
          </p:nvSpPr>
          <p:spPr>
            <a:xfrm>
              <a:off x="6212160" y="319680"/>
              <a:ext cx="918360" cy="31604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3160440"/>
                <a:gd name="textAreaBottom" fmla="*/ 3160800 h 3160440"/>
              </a:gdLst>
              <a:ahLst/>
              <a:rect l="textAreaLeft" t="textAreaTop" r="textAreaRight" b="textAreaBottom"/>
              <a:pathLst>
                <a:path w="808" h="2499">
                  <a:moveTo>
                    <a:pt x="0" y="0"/>
                  </a:moveTo>
                  <a:cubicBezTo>
                    <a:pt x="10" y="88"/>
                    <a:pt x="96" y="615"/>
                    <a:pt x="121" y="765"/>
                  </a:cubicBezTo>
                  <a:cubicBezTo>
                    <a:pt x="146" y="915"/>
                    <a:pt x="139" y="844"/>
                    <a:pt x="148" y="900"/>
                  </a:cubicBezTo>
                  <a:cubicBezTo>
                    <a:pt x="164" y="985"/>
                    <a:pt x="204" y="1188"/>
                    <a:pt x="220" y="1275"/>
                  </a:cubicBezTo>
                  <a:cubicBezTo>
                    <a:pt x="249" y="1405"/>
                    <a:pt x="296" y="1583"/>
                    <a:pt x="322" y="1683"/>
                  </a:cubicBezTo>
                  <a:cubicBezTo>
                    <a:pt x="348" y="1783"/>
                    <a:pt x="358" y="1809"/>
                    <a:pt x="376" y="1874"/>
                  </a:cubicBezTo>
                  <a:cubicBezTo>
                    <a:pt x="404" y="1954"/>
                    <a:pt x="467" y="2104"/>
                    <a:pt x="490" y="2162"/>
                  </a:cubicBezTo>
                  <a:cubicBezTo>
                    <a:pt x="532" y="2227"/>
                    <a:pt x="483" y="2145"/>
                    <a:pt x="516" y="2223"/>
                  </a:cubicBezTo>
                  <a:cubicBezTo>
                    <a:pt x="549" y="2301"/>
                    <a:pt x="520" y="2199"/>
                    <a:pt x="542" y="2276"/>
                  </a:cubicBezTo>
                  <a:cubicBezTo>
                    <a:pt x="553" y="2294"/>
                    <a:pt x="573" y="2319"/>
                    <a:pt x="580" y="2331"/>
                  </a:cubicBezTo>
                  <a:cubicBezTo>
                    <a:pt x="587" y="2343"/>
                    <a:pt x="576" y="2331"/>
                    <a:pt x="586" y="2345"/>
                  </a:cubicBezTo>
                  <a:cubicBezTo>
                    <a:pt x="602" y="2368"/>
                    <a:pt x="616" y="2390"/>
                    <a:pt x="638" y="2415"/>
                  </a:cubicBezTo>
                  <a:cubicBezTo>
                    <a:pt x="659" y="2438"/>
                    <a:pt x="687" y="2473"/>
                    <a:pt x="715" y="2486"/>
                  </a:cubicBezTo>
                  <a:cubicBezTo>
                    <a:pt x="743" y="2499"/>
                    <a:pt x="793" y="2491"/>
                    <a:pt x="808" y="2492"/>
                  </a:cubicBezTo>
                </a:path>
              </a:pathLst>
            </a:custGeom>
            <a:noFill/>
            <a:ln w="38160">
              <a:solidFill>
                <a:srgbClr val="4f81b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13"/>
            <p:cNvSpPr/>
            <p:nvPr/>
          </p:nvSpPr>
          <p:spPr>
            <a:xfrm flipH="1">
              <a:off x="7111800" y="262800"/>
              <a:ext cx="907200" cy="3217320"/>
            </a:xfrm>
            <a:custGeom>
              <a:avLst/>
              <a:gdLst>
                <a:gd name="textAreaLeft" fmla="*/ 360 w 907200"/>
                <a:gd name="textAreaRight" fmla="*/ 907920 w 907200"/>
                <a:gd name="textAreaTop" fmla="*/ 0 h 3217320"/>
                <a:gd name="textAreaBottom" fmla="*/ 3217680 h 3217320"/>
              </a:gdLst>
              <a:ahLst/>
              <a:rect l="textAreaLeft" t="textAreaTop" r="textAreaRight" b="textAreaBottom"/>
              <a:pathLst>
                <a:path w="808" h="2499">
                  <a:moveTo>
                    <a:pt x="0" y="0"/>
                  </a:moveTo>
                  <a:cubicBezTo>
                    <a:pt x="10" y="88"/>
                    <a:pt x="96" y="615"/>
                    <a:pt x="121" y="765"/>
                  </a:cubicBezTo>
                  <a:cubicBezTo>
                    <a:pt x="146" y="915"/>
                    <a:pt x="139" y="844"/>
                    <a:pt x="148" y="900"/>
                  </a:cubicBezTo>
                  <a:cubicBezTo>
                    <a:pt x="164" y="985"/>
                    <a:pt x="204" y="1188"/>
                    <a:pt x="220" y="1275"/>
                  </a:cubicBezTo>
                  <a:cubicBezTo>
                    <a:pt x="249" y="1405"/>
                    <a:pt x="296" y="1583"/>
                    <a:pt x="322" y="1683"/>
                  </a:cubicBezTo>
                  <a:cubicBezTo>
                    <a:pt x="348" y="1783"/>
                    <a:pt x="358" y="1809"/>
                    <a:pt x="376" y="1874"/>
                  </a:cubicBezTo>
                  <a:cubicBezTo>
                    <a:pt x="404" y="1954"/>
                    <a:pt x="467" y="2104"/>
                    <a:pt x="490" y="2162"/>
                  </a:cubicBezTo>
                  <a:cubicBezTo>
                    <a:pt x="532" y="2227"/>
                    <a:pt x="483" y="2145"/>
                    <a:pt x="516" y="2223"/>
                  </a:cubicBezTo>
                  <a:cubicBezTo>
                    <a:pt x="549" y="2301"/>
                    <a:pt x="520" y="2199"/>
                    <a:pt x="542" y="2276"/>
                  </a:cubicBezTo>
                  <a:cubicBezTo>
                    <a:pt x="553" y="2294"/>
                    <a:pt x="573" y="2319"/>
                    <a:pt x="580" y="2331"/>
                  </a:cubicBezTo>
                  <a:cubicBezTo>
                    <a:pt x="587" y="2343"/>
                    <a:pt x="576" y="2331"/>
                    <a:pt x="586" y="2345"/>
                  </a:cubicBezTo>
                  <a:cubicBezTo>
                    <a:pt x="602" y="2368"/>
                    <a:pt x="616" y="2390"/>
                    <a:pt x="638" y="2415"/>
                  </a:cubicBezTo>
                  <a:cubicBezTo>
                    <a:pt x="659" y="2438"/>
                    <a:pt x="687" y="2473"/>
                    <a:pt x="715" y="2486"/>
                  </a:cubicBezTo>
                  <a:cubicBezTo>
                    <a:pt x="743" y="2499"/>
                    <a:pt x="793" y="2491"/>
                    <a:pt x="808" y="2492"/>
                  </a:cubicBezTo>
                </a:path>
              </a:pathLst>
            </a:custGeom>
            <a:noFill/>
            <a:ln w="38160">
              <a:solidFill>
                <a:srgbClr val="4f81b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Прямоугольник 18" descr=""/>
          <p:cNvPicPr/>
          <p:nvPr/>
        </p:nvPicPr>
        <p:blipFill>
          <a:blip r:embed="rId2"/>
          <a:stretch/>
        </p:blipFill>
        <p:spPr>
          <a:xfrm>
            <a:off x="0" y="30240"/>
            <a:ext cx="5181480" cy="144468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19" descr=""/>
          <p:cNvPicPr/>
          <p:nvPr/>
        </p:nvPicPr>
        <p:blipFill>
          <a:blip r:embed="rId3"/>
          <a:stretch/>
        </p:blipFill>
        <p:spPr>
          <a:xfrm>
            <a:off x="176040" y="1494000"/>
            <a:ext cx="5505480" cy="4614840"/>
          </a:xfrm>
          <a:prstGeom prst="rect">
            <a:avLst/>
          </a:prstGeom>
          <a:ln w="0">
            <a:noFill/>
          </a:ln>
        </p:spPr>
      </p:pic>
      <p:grpSp>
        <p:nvGrpSpPr>
          <p:cNvPr id="123" name="Блок-схема: узел 1"/>
          <p:cNvGrpSpPr/>
          <p:nvPr/>
        </p:nvGrpSpPr>
        <p:grpSpPr>
          <a:xfrm>
            <a:off x="6986520" y="3408480"/>
            <a:ext cx="273240" cy="218880"/>
            <a:chOff x="6986520" y="3408480"/>
            <a:chExt cx="273240" cy="218880"/>
          </a:xfrm>
        </p:grpSpPr>
        <p:pic>
          <p:nvPicPr>
            <p:cNvPr id="124" name="Блок-схема: узел 1" descr=""/>
            <p:cNvPicPr/>
            <p:nvPr/>
          </p:nvPicPr>
          <p:blipFill>
            <a:blip r:embed="rId4"/>
            <a:stretch/>
          </p:blipFill>
          <p:spPr>
            <a:xfrm>
              <a:off x="6986520" y="3408480"/>
              <a:ext cx="27324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066080" y="3456000"/>
              <a:ext cx="114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Прямоугольник 17"/>
          <p:cNvSpPr/>
          <p:nvPr/>
        </p:nvSpPr>
        <p:spPr>
          <a:xfrm>
            <a:off x="5003640" y="587520"/>
            <a:ext cx="3900600" cy="289404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10"/>
          <p:cNvSpPr/>
          <p:nvPr/>
        </p:nvSpPr>
        <p:spPr>
          <a:xfrm>
            <a:off x="6226200" y="338040"/>
            <a:ext cx="917640" cy="3160800"/>
          </a:xfrm>
          <a:custGeom>
            <a:avLst/>
            <a:gdLst>
              <a:gd name="textAreaLeft" fmla="*/ 0 w 917640"/>
              <a:gd name="textAreaRight" fmla="*/ 918000 w 917640"/>
              <a:gd name="textAreaTop" fmla="*/ 0 h 3160800"/>
              <a:gd name="textAreaBottom" fmla="*/ 3161160 h 3160800"/>
            </a:gdLst>
            <a:ahLst/>
            <a:rect l="textAreaLeft" t="textAreaTop" r="textAreaRight" b="textAreaBottom"/>
            <a:pathLst>
              <a:path w="808" h="2499">
                <a:moveTo>
                  <a:pt x="0" y="0"/>
                </a:moveTo>
                <a:cubicBezTo>
                  <a:pt x="10" y="88"/>
                  <a:pt x="96" y="615"/>
                  <a:pt x="121" y="765"/>
                </a:cubicBezTo>
                <a:cubicBezTo>
                  <a:pt x="146" y="915"/>
                  <a:pt x="139" y="844"/>
                  <a:pt x="148" y="900"/>
                </a:cubicBezTo>
                <a:cubicBezTo>
                  <a:pt x="164" y="985"/>
                  <a:pt x="204" y="1188"/>
                  <a:pt x="220" y="1275"/>
                </a:cubicBezTo>
                <a:cubicBezTo>
                  <a:pt x="249" y="1405"/>
                  <a:pt x="296" y="1583"/>
                  <a:pt x="322" y="1683"/>
                </a:cubicBezTo>
                <a:cubicBezTo>
                  <a:pt x="348" y="1783"/>
                  <a:pt x="358" y="1809"/>
                  <a:pt x="376" y="1874"/>
                </a:cubicBezTo>
                <a:cubicBezTo>
                  <a:pt x="404" y="1954"/>
                  <a:pt x="467" y="2104"/>
                  <a:pt x="490" y="2162"/>
                </a:cubicBezTo>
                <a:cubicBezTo>
                  <a:pt x="532" y="2227"/>
                  <a:pt x="483" y="2145"/>
                  <a:pt x="516" y="2223"/>
                </a:cubicBezTo>
                <a:cubicBezTo>
                  <a:pt x="549" y="2301"/>
                  <a:pt x="520" y="2199"/>
                  <a:pt x="542" y="2276"/>
                </a:cubicBezTo>
                <a:cubicBezTo>
                  <a:pt x="553" y="2294"/>
                  <a:pt x="573" y="2319"/>
                  <a:pt x="580" y="2331"/>
                </a:cubicBezTo>
                <a:cubicBezTo>
                  <a:pt x="587" y="2343"/>
                  <a:pt x="576" y="2331"/>
                  <a:pt x="586" y="2345"/>
                </a:cubicBezTo>
                <a:cubicBezTo>
                  <a:pt x="602" y="2368"/>
                  <a:pt x="616" y="2390"/>
                  <a:pt x="638" y="2415"/>
                </a:cubicBezTo>
                <a:cubicBezTo>
                  <a:pt x="659" y="2438"/>
                  <a:pt x="687" y="2473"/>
                  <a:pt x="715" y="2486"/>
                </a:cubicBezTo>
                <a:cubicBezTo>
                  <a:pt x="743" y="2499"/>
                  <a:pt x="793" y="2491"/>
                  <a:pt x="808" y="2492"/>
                </a:cubicBezTo>
              </a:path>
            </a:pathLst>
          </a:custGeom>
          <a:noFill/>
          <a:ln w="5724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13"/>
          <p:cNvSpPr/>
          <p:nvPr/>
        </p:nvSpPr>
        <p:spPr>
          <a:xfrm flipH="1">
            <a:off x="7130880" y="277920"/>
            <a:ext cx="906480" cy="3216240"/>
          </a:xfrm>
          <a:custGeom>
            <a:avLst/>
            <a:gdLst>
              <a:gd name="textAreaLeft" fmla="*/ 360 w 906480"/>
              <a:gd name="textAreaRight" fmla="*/ 907200 w 906480"/>
              <a:gd name="textAreaTop" fmla="*/ 0 h 3216240"/>
              <a:gd name="textAreaBottom" fmla="*/ 3216600 h 3216240"/>
            </a:gdLst>
            <a:ahLst/>
            <a:rect l="textAreaLeft" t="textAreaTop" r="textAreaRight" b="textAreaBottom"/>
            <a:pathLst>
              <a:path w="808" h="2499">
                <a:moveTo>
                  <a:pt x="0" y="0"/>
                </a:moveTo>
                <a:cubicBezTo>
                  <a:pt x="10" y="88"/>
                  <a:pt x="96" y="615"/>
                  <a:pt x="121" y="765"/>
                </a:cubicBezTo>
                <a:cubicBezTo>
                  <a:pt x="146" y="915"/>
                  <a:pt x="139" y="844"/>
                  <a:pt x="148" y="900"/>
                </a:cubicBezTo>
                <a:cubicBezTo>
                  <a:pt x="164" y="985"/>
                  <a:pt x="204" y="1188"/>
                  <a:pt x="220" y="1275"/>
                </a:cubicBezTo>
                <a:cubicBezTo>
                  <a:pt x="249" y="1405"/>
                  <a:pt x="296" y="1583"/>
                  <a:pt x="322" y="1683"/>
                </a:cubicBezTo>
                <a:cubicBezTo>
                  <a:pt x="348" y="1783"/>
                  <a:pt x="358" y="1809"/>
                  <a:pt x="376" y="1874"/>
                </a:cubicBezTo>
                <a:cubicBezTo>
                  <a:pt x="404" y="1954"/>
                  <a:pt x="467" y="2104"/>
                  <a:pt x="490" y="2162"/>
                </a:cubicBezTo>
                <a:cubicBezTo>
                  <a:pt x="532" y="2227"/>
                  <a:pt x="483" y="2145"/>
                  <a:pt x="516" y="2223"/>
                </a:cubicBezTo>
                <a:cubicBezTo>
                  <a:pt x="549" y="2301"/>
                  <a:pt x="520" y="2199"/>
                  <a:pt x="542" y="2276"/>
                </a:cubicBezTo>
                <a:cubicBezTo>
                  <a:pt x="553" y="2294"/>
                  <a:pt x="573" y="2319"/>
                  <a:pt x="580" y="2331"/>
                </a:cubicBezTo>
                <a:cubicBezTo>
                  <a:pt x="587" y="2343"/>
                  <a:pt x="576" y="2331"/>
                  <a:pt x="586" y="2345"/>
                </a:cubicBezTo>
                <a:cubicBezTo>
                  <a:pt x="602" y="2368"/>
                  <a:pt x="616" y="2390"/>
                  <a:pt x="638" y="2415"/>
                </a:cubicBezTo>
                <a:cubicBezTo>
                  <a:pt x="659" y="2438"/>
                  <a:pt x="687" y="2473"/>
                  <a:pt x="715" y="2486"/>
                </a:cubicBezTo>
                <a:cubicBezTo>
                  <a:pt x="743" y="2499"/>
                  <a:pt x="793" y="2491"/>
                  <a:pt x="808" y="2492"/>
                </a:cubicBezTo>
              </a:path>
            </a:pathLst>
          </a:custGeom>
          <a:noFill/>
          <a:ln w="57240">
            <a:solidFill>
              <a:srgbClr val="cc00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3"/>
          <p:cNvGrpSpPr/>
          <p:nvPr/>
        </p:nvGrpSpPr>
        <p:grpSpPr>
          <a:xfrm>
            <a:off x="4500720" y="351000"/>
            <a:ext cx="4375080" cy="4068360"/>
            <a:chOff x="4500720" y="351000"/>
            <a:chExt cx="4375080" cy="4068360"/>
          </a:xfrm>
        </p:grpSpPr>
        <p:grpSp>
          <p:nvGrpSpPr>
            <p:cNvPr id="130" name="Группа 4"/>
            <p:cNvGrpSpPr/>
            <p:nvPr/>
          </p:nvGrpSpPr>
          <p:grpSpPr>
            <a:xfrm>
              <a:off x="4500720" y="351000"/>
              <a:ext cx="4375080" cy="4068360"/>
              <a:chOff x="4500720" y="351000"/>
              <a:chExt cx="4375080" cy="4068360"/>
            </a:xfrm>
          </p:grpSpPr>
          <p:pic>
            <p:nvPicPr>
              <p:cNvPr id="13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500720" y="351000"/>
                <a:ext cx="4375080" cy="3948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32" name="Прямая со стрелкой 8"/>
              <p:cNvCxnSpPr/>
              <p:nvPr/>
            </p:nvCxnSpPr>
            <p:spPr>
              <a:xfrm flipV="1">
                <a:off x="6828480" y="395280"/>
                <a:ext cx="1080" cy="38588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3" name="Прямая со стрелкой 9"/>
              <p:cNvCxnSpPr/>
              <p:nvPr/>
            </p:nvCxnSpPr>
            <p:spPr>
              <a:xfrm flipV="1">
                <a:off x="5273640" y="3954960"/>
                <a:ext cx="31104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34" name="TextBox 10"/>
              <p:cNvSpPr/>
              <p:nvPr/>
            </p:nvSpPr>
            <p:spPr>
              <a:xfrm>
                <a:off x="6554520" y="3959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TextBox 11"/>
              <p:cNvSpPr/>
              <p:nvPr/>
            </p:nvSpPr>
            <p:spPr>
              <a:xfrm>
                <a:off x="7339680" y="394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extBox 12"/>
              <p:cNvSpPr/>
              <p:nvPr/>
            </p:nvSpPr>
            <p:spPr>
              <a:xfrm>
                <a:off x="6756480" y="3004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TextBox 13"/>
              <p:cNvSpPr/>
              <p:nvPr/>
            </p:nvSpPr>
            <p:spPr>
              <a:xfrm>
                <a:off x="6776640" y="2244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TextBox 14"/>
              <p:cNvSpPr/>
              <p:nvPr/>
            </p:nvSpPr>
            <p:spPr>
              <a:xfrm>
                <a:off x="6787080" y="496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TextBox 15"/>
              <p:cNvSpPr/>
              <p:nvPr/>
            </p:nvSpPr>
            <p:spPr>
              <a:xfrm>
                <a:off x="5948280" y="394056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TextBox 16"/>
              <p:cNvSpPr/>
              <p:nvPr/>
            </p:nvSpPr>
            <p:spPr>
              <a:xfrm>
                <a:off x="8344440" y="373752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Freeform 110"/>
            <p:cNvSpPr/>
            <p:nvPr/>
          </p:nvSpPr>
          <p:spPr>
            <a:xfrm>
              <a:off x="5837040" y="448200"/>
              <a:ext cx="1015560" cy="3491640"/>
            </a:xfrm>
            <a:custGeom>
              <a:avLst/>
              <a:gdLst>
                <a:gd name="textAreaLeft" fmla="*/ 0 w 1015560"/>
                <a:gd name="textAreaRight" fmla="*/ 1015920 w 1015560"/>
                <a:gd name="textAreaTop" fmla="*/ 0 h 3491640"/>
                <a:gd name="textAreaBottom" fmla="*/ 3492000 h 3491640"/>
              </a:gdLst>
              <a:ahLst/>
              <a:rect l="textAreaLeft" t="textAreaTop" r="textAreaRight" b="textAreaBottom"/>
              <a:pathLst>
                <a:path w="808" h="2499">
                  <a:moveTo>
                    <a:pt x="0" y="0"/>
                  </a:moveTo>
                  <a:cubicBezTo>
                    <a:pt x="10" y="88"/>
                    <a:pt x="96" y="615"/>
                    <a:pt x="121" y="765"/>
                  </a:cubicBezTo>
                  <a:cubicBezTo>
                    <a:pt x="146" y="915"/>
                    <a:pt x="139" y="844"/>
                    <a:pt x="148" y="900"/>
                  </a:cubicBezTo>
                  <a:cubicBezTo>
                    <a:pt x="164" y="985"/>
                    <a:pt x="204" y="1188"/>
                    <a:pt x="220" y="1275"/>
                  </a:cubicBezTo>
                  <a:cubicBezTo>
                    <a:pt x="249" y="1405"/>
                    <a:pt x="296" y="1583"/>
                    <a:pt x="322" y="1683"/>
                  </a:cubicBezTo>
                  <a:cubicBezTo>
                    <a:pt x="348" y="1783"/>
                    <a:pt x="358" y="1809"/>
                    <a:pt x="376" y="1874"/>
                  </a:cubicBezTo>
                  <a:cubicBezTo>
                    <a:pt x="404" y="1954"/>
                    <a:pt x="467" y="2104"/>
                    <a:pt x="490" y="2162"/>
                  </a:cubicBezTo>
                  <a:cubicBezTo>
                    <a:pt x="532" y="2227"/>
                    <a:pt x="483" y="2145"/>
                    <a:pt x="516" y="2223"/>
                  </a:cubicBezTo>
                  <a:cubicBezTo>
                    <a:pt x="549" y="2301"/>
                    <a:pt x="520" y="2199"/>
                    <a:pt x="542" y="2276"/>
                  </a:cubicBezTo>
                  <a:cubicBezTo>
                    <a:pt x="553" y="2294"/>
                    <a:pt x="573" y="2319"/>
                    <a:pt x="580" y="2331"/>
                  </a:cubicBezTo>
                  <a:cubicBezTo>
                    <a:pt x="587" y="2343"/>
                    <a:pt x="576" y="2331"/>
                    <a:pt x="586" y="2345"/>
                  </a:cubicBezTo>
                  <a:cubicBezTo>
                    <a:pt x="602" y="2368"/>
                    <a:pt x="616" y="2390"/>
                    <a:pt x="638" y="2415"/>
                  </a:cubicBezTo>
                  <a:cubicBezTo>
                    <a:pt x="659" y="2438"/>
                    <a:pt x="687" y="2473"/>
                    <a:pt x="715" y="2486"/>
                  </a:cubicBezTo>
                  <a:cubicBezTo>
                    <a:pt x="743" y="2499"/>
                    <a:pt x="793" y="2491"/>
                    <a:pt x="808" y="2492"/>
                  </a:cubicBezTo>
                </a:path>
              </a:pathLst>
            </a:custGeom>
            <a:noFill/>
            <a:ln w="38160">
              <a:solidFill>
                <a:srgbClr val="4f81b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13"/>
            <p:cNvSpPr/>
            <p:nvPr/>
          </p:nvSpPr>
          <p:spPr>
            <a:xfrm flipH="1">
              <a:off x="6831720" y="385200"/>
              <a:ext cx="1003320" cy="3554640"/>
            </a:xfrm>
            <a:custGeom>
              <a:avLst/>
              <a:gdLst>
                <a:gd name="textAreaLeft" fmla="*/ -360 w 1003320"/>
                <a:gd name="textAreaRight" fmla="*/ 1003320 w 1003320"/>
                <a:gd name="textAreaTop" fmla="*/ 0 h 3554640"/>
                <a:gd name="textAreaBottom" fmla="*/ 3555000 h 3554640"/>
              </a:gdLst>
              <a:ahLst/>
              <a:rect l="textAreaLeft" t="textAreaTop" r="textAreaRight" b="textAreaBottom"/>
              <a:pathLst>
                <a:path w="808" h="2499">
                  <a:moveTo>
                    <a:pt x="0" y="0"/>
                  </a:moveTo>
                  <a:cubicBezTo>
                    <a:pt x="10" y="88"/>
                    <a:pt x="96" y="615"/>
                    <a:pt x="121" y="765"/>
                  </a:cubicBezTo>
                  <a:cubicBezTo>
                    <a:pt x="146" y="915"/>
                    <a:pt x="139" y="844"/>
                    <a:pt x="148" y="900"/>
                  </a:cubicBezTo>
                  <a:cubicBezTo>
                    <a:pt x="164" y="985"/>
                    <a:pt x="204" y="1188"/>
                    <a:pt x="220" y="1275"/>
                  </a:cubicBezTo>
                  <a:cubicBezTo>
                    <a:pt x="249" y="1405"/>
                    <a:pt x="296" y="1583"/>
                    <a:pt x="322" y="1683"/>
                  </a:cubicBezTo>
                  <a:cubicBezTo>
                    <a:pt x="348" y="1783"/>
                    <a:pt x="358" y="1809"/>
                    <a:pt x="376" y="1874"/>
                  </a:cubicBezTo>
                  <a:cubicBezTo>
                    <a:pt x="404" y="1954"/>
                    <a:pt x="467" y="2104"/>
                    <a:pt x="490" y="2162"/>
                  </a:cubicBezTo>
                  <a:cubicBezTo>
                    <a:pt x="532" y="2227"/>
                    <a:pt x="483" y="2145"/>
                    <a:pt x="516" y="2223"/>
                  </a:cubicBezTo>
                  <a:cubicBezTo>
                    <a:pt x="549" y="2301"/>
                    <a:pt x="520" y="2199"/>
                    <a:pt x="542" y="2276"/>
                  </a:cubicBezTo>
                  <a:cubicBezTo>
                    <a:pt x="553" y="2294"/>
                    <a:pt x="573" y="2319"/>
                    <a:pt x="580" y="2331"/>
                  </a:cubicBezTo>
                  <a:cubicBezTo>
                    <a:pt x="587" y="2343"/>
                    <a:pt x="576" y="2331"/>
                    <a:pt x="586" y="2345"/>
                  </a:cubicBezTo>
                  <a:cubicBezTo>
                    <a:pt x="602" y="2368"/>
                    <a:pt x="616" y="2390"/>
                    <a:pt x="638" y="2415"/>
                  </a:cubicBezTo>
                  <a:cubicBezTo>
                    <a:pt x="659" y="2438"/>
                    <a:pt x="687" y="2473"/>
                    <a:pt x="715" y="2486"/>
                  </a:cubicBezTo>
                  <a:cubicBezTo>
                    <a:pt x="743" y="2499"/>
                    <a:pt x="793" y="2491"/>
                    <a:pt x="808" y="2492"/>
                  </a:cubicBezTo>
                </a:path>
              </a:pathLst>
            </a:custGeom>
            <a:noFill/>
            <a:ln w="38160">
              <a:solidFill>
                <a:srgbClr val="4f81b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17"/>
          <p:cNvSpPr/>
          <p:nvPr/>
        </p:nvSpPr>
        <p:spPr>
          <a:xfrm>
            <a:off x="324000" y="35100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Найти наибольшее и наименьшее значения функции на отрез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) </a:t>
            </a: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[1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; 3</a:t>
            </a: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]    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б</a:t>
            </a: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) [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- 3; 2</a:t>
            </a: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Группа 43"/>
          <p:cNvGrpSpPr/>
          <p:nvPr/>
        </p:nvGrpSpPr>
        <p:grpSpPr>
          <a:xfrm>
            <a:off x="2392200" y="1968480"/>
            <a:ext cx="6269040" cy="4579920"/>
            <a:chOff x="2392200" y="1968480"/>
            <a:chExt cx="6269040" cy="4579920"/>
          </a:xfrm>
        </p:grpSpPr>
        <p:pic>
          <p:nvPicPr>
            <p:cNvPr id="145" name="Picture 5" descr=""/>
            <p:cNvPicPr/>
            <p:nvPr/>
          </p:nvPicPr>
          <p:blipFill>
            <a:blip r:embed="rId1"/>
            <a:stretch/>
          </p:blipFill>
          <p:spPr>
            <a:xfrm>
              <a:off x="2392200" y="1968480"/>
              <a:ext cx="6269040" cy="4487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6" name="Прямая со стрелкой 40"/>
            <p:cNvCxnSpPr/>
            <p:nvPr/>
          </p:nvCxnSpPr>
          <p:spPr>
            <a:xfrm flipV="1">
              <a:off x="5727600" y="2007360"/>
              <a:ext cx="1080" cy="4385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47" name="Прямая со стрелкой 44"/>
            <p:cNvCxnSpPr/>
            <p:nvPr/>
          </p:nvCxnSpPr>
          <p:spPr>
            <a:xfrm flipV="1">
              <a:off x="3474000" y="2729160"/>
              <a:ext cx="4456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8" name="TextBox 42"/>
            <p:cNvSpPr/>
            <p:nvPr/>
          </p:nvSpPr>
          <p:spPr>
            <a:xfrm>
              <a:off x="5349240" y="2366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47"/>
            <p:cNvSpPr/>
            <p:nvPr/>
          </p:nvSpPr>
          <p:spPr>
            <a:xfrm>
              <a:off x="6528240" y="2281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Box 48"/>
            <p:cNvSpPr/>
            <p:nvPr/>
          </p:nvSpPr>
          <p:spPr>
            <a:xfrm>
              <a:off x="5300280" y="33357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49"/>
            <p:cNvSpPr/>
            <p:nvPr/>
          </p:nvSpPr>
          <p:spPr>
            <a:xfrm>
              <a:off x="5202000" y="4121640"/>
              <a:ext cx="53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- 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50"/>
            <p:cNvSpPr/>
            <p:nvPr/>
          </p:nvSpPr>
          <p:spPr>
            <a:xfrm>
              <a:off x="5716440" y="60886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-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51"/>
            <p:cNvSpPr/>
            <p:nvPr/>
          </p:nvSpPr>
          <p:spPr>
            <a:xfrm>
              <a:off x="4501080" y="2324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52"/>
            <p:cNvSpPr/>
            <p:nvPr/>
          </p:nvSpPr>
          <p:spPr>
            <a:xfrm>
              <a:off x="7946280" y="259308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Bookman Old Style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468360" y="345960"/>
          <a:ext cx="8278920" cy="1392480"/>
        </p:xfrm>
        <a:graphic>
          <a:graphicData uri="http://schemas.openxmlformats.org/drawingml/2006/table">
            <a:tbl>
              <a:tblPr/>
              <a:tblGrid>
                <a:gridCol w="826920"/>
                <a:gridCol w="828720"/>
                <a:gridCol w="827280"/>
                <a:gridCol w="612720"/>
                <a:gridCol w="1042920"/>
                <a:gridCol w="685800"/>
                <a:gridCol w="1150920"/>
                <a:gridCol w="647640"/>
                <a:gridCol w="828720"/>
                <a:gridCol w="82728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Box 5"/>
          <p:cNvSpPr/>
          <p:nvPr/>
        </p:nvSpPr>
        <p:spPr>
          <a:xfrm>
            <a:off x="648360" y="34920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655560" y="1057320"/>
            <a:ext cx="4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1482480" y="4222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945160" y="4143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670920" y="422280"/>
            <a:ext cx="8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4756320" y="411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6464520" y="444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5420880" y="42696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8062920" y="426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335680" y="43164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7329600" y="444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6"/>
          <p:cNvSpPr/>
          <p:nvPr/>
        </p:nvSpPr>
        <p:spPr>
          <a:xfrm>
            <a:off x="1556280" y="111924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7"/>
          <p:cNvSpPr/>
          <p:nvPr/>
        </p:nvSpPr>
        <p:spPr>
          <a:xfrm>
            <a:off x="7337880" y="109044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8"/>
          <p:cNvSpPr/>
          <p:nvPr/>
        </p:nvSpPr>
        <p:spPr>
          <a:xfrm>
            <a:off x="6472800" y="109044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9"/>
          <p:cNvSpPr/>
          <p:nvPr/>
        </p:nvSpPr>
        <p:spPr>
          <a:xfrm>
            <a:off x="4768920" y="1119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0"/>
          <p:cNvSpPr/>
          <p:nvPr/>
        </p:nvSpPr>
        <p:spPr>
          <a:xfrm>
            <a:off x="5365440" y="114768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-0,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1"/>
          <p:cNvSpPr/>
          <p:nvPr/>
        </p:nvSpPr>
        <p:spPr>
          <a:xfrm>
            <a:off x="3628800" y="109044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-0,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2"/>
          <p:cNvSpPr/>
          <p:nvPr/>
        </p:nvSpPr>
        <p:spPr>
          <a:xfrm>
            <a:off x="3037320" y="107784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2335680" y="111924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4"/>
          <p:cNvSpPr/>
          <p:nvPr/>
        </p:nvSpPr>
        <p:spPr>
          <a:xfrm>
            <a:off x="8201520" y="109044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356400" y="246240"/>
            <a:ext cx="21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Bookman Old Style"/>
              </a:rPr>
              <a:t>у = - х</a:t>
            </a:r>
            <a:r>
              <a:rPr b="1" i="1" lang="ru-RU" sz="4800" spc="-1" strike="noStrike" baseline="30000">
                <a:solidFill>
                  <a:srgbClr val="953735"/>
                </a:solidFill>
                <a:latin typeface="Bookman Old Style"/>
              </a:rPr>
              <a:t>2</a:t>
            </a:r>
            <a:r>
              <a:rPr b="1" i="1" lang="ru-RU" sz="4800" spc="-1" strike="noStrike">
                <a:solidFill>
                  <a:srgbClr val="953735"/>
                </a:solidFill>
                <a:latin typeface="Bookman Old Styl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53"/>
          <p:cNvSpPr/>
          <p:nvPr/>
        </p:nvSpPr>
        <p:spPr>
          <a:xfrm>
            <a:off x="5745960" y="1782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Блок-схема: узел 45"/>
          <p:cNvSpPr/>
          <p:nvPr/>
        </p:nvSpPr>
        <p:spPr>
          <a:xfrm>
            <a:off x="5654520" y="2681280"/>
            <a:ext cx="12240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Блок-схема: узел 56"/>
          <p:cNvSpPr/>
          <p:nvPr/>
        </p:nvSpPr>
        <p:spPr>
          <a:xfrm>
            <a:off x="4729320" y="4297320"/>
            <a:ext cx="1220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Блок-схема: узел 57"/>
          <p:cNvSpPr/>
          <p:nvPr/>
        </p:nvSpPr>
        <p:spPr>
          <a:xfrm>
            <a:off x="6597720" y="432288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Блок-схема: узел 58"/>
          <p:cNvSpPr/>
          <p:nvPr/>
        </p:nvSpPr>
        <p:spPr>
          <a:xfrm>
            <a:off x="5181480" y="315288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Блок-схема: узел 59"/>
          <p:cNvSpPr/>
          <p:nvPr/>
        </p:nvSpPr>
        <p:spPr>
          <a:xfrm>
            <a:off x="6192720" y="310212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Блок-схема: узел 60"/>
          <p:cNvSpPr/>
          <p:nvPr/>
        </p:nvSpPr>
        <p:spPr>
          <a:xfrm>
            <a:off x="5421240" y="282420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Блок-схема: узел 61"/>
          <p:cNvSpPr/>
          <p:nvPr/>
        </p:nvSpPr>
        <p:spPr>
          <a:xfrm>
            <a:off x="5915160" y="282420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Блок-схема: узел 62"/>
          <p:cNvSpPr/>
          <p:nvPr/>
        </p:nvSpPr>
        <p:spPr>
          <a:xfrm>
            <a:off x="7102440" y="637380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Блок-схема: узел 63"/>
          <p:cNvSpPr/>
          <p:nvPr/>
        </p:nvSpPr>
        <p:spPr>
          <a:xfrm>
            <a:off x="4248000" y="6369120"/>
            <a:ext cx="123840" cy="10152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10"/>
          <p:cNvSpPr/>
          <p:nvPr/>
        </p:nvSpPr>
        <p:spPr>
          <a:xfrm rot="10800000">
            <a:off x="5742000" y="2722680"/>
            <a:ext cx="1455840" cy="3967200"/>
          </a:xfrm>
          <a:custGeom>
            <a:avLst/>
            <a:gdLst>
              <a:gd name="textAreaLeft" fmla="*/ 0 w 1455840"/>
              <a:gd name="textAreaRight" fmla="*/ 1456200 w 1455840"/>
              <a:gd name="textAreaTop" fmla="*/ 0 h 3967200"/>
              <a:gd name="textAreaBottom" fmla="*/ 3967560 h 3967200"/>
            </a:gdLst>
            <a:ahLst/>
            <a:rect l="textAreaLeft" t="textAreaTop" r="textAreaRight" b="textAreaBottom"/>
            <a:pathLst>
              <a:path w="808" h="2499">
                <a:moveTo>
                  <a:pt x="0" y="0"/>
                </a:moveTo>
                <a:cubicBezTo>
                  <a:pt x="10" y="88"/>
                  <a:pt x="96" y="615"/>
                  <a:pt x="121" y="765"/>
                </a:cubicBezTo>
                <a:cubicBezTo>
                  <a:pt x="146" y="915"/>
                  <a:pt x="139" y="844"/>
                  <a:pt x="148" y="900"/>
                </a:cubicBezTo>
                <a:cubicBezTo>
                  <a:pt x="164" y="985"/>
                  <a:pt x="204" y="1188"/>
                  <a:pt x="220" y="1275"/>
                </a:cubicBezTo>
                <a:cubicBezTo>
                  <a:pt x="249" y="1405"/>
                  <a:pt x="296" y="1583"/>
                  <a:pt x="322" y="1683"/>
                </a:cubicBezTo>
                <a:cubicBezTo>
                  <a:pt x="348" y="1783"/>
                  <a:pt x="358" y="1809"/>
                  <a:pt x="376" y="1874"/>
                </a:cubicBezTo>
                <a:cubicBezTo>
                  <a:pt x="404" y="1954"/>
                  <a:pt x="467" y="2104"/>
                  <a:pt x="490" y="2162"/>
                </a:cubicBezTo>
                <a:cubicBezTo>
                  <a:pt x="532" y="2227"/>
                  <a:pt x="483" y="2145"/>
                  <a:pt x="516" y="2223"/>
                </a:cubicBezTo>
                <a:cubicBezTo>
                  <a:pt x="549" y="2301"/>
                  <a:pt x="520" y="2199"/>
                  <a:pt x="542" y="2276"/>
                </a:cubicBezTo>
                <a:cubicBezTo>
                  <a:pt x="553" y="2294"/>
                  <a:pt x="573" y="2319"/>
                  <a:pt x="580" y="2331"/>
                </a:cubicBezTo>
                <a:cubicBezTo>
                  <a:pt x="587" y="2343"/>
                  <a:pt x="576" y="2331"/>
                  <a:pt x="586" y="2345"/>
                </a:cubicBezTo>
                <a:cubicBezTo>
                  <a:pt x="602" y="2368"/>
                  <a:pt x="616" y="2390"/>
                  <a:pt x="638" y="2415"/>
                </a:cubicBezTo>
                <a:cubicBezTo>
                  <a:pt x="659" y="2438"/>
                  <a:pt x="687" y="2473"/>
                  <a:pt x="715" y="2486"/>
                </a:cubicBezTo>
                <a:cubicBezTo>
                  <a:pt x="743" y="2499"/>
                  <a:pt x="793" y="2491"/>
                  <a:pt x="808" y="2492"/>
                </a:cubicBezTo>
              </a:path>
            </a:pathLst>
          </a:custGeom>
          <a:noFill/>
          <a:ln w="95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13"/>
          <p:cNvSpPr/>
          <p:nvPr/>
        </p:nvSpPr>
        <p:spPr>
          <a:xfrm flipH="1" rot="10800000">
            <a:off x="4241880" y="2732040"/>
            <a:ext cx="1527120" cy="4038480"/>
          </a:xfrm>
          <a:custGeom>
            <a:avLst/>
            <a:gdLst>
              <a:gd name="textAreaLeft" fmla="*/ 360 w 1527120"/>
              <a:gd name="textAreaRight" fmla="*/ 1527840 w 152712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808" h="2499">
                <a:moveTo>
                  <a:pt x="0" y="0"/>
                </a:moveTo>
                <a:cubicBezTo>
                  <a:pt x="10" y="88"/>
                  <a:pt x="96" y="615"/>
                  <a:pt x="121" y="765"/>
                </a:cubicBezTo>
                <a:cubicBezTo>
                  <a:pt x="146" y="915"/>
                  <a:pt x="139" y="844"/>
                  <a:pt x="148" y="900"/>
                </a:cubicBezTo>
                <a:cubicBezTo>
                  <a:pt x="164" y="985"/>
                  <a:pt x="204" y="1188"/>
                  <a:pt x="220" y="1275"/>
                </a:cubicBezTo>
                <a:cubicBezTo>
                  <a:pt x="249" y="1405"/>
                  <a:pt x="296" y="1583"/>
                  <a:pt x="322" y="1683"/>
                </a:cubicBezTo>
                <a:cubicBezTo>
                  <a:pt x="348" y="1783"/>
                  <a:pt x="358" y="1809"/>
                  <a:pt x="376" y="1874"/>
                </a:cubicBezTo>
                <a:cubicBezTo>
                  <a:pt x="404" y="1954"/>
                  <a:pt x="467" y="2104"/>
                  <a:pt x="490" y="2162"/>
                </a:cubicBezTo>
                <a:cubicBezTo>
                  <a:pt x="532" y="2227"/>
                  <a:pt x="483" y="2145"/>
                  <a:pt x="516" y="2223"/>
                </a:cubicBezTo>
                <a:cubicBezTo>
                  <a:pt x="549" y="2301"/>
                  <a:pt x="520" y="2199"/>
                  <a:pt x="542" y="2276"/>
                </a:cubicBezTo>
                <a:cubicBezTo>
                  <a:pt x="553" y="2294"/>
                  <a:pt x="573" y="2319"/>
                  <a:pt x="580" y="2331"/>
                </a:cubicBezTo>
                <a:cubicBezTo>
                  <a:pt x="587" y="2343"/>
                  <a:pt x="576" y="2331"/>
                  <a:pt x="586" y="2345"/>
                </a:cubicBezTo>
                <a:cubicBezTo>
                  <a:pt x="602" y="2368"/>
                  <a:pt x="616" y="2390"/>
                  <a:pt x="638" y="2415"/>
                </a:cubicBezTo>
                <a:cubicBezTo>
                  <a:pt x="659" y="2438"/>
                  <a:pt x="687" y="2473"/>
                  <a:pt x="715" y="2486"/>
                </a:cubicBezTo>
                <a:cubicBezTo>
                  <a:pt x="743" y="2499"/>
                  <a:pt x="793" y="2491"/>
                  <a:pt x="808" y="2492"/>
                </a:cubicBezTo>
              </a:path>
            </a:pathLst>
          </a:custGeom>
          <a:noFill/>
          <a:ln w="95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63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2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2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8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8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2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2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2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20"/>
                            </p:stCondLst>
                            <p:childTnLst>
                              <p:par>
                                <p:cTn id="5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2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18" descr=""/>
          <p:cNvPicPr/>
          <p:nvPr/>
        </p:nvPicPr>
        <p:blipFill>
          <a:blip r:embed="rId1"/>
          <a:stretch/>
        </p:blipFill>
        <p:spPr>
          <a:xfrm>
            <a:off x="249120" y="195120"/>
            <a:ext cx="518184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90" name="Группа 1"/>
          <p:cNvGrpSpPr/>
          <p:nvPr/>
        </p:nvGrpSpPr>
        <p:grpSpPr>
          <a:xfrm>
            <a:off x="5397480" y="406440"/>
            <a:ext cx="3384720" cy="3435480"/>
            <a:chOff x="5397480" y="406440"/>
            <a:chExt cx="3384720" cy="3435480"/>
          </a:xfrm>
        </p:grpSpPr>
        <p:grpSp>
          <p:nvGrpSpPr>
            <p:cNvPr id="191" name="Группа 31"/>
            <p:cNvGrpSpPr/>
            <p:nvPr/>
          </p:nvGrpSpPr>
          <p:grpSpPr>
            <a:xfrm>
              <a:off x="5397480" y="406440"/>
              <a:ext cx="3384720" cy="3209760"/>
              <a:chOff x="5397480" y="406440"/>
              <a:chExt cx="3384720" cy="3209760"/>
            </a:xfrm>
          </p:grpSpPr>
          <p:pic>
            <p:nvPicPr>
              <p:cNvPr id="192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7480" y="406440"/>
                <a:ext cx="3384720" cy="32097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93" name="Прямая со стрелкой 33"/>
              <p:cNvCxnSpPr/>
              <p:nvPr/>
            </p:nvCxnSpPr>
            <p:spPr>
              <a:xfrm flipV="1">
                <a:off x="7198200" y="434520"/>
                <a:ext cx="1080" cy="31370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94" name="Прямая со стрелкой 34"/>
              <p:cNvCxnSpPr/>
              <p:nvPr/>
            </p:nvCxnSpPr>
            <p:spPr>
              <a:xfrm flipV="1">
                <a:off x="5981040" y="950400"/>
                <a:ext cx="24066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95" name="TextBox 35"/>
              <p:cNvSpPr/>
              <p:nvPr/>
            </p:nvSpPr>
            <p:spPr>
              <a:xfrm>
                <a:off x="7126200" y="523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TextBox 36"/>
              <p:cNvSpPr/>
              <p:nvPr/>
            </p:nvSpPr>
            <p:spPr>
              <a:xfrm>
                <a:off x="7532640" y="525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Box 37"/>
              <p:cNvSpPr/>
              <p:nvPr/>
            </p:nvSpPr>
            <p:spPr>
              <a:xfrm>
                <a:off x="6729120" y="13878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TextBox 38"/>
              <p:cNvSpPr/>
              <p:nvPr/>
            </p:nvSpPr>
            <p:spPr>
              <a:xfrm>
                <a:off x="6787800" y="2011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40"/>
              <p:cNvSpPr/>
              <p:nvPr/>
            </p:nvSpPr>
            <p:spPr>
              <a:xfrm>
                <a:off x="6432120" y="52596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TextBox 41"/>
              <p:cNvSpPr/>
              <p:nvPr/>
            </p:nvSpPr>
            <p:spPr>
              <a:xfrm>
                <a:off x="8317800" y="85320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Freeform 113"/>
            <p:cNvSpPr/>
            <p:nvPr/>
          </p:nvSpPr>
          <p:spPr>
            <a:xfrm flipH="1" rot="10800000">
              <a:off x="6395760" y="952560"/>
              <a:ext cx="825120" cy="2889360"/>
            </a:xfrm>
            <a:custGeom>
              <a:avLst/>
              <a:gdLst>
                <a:gd name="textAreaLeft" fmla="*/ 360 w 825120"/>
                <a:gd name="textAreaRight" fmla="*/ 825840 w 825120"/>
                <a:gd name="textAreaTop" fmla="*/ 0 h 2889360"/>
                <a:gd name="textAreaBottom" fmla="*/ 2889360 h 2889360"/>
              </a:gdLst>
              <a:ahLst/>
              <a:rect l="textAreaLeft" t="textAreaTop" r="textAreaRight" b="textAreaBottom"/>
              <a:pathLst>
                <a:path w="808" h="2499">
                  <a:moveTo>
                    <a:pt x="0" y="0"/>
                  </a:moveTo>
                  <a:cubicBezTo>
                    <a:pt x="10" y="88"/>
                    <a:pt x="96" y="615"/>
                    <a:pt x="121" y="765"/>
                  </a:cubicBezTo>
                  <a:cubicBezTo>
                    <a:pt x="146" y="915"/>
                    <a:pt x="139" y="844"/>
                    <a:pt x="148" y="900"/>
                  </a:cubicBezTo>
                  <a:cubicBezTo>
                    <a:pt x="164" y="985"/>
                    <a:pt x="204" y="1188"/>
                    <a:pt x="220" y="1275"/>
                  </a:cubicBezTo>
                  <a:cubicBezTo>
                    <a:pt x="249" y="1405"/>
                    <a:pt x="296" y="1583"/>
                    <a:pt x="322" y="1683"/>
                  </a:cubicBezTo>
                  <a:cubicBezTo>
                    <a:pt x="348" y="1783"/>
                    <a:pt x="358" y="1809"/>
                    <a:pt x="376" y="1874"/>
                  </a:cubicBezTo>
                  <a:cubicBezTo>
                    <a:pt x="404" y="1954"/>
                    <a:pt x="467" y="2104"/>
                    <a:pt x="490" y="2162"/>
                  </a:cubicBezTo>
                  <a:cubicBezTo>
                    <a:pt x="532" y="2227"/>
                    <a:pt x="483" y="2145"/>
                    <a:pt x="516" y="2223"/>
                  </a:cubicBezTo>
                  <a:cubicBezTo>
                    <a:pt x="549" y="2301"/>
                    <a:pt x="520" y="2199"/>
                    <a:pt x="542" y="2276"/>
                  </a:cubicBezTo>
                  <a:cubicBezTo>
                    <a:pt x="553" y="2294"/>
                    <a:pt x="573" y="2319"/>
                    <a:pt x="580" y="2331"/>
                  </a:cubicBezTo>
                  <a:cubicBezTo>
                    <a:pt x="587" y="2343"/>
                    <a:pt x="576" y="2331"/>
                    <a:pt x="586" y="2345"/>
                  </a:cubicBezTo>
                  <a:cubicBezTo>
                    <a:pt x="602" y="2368"/>
                    <a:pt x="616" y="2390"/>
                    <a:pt x="638" y="2415"/>
                  </a:cubicBezTo>
                  <a:cubicBezTo>
                    <a:pt x="659" y="2438"/>
                    <a:pt x="687" y="2473"/>
                    <a:pt x="715" y="2486"/>
                  </a:cubicBezTo>
                  <a:cubicBezTo>
                    <a:pt x="743" y="2499"/>
                    <a:pt x="793" y="2491"/>
                    <a:pt x="808" y="2492"/>
                  </a:cubicBezTo>
                </a:path>
              </a:pathLst>
            </a:custGeom>
            <a:noFill/>
            <a:ln w="38160">
              <a:solidFill>
                <a:srgbClr val="4f81b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10"/>
            <p:cNvSpPr/>
            <p:nvPr/>
          </p:nvSpPr>
          <p:spPr>
            <a:xfrm rot="10800000">
              <a:off x="7206120" y="945360"/>
              <a:ext cx="785880" cy="283824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2838240"/>
                <a:gd name="textAreaBottom" fmla="*/ 2838600 h 2838240"/>
              </a:gdLst>
              <a:ahLst/>
              <a:rect l="textAreaLeft" t="textAreaTop" r="textAreaRight" b="textAreaBottom"/>
              <a:pathLst>
                <a:path w="808" h="2499">
                  <a:moveTo>
                    <a:pt x="0" y="0"/>
                  </a:moveTo>
                  <a:cubicBezTo>
                    <a:pt x="10" y="88"/>
                    <a:pt x="96" y="615"/>
                    <a:pt x="121" y="765"/>
                  </a:cubicBezTo>
                  <a:cubicBezTo>
                    <a:pt x="146" y="915"/>
                    <a:pt x="139" y="844"/>
                    <a:pt x="148" y="900"/>
                  </a:cubicBezTo>
                  <a:cubicBezTo>
                    <a:pt x="164" y="985"/>
                    <a:pt x="204" y="1188"/>
                    <a:pt x="220" y="1275"/>
                  </a:cubicBezTo>
                  <a:cubicBezTo>
                    <a:pt x="249" y="1405"/>
                    <a:pt x="296" y="1583"/>
                    <a:pt x="322" y="1683"/>
                  </a:cubicBezTo>
                  <a:cubicBezTo>
                    <a:pt x="348" y="1783"/>
                    <a:pt x="358" y="1809"/>
                    <a:pt x="376" y="1874"/>
                  </a:cubicBezTo>
                  <a:cubicBezTo>
                    <a:pt x="404" y="1954"/>
                    <a:pt x="467" y="2104"/>
                    <a:pt x="490" y="2162"/>
                  </a:cubicBezTo>
                  <a:cubicBezTo>
                    <a:pt x="532" y="2227"/>
                    <a:pt x="483" y="2145"/>
                    <a:pt x="516" y="2223"/>
                  </a:cubicBezTo>
                  <a:cubicBezTo>
                    <a:pt x="549" y="2301"/>
                    <a:pt x="520" y="2199"/>
                    <a:pt x="542" y="2276"/>
                  </a:cubicBezTo>
                  <a:cubicBezTo>
                    <a:pt x="553" y="2294"/>
                    <a:pt x="573" y="2319"/>
                    <a:pt x="580" y="2331"/>
                  </a:cubicBezTo>
                  <a:cubicBezTo>
                    <a:pt x="587" y="2343"/>
                    <a:pt x="576" y="2331"/>
                    <a:pt x="586" y="2345"/>
                  </a:cubicBezTo>
                  <a:cubicBezTo>
                    <a:pt x="602" y="2368"/>
                    <a:pt x="616" y="2390"/>
                    <a:pt x="638" y="2415"/>
                  </a:cubicBezTo>
                  <a:cubicBezTo>
                    <a:pt x="659" y="2438"/>
                    <a:pt x="687" y="2473"/>
                    <a:pt x="715" y="2486"/>
                  </a:cubicBezTo>
                  <a:cubicBezTo>
                    <a:pt x="743" y="2499"/>
                    <a:pt x="793" y="2491"/>
                    <a:pt x="808" y="2492"/>
                  </a:cubicBezTo>
                </a:path>
              </a:pathLst>
            </a:custGeom>
            <a:noFill/>
            <a:ln w="38160">
              <a:solidFill>
                <a:srgbClr val="4f81b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3" name="TextBox 44" descr=""/>
          <p:cNvPicPr/>
          <p:nvPr/>
        </p:nvPicPr>
        <p:blipFill>
          <a:blip r:embed="rId3"/>
          <a:stretch/>
        </p:blipFill>
        <p:spPr>
          <a:xfrm>
            <a:off x="176040" y="1494000"/>
            <a:ext cx="5810400" cy="4316400"/>
          </a:xfrm>
          <a:prstGeom prst="rect">
            <a:avLst/>
          </a:prstGeom>
          <a:ln w="0">
            <a:noFill/>
          </a:ln>
        </p:spPr>
      </p:pic>
      <p:grpSp>
        <p:nvGrpSpPr>
          <p:cNvPr id="204" name="Блок-схема: узел 2"/>
          <p:cNvGrpSpPr/>
          <p:nvPr/>
        </p:nvGrpSpPr>
        <p:grpSpPr>
          <a:xfrm>
            <a:off x="7089840" y="871560"/>
            <a:ext cx="261720" cy="195120"/>
            <a:chOff x="7089840" y="871560"/>
            <a:chExt cx="261720" cy="195120"/>
          </a:xfrm>
        </p:grpSpPr>
        <p:pic>
          <p:nvPicPr>
            <p:cNvPr id="205" name="Блок-схема: узел 2" descr=""/>
            <p:cNvPicPr/>
            <p:nvPr/>
          </p:nvPicPr>
          <p:blipFill>
            <a:blip r:embed="rId4"/>
            <a:stretch/>
          </p:blipFill>
          <p:spPr>
            <a:xfrm>
              <a:off x="7089840" y="871560"/>
              <a:ext cx="26172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169040" y="920880"/>
              <a:ext cx="101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Прямоугольник 3"/>
          <p:cNvSpPr/>
          <p:nvPr/>
        </p:nvSpPr>
        <p:spPr>
          <a:xfrm>
            <a:off x="5435640" y="981000"/>
            <a:ext cx="3386160" cy="2621160"/>
          </a:xfrm>
          <a:prstGeom prst="rect">
            <a:avLst/>
          </a:prstGeom>
          <a:solidFill>
            <a:srgbClr val="cc0099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113"/>
          <p:cNvSpPr/>
          <p:nvPr/>
        </p:nvSpPr>
        <p:spPr>
          <a:xfrm flipH="1" rot="10800000">
            <a:off x="6396120" y="945720"/>
            <a:ext cx="823680" cy="2887560"/>
          </a:xfrm>
          <a:custGeom>
            <a:avLst/>
            <a:gdLst>
              <a:gd name="textAreaLeft" fmla="*/ 360 w 823680"/>
              <a:gd name="textAreaRight" fmla="*/ 824400 w 823680"/>
              <a:gd name="textAreaTop" fmla="*/ 0 h 2887560"/>
              <a:gd name="textAreaBottom" fmla="*/ 2887920 h 2887560"/>
            </a:gdLst>
            <a:ahLst/>
            <a:rect l="textAreaLeft" t="textAreaTop" r="textAreaRight" b="textAreaBottom"/>
            <a:pathLst>
              <a:path w="808" h="2499">
                <a:moveTo>
                  <a:pt x="0" y="0"/>
                </a:moveTo>
                <a:cubicBezTo>
                  <a:pt x="10" y="88"/>
                  <a:pt x="96" y="615"/>
                  <a:pt x="121" y="765"/>
                </a:cubicBezTo>
                <a:cubicBezTo>
                  <a:pt x="146" y="915"/>
                  <a:pt x="139" y="844"/>
                  <a:pt x="148" y="900"/>
                </a:cubicBezTo>
                <a:cubicBezTo>
                  <a:pt x="164" y="985"/>
                  <a:pt x="204" y="1188"/>
                  <a:pt x="220" y="1275"/>
                </a:cubicBezTo>
                <a:cubicBezTo>
                  <a:pt x="249" y="1405"/>
                  <a:pt x="296" y="1583"/>
                  <a:pt x="322" y="1683"/>
                </a:cubicBezTo>
                <a:cubicBezTo>
                  <a:pt x="348" y="1783"/>
                  <a:pt x="358" y="1809"/>
                  <a:pt x="376" y="1874"/>
                </a:cubicBezTo>
                <a:cubicBezTo>
                  <a:pt x="404" y="1954"/>
                  <a:pt x="467" y="2104"/>
                  <a:pt x="490" y="2162"/>
                </a:cubicBezTo>
                <a:cubicBezTo>
                  <a:pt x="532" y="2227"/>
                  <a:pt x="483" y="2145"/>
                  <a:pt x="516" y="2223"/>
                </a:cubicBezTo>
                <a:cubicBezTo>
                  <a:pt x="549" y="2301"/>
                  <a:pt x="520" y="2199"/>
                  <a:pt x="542" y="2276"/>
                </a:cubicBezTo>
                <a:cubicBezTo>
                  <a:pt x="553" y="2294"/>
                  <a:pt x="573" y="2319"/>
                  <a:pt x="580" y="2331"/>
                </a:cubicBezTo>
                <a:cubicBezTo>
                  <a:pt x="587" y="2343"/>
                  <a:pt x="576" y="2331"/>
                  <a:pt x="586" y="2345"/>
                </a:cubicBezTo>
                <a:cubicBezTo>
                  <a:pt x="602" y="2368"/>
                  <a:pt x="616" y="2390"/>
                  <a:pt x="638" y="2415"/>
                </a:cubicBezTo>
                <a:cubicBezTo>
                  <a:pt x="659" y="2438"/>
                  <a:pt x="687" y="2473"/>
                  <a:pt x="715" y="2486"/>
                </a:cubicBezTo>
                <a:cubicBezTo>
                  <a:pt x="743" y="2499"/>
                  <a:pt x="793" y="2491"/>
                  <a:pt x="808" y="24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110"/>
          <p:cNvSpPr/>
          <p:nvPr/>
        </p:nvSpPr>
        <p:spPr>
          <a:xfrm rot="10800000">
            <a:off x="7205400" y="928800"/>
            <a:ext cx="785880" cy="2836800"/>
          </a:xfrm>
          <a:custGeom>
            <a:avLst/>
            <a:gdLst>
              <a:gd name="textAreaLeft" fmla="*/ 0 w 785880"/>
              <a:gd name="textAreaRight" fmla="*/ 786240 w 785880"/>
              <a:gd name="textAreaTop" fmla="*/ 0 h 2836800"/>
              <a:gd name="textAreaBottom" fmla="*/ 2837160 h 2836800"/>
            </a:gdLst>
            <a:ahLst/>
            <a:rect l="textAreaLeft" t="textAreaTop" r="textAreaRight" b="textAreaBottom"/>
            <a:pathLst>
              <a:path w="808" h="2499">
                <a:moveTo>
                  <a:pt x="0" y="0"/>
                </a:moveTo>
                <a:cubicBezTo>
                  <a:pt x="10" y="88"/>
                  <a:pt x="96" y="615"/>
                  <a:pt x="121" y="765"/>
                </a:cubicBezTo>
                <a:cubicBezTo>
                  <a:pt x="146" y="915"/>
                  <a:pt x="139" y="844"/>
                  <a:pt x="148" y="900"/>
                </a:cubicBezTo>
                <a:cubicBezTo>
                  <a:pt x="164" y="985"/>
                  <a:pt x="204" y="1188"/>
                  <a:pt x="220" y="1275"/>
                </a:cubicBezTo>
                <a:cubicBezTo>
                  <a:pt x="249" y="1405"/>
                  <a:pt x="296" y="1583"/>
                  <a:pt x="322" y="1683"/>
                </a:cubicBezTo>
                <a:cubicBezTo>
                  <a:pt x="348" y="1783"/>
                  <a:pt x="358" y="1809"/>
                  <a:pt x="376" y="1874"/>
                </a:cubicBezTo>
                <a:cubicBezTo>
                  <a:pt x="404" y="1954"/>
                  <a:pt x="467" y="2104"/>
                  <a:pt x="490" y="2162"/>
                </a:cubicBezTo>
                <a:cubicBezTo>
                  <a:pt x="532" y="2227"/>
                  <a:pt x="483" y="2145"/>
                  <a:pt x="516" y="2223"/>
                </a:cubicBezTo>
                <a:cubicBezTo>
                  <a:pt x="549" y="2301"/>
                  <a:pt x="520" y="2199"/>
                  <a:pt x="542" y="2276"/>
                </a:cubicBezTo>
                <a:cubicBezTo>
                  <a:pt x="553" y="2294"/>
                  <a:pt x="573" y="2319"/>
                  <a:pt x="580" y="2331"/>
                </a:cubicBezTo>
                <a:cubicBezTo>
                  <a:pt x="587" y="2343"/>
                  <a:pt x="576" y="2331"/>
                  <a:pt x="586" y="2345"/>
                </a:cubicBezTo>
                <a:cubicBezTo>
                  <a:pt x="602" y="2368"/>
                  <a:pt x="616" y="2390"/>
                  <a:pt x="638" y="2415"/>
                </a:cubicBezTo>
                <a:cubicBezTo>
                  <a:pt x="659" y="2438"/>
                  <a:pt x="687" y="2473"/>
                  <a:pt x="715" y="2486"/>
                </a:cubicBezTo>
                <a:cubicBezTo>
                  <a:pt x="743" y="2499"/>
                  <a:pt x="793" y="2491"/>
                  <a:pt x="808" y="249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350560" cy="1078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79600" y="1247760"/>
            <a:ext cx="3958920" cy="5356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4857840" y="1317600"/>
            <a:ext cx="38592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7640" y="1125360"/>
            <a:ext cx="4554360" cy="542772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3" descr=""/>
          <p:cNvPicPr/>
          <p:nvPr/>
        </p:nvPicPr>
        <p:blipFill>
          <a:blip r:embed="rId2"/>
          <a:stretch/>
        </p:blipFill>
        <p:spPr>
          <a:xfrm>
            <a:off x="396720" y="237960"/>
            <a:ext cx="8350560" cy="1078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4541760" y="1281240"/>
            <a:ext cx="399096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15:23:08Z</dcterms:created>
  <dc:creator>School39</dc:creator>
  <dc:description/>
  <dc:language>en-US</dc:language>
  <cp:lastModifiedBy>Кабинет317</cp:lastModifiedBy>
  <dcterms:modified xsi:type="dcterms:W3CDTF">2020-06-18T06:21:03Z</dcterms:modified>
  <cp:revision>25</cp:revision>
  <dc:subject/>
  <dc:title>Презентация PowerPoint</dc:title>
</cp:coreProperties>
</file>