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1342-B728-4306-863F-396977EB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5BC-1B83-4E09-AF1D-A822FF0A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A494-0A04-4BEF-908E-1F5CC09D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B97E-E069-4F9C-BDDD-082BFF72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4184-6BAD-420D-A052-A916F37B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8577-8D3B-4366-AC66-8A3EBAD8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AE49-19AC-453B-B39A-6378AEA7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CF73-B89F-409A-9BA2-B3C53018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0901-080B-4313-9615-0C2B0059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35EB-E57A-4EAC-ACDD-6658C304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8F9D-B783-4EC6-8A2F-49C8E8D8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2E7B-D340-4E08-AFC9-F4F0A3FD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D63E-A60A-480E-9B8C-1292A480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B267-6AC0-423F-B58F-C6005119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632F-BDB6-4AFB-9650-20FE7A8A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3874-432E-4963-A167-E402E480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B452-07BB-4A4C-9D99-BB8D666B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8F23F-D801-4498-8EC9-E071D0AA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DE108-FDC2-4F15-AB36-F2EA2AD9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9271C-4DBB-4FFF-92C8-034402D4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E4E30-B9F8-4D83-8309-3FEACED5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68B99-706A-40B5-AD45-BEC220F4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94C2-169E-492B-B495-5A1DFC26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B7234-1F1C-44CE-BFE8-A9C79011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48AAE-B0AD-4236-9980-76C1B6A0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424BB-B7C6-4B9F-83A7-949280A5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44248-BF47-4F8F-BD88-8CE7DB0E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1ABAA-F94B-47B7-A778-DAF95DA9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F0304-221C-4D9D-BBAE-EBA62005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D17D0-77B4-4D02-B37E-6F3A2E11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EC9AC-CAE4-4EB8-A361-A4FAADF8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104AF-6102-40C3-BFCE-9A61326C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129C3-25AF-49B1-91D9-5B48BA88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3E5F-E089-437A-99AE-B1A3B8FC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ADECC-F67A-4361-AF94-7FD31EF0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399EA-401E-4F06-9A69-12280FE4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AEAC0-D07F-4425-9DE5-C1F6A2D0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39896-5563-447B-A0D2-9C640D98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DA8B7-4C18-434D-A605-159A1C86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D2D26-08DB-4010-8DA9-95F719F4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29BFB-9646-4E0F-B7F6-78F22660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1FCA0-A7F4-45A2-A93D-8EBC9898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EF993-603D-4B93-9553-AD7EA796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41883-3DF4-47BE-9C57-DECB5719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A9D-057A-4479-9CA4-D8CDE39C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21A99-FDEE-4F1C-8812-C1700909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D3640-1F9B-4C86-AD83-EA4B5ADD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8836B-2922-477E-9D2F-13A357EF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62D33-13D6-40E6-8970-FBB35AC6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F048E-B6C5-4F7C-B13D-575FB56F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EE37D-4543-4A53-A74C-E4CC7BE5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1C351-8CE5-4171-87E1-0D8E8786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9D95E-8833-4522-AE45-5E077BE4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EF4D1-9FA9-423B-99BC-69E958AA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C9D86-3E3D-442C-988E-DB194DBE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F80-CBF6-459C-82FC-1A186616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17F7D-43D0-465B-90A9-2119D21D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61536-B618-4916-91E5-BD93EC2F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800C1-3688-464B-A248-3F669F49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77A2E-60BF-4B9A-8BE1-B4A5F75E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8E861-0DC0-4172-B76B-805994D8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C320C-8B0B-4EF7-ADF5-F9460456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52F21-19D8-4E76-9248-E7442189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1CA54-FA9B-4862-ACA7-68845C32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BF863-2E85-427C-AC39-CA33F26A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7B6DF-0E02-4E4B-808C-9FD00397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51A-ABC6-4BC9-904A-344265CB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01F4A-72D3-4DAD-8EF1-CB4A56F5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FBC33-551A-42E9-824D-5D03ED96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547D7-D38E-4B9C-B6B7-3D5A158A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8C065-7005-4602-90F7-C49220D5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9D4AE-04C5-4AA9-9531-D1392ACB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1AF2E-880B-4D96-AF3D-D458AC2F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40178-0E5A-4105-BFBA-F896187A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95ABF-91F2-4174-B01F-A173FB6E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7F9D9-21D5-4460-A727-02ED895C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EE2BA-7003-4E55-9C0B-6807B456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79D-4A19-4C20-88DE-2F76102B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03FC0-F1C7-48F5-B1A4-34990564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1F4B1-E870-4C11-94EA-3FD3AE58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8EB84-33D0-45FF-9D64-F65333E0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53BCD-6F33-4E8E-A232-A75A0187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BF61A-A8DF-4B31-A6E2-30E55FEA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6DC-4049-4E1D-9A7A-23E9D317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B0B1-68C3-4EFB-AD77-8543DAC1ACF0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71BB-81CD-4E69-9308-89764A74779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E29B-3BC7-4024-8309-190F0096696D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1099-C709-4CA8-9EBF-59667A9926D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97F9-589F-44D5-81D3-65DC9505C8A5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7C42-F135-4C3E-9316-B038DF9CA0C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6493-694F-4822-8CBC-04A6D2D63746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2542-39AB-4CE3-904C-FA95841C858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895E-C464-48F1-B669-F8BA808980C5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54BD-CA30-44EA-8A2C-A26683A483F4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1042-CD17-4852-AE00-2F65D010D3A2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11E4-CB38-43E5-8E17-E192BEB2827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BE68-1B25-4F15-BCBB-6CDD457B6F70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15B6-3382-40E3-A716-A14E863425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262626"/>
                </a:solidFill>
                <a:latin typeface="Calibri Light"/>
              </a:rPr>
              <a:t>Презентация к уроку </a:t>
            </a:r>
            <a:br>
              <a:rPr sz="7200"/>
            </a:br>
            <a:r>
              <a:rPr b="0" lang="ru-RU" sz="7200" spc="-1" strike="noStrike">
                <a:solidFill>
                  <a:srgbClr val="262626"/>
                </a:solidFill>
                <a:latin typeface="Calibri Light"/>
              </a:rPr>
              <a:t>Решение задач с помощью уравнения</a:t>
            </a:r>
            <a:endParaRPr b="0" lang="en-US" sz="7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825120" y="4455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7052"/>
                </a:solidFill>
                <a:latin typeface="Calibri Light"/>
              </a:rPr>
              <a:t>УЧИТЕЛЬ НАЧАЛЬНЫХ КЛАССОВ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7052"/>
                </a:solidFill>
                <a:latin typeface="Calibri Light"/>
              </a:rPr>
              <a:t>ТАЙГУНОВА Н.Л. 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8B67-6DB0-4E42-A057-7DE4BA4B8ADF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262626"/>
                </a:solidFill>
                <a:latin typeface="Calibri Light"/>
              </a:rPr>
              <a:t>Как стало выглядеть решение </a:t>
            </a:r>
            <a:br>
              <a:rPr sz="4300"/>
            </a:br>
            <a:r>
              <a:rPr b="1" lang="ru-RU" sz="4300" spc="-1" strike="noStrike">
                <a:solidFill>
                  <a:srgbClr val="262626"/>
                </a:solidFill>
                <a:latin typeface="Calibri Light"/>
              </a:rPr>
              <a:t>задачи уравнением?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усть  Х  книг стояло на полке 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гда  Х + 35  книг  стало на полке,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 это 43 книги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им  и решим уравнение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 + 35 = 43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 = 43 – 35     Проверка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 = 8               8 + 35 = 43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: 8 книг стояло на полке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6A0E-3394-4A8C-BA2D-35DE06591F40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136000" cy="588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С какого слова начинаем записывать решение задачи уравнением?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Calibri Light"/>
              </a:rPr>
              <a:t>Пусть…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Какие ещё  выражения надо запомнить?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Calibri Light"/>
              </a:rPr>
              <a:t>Тогда.., 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Calibri Light"/>
              </a:rPr>
              <a:t>Составим и решим уравнение …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Calibri Light"/>
              </a:rPr>
              <a:t>Сделаем проверку…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Calibri Light"/>
              </a:rPr>
              <a:t>Запишем ответ</a:t>
            </a:r>
            <a:r>
              <a:rPr b="0" lang="ru-RU" sz="4000" spc="-1" strike="noStrike">
                <a:solidFill>
                  <a:srgbClr val="ccff33"/>
                </a:solidFill>
                <a:latin typeface="Calibri Light"/>
              </a:rPr>
              <a:t>…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p:transition>
    <p:strips dir="r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EAF7-9BA3-4671-9CB4-31CE212EB1D0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7030a0"/>
                </a:solidFill>
                <a:latin typeface="Calibri Light"/>
              </a:rPr>
              <a:t>Решите с помощью уравнения задачи (</a:t>
            </a:r>
            <a:r>
              <a:rPr b="1" lang="ru-RU" sz="2900" spc="-1" strike="noStrike">
                <a:solidFill>
                  <a:srgbClr val="7030a0"/>
                </a:solidFill>
                <a:latin typeface="Calibri Light"/>
              </a:rPr>
              <a:t>по  выбору</a:t>
            </a:r>
            <a:r>
              <a:rPr b="1" lang="ru-RU" sz="4300" spc="-1" strike="noStrike">
                <a:solidFill>
                  <a:srgbClr val="7030a0"/>
                </a:solidFill>
                <a:latin typeface="Calibri Light"/>
              </a:rPr>
              <a:t>):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Вова задумал число. Если к этому числу прибавить 23, то получится 52. Какое число задумал Вова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У Оли было 82 рубля. Несколько рублей она заплатила за мороженое, после чего у неё осталось 63 рубля. Сколько рублей стоит мороженое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В лагере 322 человека. Несколько человек ушли в поход и в лагере осталось 275 чело-век. Сколько человек ушли в поход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Спасибо за урок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45" name="Объект 4" descr=""/>
          <p:cNvPicPr/>
          <p:nvPr/>
        </p:nvPicPr>
        <p:blipFill>
          <a:blip r:embed="rId1"/>
          <a:stretch/>
        </p:blipFill>
        <p:spPr>
          <a:xfrm>
            <a:off x="2198520" y="1557360"/>
            <a:ext cx="4746960" cy="4619520"/>
          </a:xfrm>
          <a:prstGeom prst="rect">
            <a:avLst/>
          </a:prstGeom>
          <a:ln w="0">
            <a:noFill/>
          </a:ln>
        </p:spPr>
      </p:pic>
      <p:sp>
        <p:nvSpPr>
          <p:cNvPr id="346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09C7-C210-4037-BDA2-C615CAAB608A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48" name="Объект 4" descr=""/>
          <p:cNvPicPr/>
          <p:nvPr/>
        </p:nvPicPr>
        <p:blipFill>
          <a:blip r:embed="rId1"/>
          <a:stretch/>
        </p:blipFill>
        <p:spPr>
          <a:xfrm>
            <a:off x="33480" y="0"/>
            <a:ext cx="8785080" cy="7029360"/>
          </a:xfrm>
          <a:prstGeom prst="rect">
            <a:avLst/>
          </a:prstGeom>
          <a:ln w="0">
            <a:noFill/>
          </a:ln>
        </p:spPr>
      </p:pic>
      <p:sp>
        <p:nvSpPr>
          <p:cNvPr id="349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AF3B-B4CF-40AD-A0EE-5AACBB779EFF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E5AD-DD02-46A3-AA74-530016EAC3CC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80808"/>
                </a:solidFill>
                <a:latin typeface="Calibri Light"/>
              </a:rPr>
              <a:t>Тема урока</a:t>
            </a:r>
            <a:r>
              <a:rPr b="0" lang="ru-RU" sz="4300" spc="-1" strike="noStrike">
                <a:solidFill>
                  <a:srgbClr val="000000"/>
                </a:solidFill>
                <a:latin typeface="Calibri Light"/>
              </a:rPr>
              <a:t>: </a:t>
            </a:r>
            <a:r>
              <a:rPr b="0" i="1" lang="ru-RU" sz="4300" spc="-1" strike="noStrike">
                <a:solidFill>
                  <a:srgbClr val="000000"/>
                </a:solidFill>
                <a:latin typeface="Calibri Light"/>
              </a:rPr>
              <a:t>Решение задач с помощью уравнения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Цель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. «Провести исследование условия нескольких задач и найти новый способ решения»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Задачи 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Научиться переводить условие задачи с родного языка на язык алгебры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Научиться правильно оформлять решение задачи уравнением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Стремиться к приобретению,  запоминанию и   применению новых знаний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Развивать мышление и логику 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8638-0536-41CD-A0EE-282C193B717B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Calibri Light"/>
              </a:rPr>
              <a:t>Что знаем и умеем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03848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уровень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и уравнения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а=3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Calibri"/>
              </a:rPr>
              <a:t>72 : 8 </a:t>
            </a:r>
            <a:r>
              <a:rPr b="0" lang="en-US" sz="2800" spc="-1" strike="noStrike">
                <a:solidFill>
                  <a:srgbClr val="cc00ff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cc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у – 45 =35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5f2c16"/>
                </a:solidFill>
                <a:latin typeface="Calibri"/>
              </a:rPr>
              <a:t>х=6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Х+ 20 = 54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65-129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      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уровень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ли уравнение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ень 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16 + х = 7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05520" y="1557360"/>
            <a:ext cx="403848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уровень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е из чисел 5, 2, 6, 3 является корнем уравнения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1) у+ 7 = 10 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2) 15 – х = 9 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FDF1-68B4-4226-86E4-C69BDD7291EB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820728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04040"/>
                </a:solidFill>
                <a:latin typeface="Calibri Light"/>
              </a:rPr>
              <a:t>ПРОВЕРКА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-609480">
              <a:lnSpc>
                <a:spcPct val="7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У – 45 = 35             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х + 20= 54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у = 35 + 45            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х = 54 – 20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у = 80                    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х =34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     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Ответ: у =80            Ответ: х = 34       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Нет. Сумма 16 + х– не может быть равной 7. Допустим, что х= 0, то 16 + 0 = 16, а нам дано уравнение, у которого сумма равна 7,а сумма не может быть меньше слагаемого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Число 3 является корнем уравнения а+7=10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а число 6 – корень уравнения 15-х=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AutoShape 4">
            <a:hlinkClick r:id="" action="ppaction://hlinkshowjump?jump=nextslide"/>
          </p:cNvPr>
          <p:cNvSpPr/>
          <p:nvPr/>
        </p:nvSpPr>
        <p:spPr>
          <a:xfrm>
            <a:off x="8388360" y="6237360"/>
            <a:ext cx="71280" cy="7128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Picture 13" descr="b1"/>
          <p:cNvPicPr/>
          <p:nvPr/>
        </p:nvPicPr>
        <p:blipFill>
          <a:blip r:embed="rId1"/>
          <a:stretch/>
        </p:blipFill>
        <p:spPr>
          <a:xfrm>
            <a:off x="6877080" y="981000"/>
            <a:ext cx="1905120" cy="2708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b1"/>
          <p:cNvPicPr/>
          <p:nvPr/>
        </p:nvPicPr>
        <p:blipFill>
          <a:blip r:embed="rId2"/>
          <a:stretch/>
        </p:blipFill>
        <p:spPr>
          <a:xfrm>
            <a:off x="7524720" y="2205000"/>
            <a:ext cx="1905120" cy="2708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46E4-9EA5-4294-8E32-2BD561BFACF6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Calibri Light"/>
              </a:rPr>
              <a:t>                              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Решите задачи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Трое мальчиков нашли 250 грибов. Петя нашёл 86 грибов, Миша нашёл 74.  Сколько грибов нашёл Олег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В пяти лукошках по 2 кг земляники. Для варенья взяли 4 кг ягод. Сколько кг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земляники осталось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На полке стоял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сколько</a:t>
            </a: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 книг, когда на полку поставили ещё 35 книг, то на ней стало 43 книги. Сколько книг стояло на полке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F16C-7B2A-40D0-A35B-0051970C710F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 Light"/>
              </a:rPr>
              <a:t>Проверим решение задач: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7000"/>
          </a:bodyPr>
          <a:p>
            <a:pPr marL="69480" indent="-69480">
              <a:lnSpc>
                <a:spcPct val="6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1) 86+ 74 =160(грибов)- нашли Петя и Миша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9480" indent="-69480">
              <a:lnSpc>
                <a:spcPct val="6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2) 250 –160= 90 (грибов)- нашёл Олег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Ответ:  90 грибов;250 – (86+74)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9480" indent="-69480">
              <a:lnSpc>
                <a:spcPct val="60000"/>
              </a:lnSpc>
              <a:spcBef>
                <a:spcPts val="1199"/>
              </a:spcBef>
              <a:buClr>
                <a:srgbClr val="e4831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1) 2 х 5 =10(кг) -земляники в пяти лукошках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9480" indent="-69480">
              <a:lnSpc>
                <a:spcPct val="60000"/>
              </a:lnSpc>
              <a:spcBef>
                <a:spcPts val="1199"/>
              </a:spcBef>
              <a:buClr>
                <a:srgbClr val="e4831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2) 10-4  =6 (кг)    - земляники  осталось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Ответ: осталось 6 кг;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2 х 5 – 4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Calibri"/>
              </a:rPr>
              <a:t>       </a:t>
            </a:r>
            <a:r>
              <a:rPr b="0" lang="en-US" sz="600" spc="-1" strike="noStrike">
                <a:solidFill>
                  <a:srgbClr val="404040"/>
                </a:solidFill>
                <a:latin typeface="Calibri"/>
              </a:rPr>
              <a:t>4</a:t>
            </a:r>
            <a:r>
              <a:rPr b="0" lang="ru-RU" sz="600" spc="-1" strike="noStrike">
                <a:solidFill>
                  <a:srgbClr val="404040"/>
                </a:solidFill>
                <a:latin typeface="Calibri"/>
              </a:rPr>
              <a:t>3 – 35 =8(книг) - стояло на полке;</a:t>
            </a:r>
            <a:endParaRPr b="0" lang="en-US" sz="6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Calibri"/>
              </a:rPr>
              <a:t>Ответ: 8 книг.</a:t>
            </a:r>
            <a:endParaRPr b="0" lang="en-US" sz="6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5" name="Picture 13" descr="b1"/>
          <p:cNvPicPr/>
          <p:nvPr/>
        </p:nvPicPr>
        <p:blipFill>
          <a:blip r:embed="rId1"/>
          <a:stretch/>
        </p:blipFill>
        <p:spPr>
          <a:xfrm>
            <a:off x="6948360" y="3213000"/>
            <a:ext cx="19051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3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 Light"/>
              </a:rPr>
              <a:t>Трудные задачи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Многие трудные арифметические задачи легко решаются с помощью уравнений.</a:t>
            </a:r>
            <a:br>
              <a:rPr sz="2400"/>
            </a:b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Если вы освоите искусство составлять уравнение по условию задачи и научитесь их безошибочно решать, то эти задачи будут вам по плечу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5836-7337-41B8-BB01-DB811C5DE5F6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Рисунок 4" descr=""/>
          <p:cNvPicPr/>
          <p:nvPr/>
        </p:nvPicPr>
        <p:blipFill>
          <a:blip r:embed="rId1"/>
          <a:stretch/>
        </p:blipFill>
        <p:spPr>
          <a:xfrm>
            <a:off x="108000" y="3629160"/>
            <a:ext cx="914400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CEA7-22CC-46A9-9275-E309A62CA076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7030a0"/>
                </a:solidFill>
                <a:latin typeface="Calibri Light"/>
              </a:rPr>
              <a:t>Задача, которую можно решить уравнением: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79200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Calibri"/>
              </a:rPr>
              <a:t>На полке стояло </a:t>
            </a:r>
            <a:r>
              <a:rPr b="1" lang="ru-RU" sz="4800" spc="-1" strike="noStrike" u="sng">
                <a:solidFill>
                  <a:srgbClr val="404040"/>
                </a:solidFill>
                <a:uFillTx/>
                <a:latin typeface="Calibri"/>
              </a:rPr>
              <a:t>несколько</a:t>
            </a:r>
            <a:r>
              <a:rPr b="1" lang="ru-RU" sz="4800" spc="-1" strike="noStrike">
                <a:solidFill>
                  <a:srgbClr val="404040"/>
                </a:solidFill>
                <a:latin typeface="Calibri"/>
              </a:rPr>
              <a:t> книг, когда на полку поставили ещё 35 книг, то на ней стало 43 книги. Сколько книг стояло на полке?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9DAE-997A-4DBA-BC40-A5FDA16AB6FA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-360" y="287280"/>
            <a:ext cx="8077320" cy="9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262626"/>
                </a:solidFill>
                <a:latin typeface="Calibri Light"/>
              </a:rPr>
              <a:t>Как перевести задачу с русского</a:t>
            </a:r>
            <a:br>
              <a:rPr sz="4300"/>
            </a:br>
            <a:r>
              <a:rPr b="1" lang="ru-RU" sz="4300" spc="-1" strike="noStrike">
                <a:solidFill>
                  <a:srgbClr val="262626"/>
                </a:solidFill>
                <a:latin typeface="Calibri Light"/>
              </a:rPr>
              <a:t> языка на язык алгебры?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0" y="1523880"/>
          <a:ext cx="7920000" cy="5321520"/>
        </p:xfrm>
        <a:graphic>
          <a:graphicData uri="http://schemas.openxmlformats.org/drawingml/2006/table">
            <a:tbl>
              <a:tblPr/>
              <a:tblGrid>
                <a:gridCol w="3960720"/>
                <a:gridCol w="39592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усском язы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языке алгеб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полке стоял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несколько  книг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ff33"/>
                          </a:solidFill>
                          <a:latin typeface="Tahoma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Х кни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гда на полку поставили </a:t>
                      </a: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ещё 35 книг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ff33"/>
                          </a:solidFill>
                          <a:latin typeface="Tahoma"/>
                        </a:rPr>
                        <a:t>             </a:t>
                      </a: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Х + 35  кни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 на ней </a:t>
                      </a: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стало 43 кни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             </a:t>
                      </a: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Х + 35 = 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Скольк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книг стояло на полке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Пусть  Х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ниг стояло на полке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9:02:24Z</dcterms:created>
  <dc:creator>Userov</dc:creator>
  <dc:description/>
  <dc:language>en-US</dc:language>
  <cp:lastModifiedBy>Пользователь Windows</cp:lastModifiedBy>
  <dcterms:modified xsi:type="dcterms:W3CDTF">2020-04-24T06:00:20Z</dcterms:modified>
  <cp:revision>53</cp:revision>
  <dc:subject/>
  <dc:title>Открытый урок –исследование в 3 классе в условиях развивающего обучения по программе  « Начальная школа ХХI века</dc:title>
</cp:coreProperties>
</file>