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4FC-3536-419B-B4E8-3BE5EB03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7C6-C1EB-4268-AB64-F651322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EA9-0558-4773-9062-93A55098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85C-CDF8-42A6-9F63-B3BE914D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8A3A-F133-481D-ABD5-CFD7FD64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AB4F-65E8-456F-9F03-AAF3DFF7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CFB8-1DD1-474E-8A93-4A667464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5C7C-8760-4A54-91A8-289C65CA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9AB7-94F2-496C-842E-9779CDF0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7D46-9070-4358-BFBF-60274B48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1BF9-68FF-4A86-A03A-ACBEF4C4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320-8CAF-4F77-AC69-06CD104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18A9-BA33-467C-9335-109F133A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5E62-68F2-4917-A47D-605ACC2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3D3D-0F72-4E91-9B79-65AFDC6B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F486-726C-4703-801E-AF30F159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55BC-00CE-4D11-80A2-DB39A120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C332-88B2-40EC-A090-23946E6A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D1CC-F8BD-45E5-977B-84EF22B0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19FAF-07F8-4D30-B3E2-2181B88B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16EF-00B9-41B0-9476-D565F02D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C590-0546-4EF4-AB39-6DAE9B91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A52-EBD1-4ACA-9E98-4447DED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28D6-CDE9-4149-A732-1452A5B9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E5A1-3ABE-4775-A902-3F56A852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B534-F39B-4AFD-9CC3-5FCB994C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E96F-5DD5-4011-A0A4-F31D5E3B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44A4B-0C20-45E7-937E-4F7545E4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1B84-0777-48D8-B521-8E8BCB93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89F78-28EB-4945-8C9E-E61BFA49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EF3C-1921-46BE-8277-170129FD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F98F-6ED6-4796-9E61-F9F0ACF5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9346F-959F-4666-AF6D-B1E2ABEC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E16-A9FC-46CD-9531-D586B074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E644E-CF8B-4050-B662-0ADF4D0F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7481-A89B-4F12-AC30-9D6E9FD5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E44A-53C1-4459-A284-DFFEE3DF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C06E-B57E-46A0-8BB7-78A3DBAC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D66C-3F3B-4114-8B9E-22B1883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B0F2-3C5D-413F-BC0C-87264E0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9328-BB2A-4C59-A3F4-DA1AFE03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4E3D-F2FA-4282-8E7F-B763F9BD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E17F-2A89-433C-838B-957D4A2F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6E227-B3E1-4C33-87B2-D4E12972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E74-08DB-4D3C-A0F0-D41462D7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D6D3-8518-4879-B874-1C7AB6E4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1FC8C-0F9C-4CC8-A698-427740BF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DB764-A425-4F28-813C-5CDF48C1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438F8-55E1-4317-96D3-41E3EB76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ECBC-0CB0-495B-A916-BAA75E20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827C2-7E71-4CA8-9273-22675455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F9477-8B23-4A04-80D5-D6EBC24C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E9004-EC11-4C05-9560-64327366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C95E-829D-496E-B821-5B06716C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4805F-6D1B-4488-B869-236825A2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E24-B635-4F1B-AF90-9A12A690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E2666-1948-4E71-A805-E27D3C98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92AC-79EE-44B7-BC8B-48479A27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16662-B825-4C40-A0CB-622DF9D3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C3B88-9929-4D9F-8331-A1FDCF27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27D30-F1E1-4984-BA83-E8509CA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DAB8C-4B06-4A53-AF12-E6CC1E31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A33D-9D34-400C-9779-0F78A852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4F9FE-59BE-48E6-9514-8BD099A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DBDB0-D9B5-4D90-940D-0BA1650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6C87-A01F-4269-B1BE-A02ECCC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EE2-50A3-49A8-A23D-BA5AD844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7CD6-66D4-4B7A-9D13-01847CE6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2773C-A677-4458-B2D5-B3B06614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F3F2B-5A4D-41E0-B7A6-30DA6DC4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2C25E-3BDA-4161-B842-A0997A7E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4B0B5-F6A9-42CB-AF40-1C1EADB7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8F56-26F2-4305-A2AE-6B254578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893F7-A809-4C07-A69B-2C25125D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55D6C-DBEB-46C6-B158-A14BB566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E83F4-1B56-43C4-BA0E-85968F40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15992-1E4E-499B-AA7F-912337CA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46F-7B9C-4EDC-8CAA-BCD6791E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19363-1E16-4846-96D2-D16114A0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26D4C-78B3-4F24-9CC1-27FA0F1B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D01E3-4EF7-4916-BC27-5DC633B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78F20-A9E3-4689-9CE8-22E7B57E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6967-8535-4A8F-B917-AEC203C4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F9F-7087-4BA3-BDB8-A23E56B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2035-4FEE-48ED-B752-92BDF8633AEA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959D-F09A-4675-8219-AFE542E408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4E53-9384-406E-B34B-561E43B5C3A9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F9AD-52ED-4D37-8067-60FD268E9F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821B-AC70-475D-A352-D3CB484BFA82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5E35-E23E-4ACA-98C8-D3A0625E46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58FC-1656-4678-96A0-2134E7F12AF4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7558-DE4F-4823-AEF0-F1CAC470879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15E3-3034-416F-BDA4-6309D1AB69D2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81C1-C493-4F8B-89DD-0DA4D5267B8A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9497-C05D-4E4A-B642-FEAE4FFDB832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7911-6C1C-4538-8E82-D1AEDF608B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C728-8655-40B9-8A23-FCC468DF9053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CC46-4145-4E7C-A281-1F2FEF2F27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62626"/>
                </a:solidFill>
                <a:latin typeface="Calibri Light"/>
              </a:rPr>
              <a:t>Презентация к уроку </a:t>
            </a:r>
            <a:br>
              <a:rPr sz="7200"/>
            </a:br>
            <a:r>
              <a:rPr b="0" lang="ru-RU" sz="7200" spc="-1" strike="noStrike">
                <a:solidFill>
                  <a:srgbClr val="262626"/>
                </a:solidFill>
                <a:latin typeface="Calibri Light"/>
              </a:rPr>
              <a:t>Решение задач с помощью уравнения</a:t>
            </a:r>
            <a:endParaRPr b="0" lang="en-US" sz="7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7052"/>
                </a:solidFill>
                <a:latin typeface="Calibri Light"/>
              </a:rPr>
              <a:t>УЧИТЕЛЬ НАЧАЛЬНЫХ КЛАССО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7052"/>
                </a:solidFill>
                <a:latin typeface="Calibri Light"/>
              </a:rPr>
              <a:t>ТАЙГУНОВА Н.Л.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C2A6-AD7D-4345-8473-88E036DE3D1D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62626"/>
                </a:solidFill>
                <a:latin typeface="Calibri Light"/>
              </a:rPr>
              <a:t>Как стало выглядеть решение </a:t>
            </a:r>
            <a:br>
              <a:rPr sz="4300"/>
            </a:br>
            <a:r>
              <a:rPr b="1" lang="ru-RU" sz="4300" spc="-1" strike="noStrike">
                <a:solidFill>
                  <a:srgbClr val="262626"/>
                </a:solidFill>
                <a:latin typeface="Calibri Light"/>
              </a:rPr>
              <a:t>задачи уравнением?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усть  Х  книг стояло на полке 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гда  Х + 35  книг  стало на полке,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 это 43 книг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им  и решим уравнение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 + 35 = 43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 = 43 – 35     Проверка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 = 8               8 + 35 = 43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: 8 книг стояло на полк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372A-1776-4B04-A997-E1F2CFD5B3AC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136000" cy="588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 какого слова начинаем записывать решение задачи уравнением?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Пусть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Какие ещё  выражения надо запомнить?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Тогда.., 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Составим и решим уравнение …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Сделаем проверку…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 Light"/>
              </a:rPr>
              <a:t>Запишем ответ</a:t>
            </a:r>
            <a:r>
              <a:rPr b="0" lang="ru-RU" sz="4000" spc="-1" strike="noStrike">
                <a:solidFill>
                  <a:srgbClr val="ccff33"/>
                </a:solidFill>
                <a:latin typeface="Calibri Light"/>
              </a:rPr>
              <a:t>…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transition>
    <p:strips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4505-7666-439D-90B3-BA0E91B5990F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Calibri Light"/>
              </a:rPr>
              <a:t>Решите с помощью уравнения задачи (</a:t>
            </a:r>
            <a:r>
              <a:rPr b="1" lang="ru-RU" sz="2900" spc="-1" strike="noStrike">
                <a:solidFill>
                  <a:srgbClr val="7030a0"/>
                </a:solidFill>
                <a:latin typeface="Calibri Light"/>
              </a:rPr>
              <a:t>по  выбору</a:t>
            </a:r>
            <a:r>
              <a:rPr b="1" lang="ru-RU" sz="4300" spc="-1" strike="noStrike">
                <a:solidFill>
                  <a:srgbClr val="7030a0"/>
                </a:solidFill>
                <a:latin typeface="Calibri Light"/>
              </a:rPr>
              <a:t>)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ова задумал число. Если к этому числу прибавить 23, то получится 52. Какое число задумал Вова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У Оли было 82 рубля. Несколько рублей она заплатила за мороженое, после чего у неё осталось 63 рубля. Сколько рублей стоит мороженое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 лагере 322 человека. Несколько человек ушли в поход и в лагере осталось 275 чело-век. Сколько человек ушли в поход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Спасибо за урок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5" name="Объект 4" descr=""/>
          <p:cNvPicPr/>
          <p:nvPr/>
        </p:nvPicPr>
        <p:blipFill>
          <a:blip r:embed="rId1"/>
          <a:stretch/>
        </p:blipFill>
        <p:spPr>
          <a:xfrm>
            <a:off x="2198520" y="1557360"/>
            <a:ext cx="4746960" cy="4619520"/>
          </a:xfrm>
          <a:prstGeom prst="rect">
            <a:avLst/>
          </a:prstGeom>
          <a:ln w="0">
            <a:noFill/>
          </a:ln>
        </p:spPr>
      </p:pic>
      <p:sp>
        <p:nvSpPr>
          <p:cNvPr id="34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C048-DBB3-4783-89EE-F3C17AB1D012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8" name="Объект 4" descr=""/>
          <p:cNvPicPr/>
          <p:nvPr/>
        </p:nvPicPr>
        <p:blipFill>
          <a:blip r:embed="rId1"/>
          <a:stretch/>
        </p:blipFill>
        <p:spPr>
          <a:xfrm>
            <a:off x="33480" y="0"/>
            <a:ext cx="8785080" cy="702936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DC06-1134-4530-9D5A-2AD22E60B3D8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CAD8-560A-4498-98E5-1EA161D8964B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80808"/>
                </a:solidFill>
                <a:latin typeface="Calibri Light"/>
              </a:rPr>
              <a:t>Тема урока</a:t>
            </a:r>
            <a:r>
              <a:rPr b="0" lang="ru-RU" sz="4300" spc="-1" strike="noStrike">
                <a:solidFill>
                  <a:srgbClr val="000000"/>
                </a:solidFill>
                <a:latin typeface="Calibri Light"/>
              </a:rPr>
              <a:t>: </a:t>
            </a:r>
            <a:r>
              <a:rPr b="0" i="1" lang="ru-RU" sz="4300" spc="-1" strike="noStrike">
                <a:solidFill>
                  <a:srgbClr val="000000"/>
                </a:solidFill>
                <a:latin typeface="Calibri Light"/>
              </a:rPr>
              <a:t>Решение задач с помощью уравнения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</a:rPr>
              <a:t>Цель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. «Провести исследование условия нескольких задач и найти новый способ решения»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Задачи 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Научиться переводить условие задачи с родного языка на язык алгебры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Научиться правильно оформлять решение задачи уравнение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Стремиться к приобретению,  запоминанию и   применению новых знаний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Развивать мышление и логику 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AC60-B3D2-4166-8884-96629220DE23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 Light"/>
              </a:rPr>
              <a:t>Что знаем и умеем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уровень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и уравнения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а=3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Calibri"/>
              </a:rPr>
              <a:t>72 : 8 </a:t>
            </a:r>
            <a:r>
              <a:rPr b="0" lang="en-US" sz="2800" spc="-1" strike="noStrike">
                <a:solidFill>
                  <a:srgbClr val="cc00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cc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у – 45 =35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5f2c16"/>
                </a:solidFill>
                <a:latin typeface="Calibri"/>
              </a:rPr>
              <a:t>х=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Х+ 20 = 54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65-129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    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уровень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ли уравнение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ень 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16 + х = 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уровень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е из чисел 5, 2, 6, 3 является корнем уравнения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1) у+ 7 = 10 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2) 15 – х = 9 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5A0F-39B2-4C28-9E6C-3C3B2F756EDF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820728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04040"/>
                </a:solidFill>
                <a:latin typeface="Calibri Light"/>
              </a:rPr>
              <a:t>ПРОВЕРКА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-609480">
              <a:lnSpc>
                <a:spcPct val="7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У – 45 = 35     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х + 20= 54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у = 35 + 45    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х = 54 – 20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у = 80                    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х =34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Ответ: у =80            Ответ: х = 34      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Нет. Сумма 16 + х– не может быть равной 7. Допустим, что х= 0, то 16 + 0 = 16, а нам дано уравнение, у которого сумма равна 7,а сумма не может быть меньше слагаемого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исло 3 является корнем уравнения а+7=10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а число 6 – корень уравнения 15-х=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094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71280" cy="712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13" descr="b1"/>
          <p:cNvPicPr/>
          <p:nvPr/>
        </p:nvPicPr>
        <p:blipFill>
          <a:blip r:embed="rId1"/>
          <a:stretch/>
        </p:blipFill>
        <p:spPr>
          <a:xfrm>
            <a:off x="6877080" y="981000"/>
            <a:ext cx="1905120" cy="270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b1"/>
          <p:cNvPicPr/>
          <p:nvPr/>
        </p:nvPicPr>
        <p:blipFill>
          <a:blip r:embed="rId2"/>
          <a:stretch/>
        </p:blipFill>
        <p:spPr>
          <a:xfrm>
            <a:off x="7524720" y="2205000"/>
            <a:ext cx="1905120" cy="270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06CD-01CF-42FF-8E1A-AA079080F73B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 Light"/>
              </a:rPr>
              <a:t>                              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Решите задачи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Трое мальчиков нашли 250 грибов. Петя нашёл 86 грибов, Миша нашёл 74.  Сколько грибов нашёл Олег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В пяти лукошках по 2 кг земляники. Для варенья взяли 4 кг ягод. Сколько кг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земляники осталось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На полке стоял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сколько</a:t>
            </a: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книг, когда на полку поставили ещё 35 книг, то на ней стало 43 книги. Сколько книг стояло на полке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ED92-2A96-4B9B-BCB0-80B309935268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 Light"/>
              </a:rPr>
              <a:t>Проверим решение задач: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7000"/>
          </a:bodyPr>
          <a:p>
            <a:pPr marL="69480" indent="-69480">
              <a:lnSpc>
                <a:spcPct val="6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1) 86+ 74 =160(грибов)- нашли Петя и Миша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-69480">
              <a:lnSpc>
                <a:spcPct val="60000"/>
              </a:lnSpc>
              <a:spcBef>
                <a:spcPts val="1199"/>
              </a:spcBef>
              <a:buClr>
                <a:srgbClr val="e48312"/>
              </a:buClr>
              <a:buFont typeface="Wingdings 3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2) 250 –160= 90 (грибов)- нашёл Олег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Ответ:  90 грибов;250 – (86+74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-69480">
              <a:lnSpc>
                <a:spcPct val="60000"/>
              </a:lnSpc>
              <a:spcBef>
                <a:spcPts val="1199"/>
              </a:spcBef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1) 2 х 5 =10(кг) -земляники в пяти лукошках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-69480">
              <a:lnSpc>
                <a:spcPct val="60000"/>
              </a:lnSpc>
              <a:spcBef>
                <a:spcPts val="1199"/>
              </a:spcBef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2) 10-4  =6 (кг)    - земляники  осталось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Ответ: осталось 6 кг;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2 х 5 – 4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Calibri"/>
              </a:rPr>
              <a:t>       </a:t>
            </a:r>
            <a:r>
              <a:rPr b="0" lang="en-US" sz="6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ru-RU" sz="600" spc="-1" strike="noStrike">
                <a:solidFill>
                  <a:srgbClr val="404040"/>
                </a:solidFill>
                <a:latin typeface="Calibri"/>
              </a:rPr>
              <a:t>3 – 35 =8(книг) - стояло на полке;</a:t>
            </a: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Calibri"/>
              </a:rPr>
              <a:t>Ответ: 8 книг.</a:t>
            </a: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  <a:p>
            <a:pPr marL="694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5" name="Picture 13" descr="b1"/>
          <p:cNvPicPr/>
          <p:nvPr/>
        </p:nvPicPr>
        <p:blipFill>
          <a:blip r:embed="rId1"/>
          <a:stretch/>
        </p:blipFill>
        <p:spPr>
          <a:xfrm>
            <a:off x="6948360" y="3213000"/>
            <a:ext cx="1905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 Light"/>
              </a:rPr>
              <a:t>Трудные задачи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Многие трудные арифметические задачи легко решаются с помощью уравнений.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Если вы освоите искусство составлять уравнение по условию задачи и научитесь их безошибочно решать, то эти задачи будут вам по плечу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525-5149-4366-8948-6867C4B8F1C0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Рисунок 4" descr=""/>
          <p:cNvPicPr/>
          <p:nvPr/>
        </p:nvPicPr>
        <p:blipFill>
          <a:blip r:embed="rId1"/>
          <a:stretch/>
        </p:blipFill>
        <p:spPr>
          <a:xfrm>
            <a:off x="108000" y="3629160"/>
            <a:ext cx="914400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D50F-37B5-4E85-B711-6EBAC7E04B14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Calibri Light"/>
              </a:rPr>
              <a:t>Задача, которую можно решить уравнением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9200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Calibri"/>
              </a:rPr>
              <a:t>На полке стояло </a:t>
            </a:r>
            <a:r>
              <a:rPr b="1" lang="ru-RU" sz="4800" spc="-1" strike="noStrike" u="sng">
                <a:solidFill>
                  <a:srgbClr val="404040"/>
                </a:solidFill>
                <a:uFillTx/>
                <a:latin typeface="Calibri"/>
              </a:rPr>
              <a:t>несколько</a:t>
            </a:r>
            <a:r>
              <a:rPr b="1" lang="ru-RU" sz="4800" spc="-1" strike="noStrike">
                <a:solidFill>
                  <a:srgbClr val="404040"/>
                </a:solidFill>
                <a:latin typeface="Calibri"/>
              </a:rPr>
              <a:t> книг, когда на полку поставили ещё 35 книг, то на ней стало 43 книги. Сколько книг стояло на полке?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8909-9827-432D-9F59-56C8033156DE}" type="slidenum">
              <a:rPr b="0" lang="ru-RU" sz="1000" spc="-1" strike="noStrike">
                <a:solidFill>
                  <a:srgbClr val="fe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287280"/>
            <a:ext cx="807732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62626"/>
                </a:solidFill>
                <a:latin typeface="Calibri Light"/>
              </a:rPr>
              <a:t>Как перевести задачу с русского</a:t>
            </a:r>
            <a:br>
              <a:rPr sz="4300"/>
            </a:br>
            <a:r>
              <a:rPr b="1" lang="ru-RU" sz="4300" spc="-1" strike="noStrike">
                <a:solidFill>
                  <a:srgbClr val="262626"/>
                </a:solidFill>
                <a:latin typeface="Calibri Light"/>
              </a:rPr>
              <a:t> языка на язык алгебры?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1523880"/>
          <a:ext cx="7920000" cy="532152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усском язы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языке алгеб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полке стоял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несколько  книг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33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Х кн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гда на полку поставили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ещё 35 книг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33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Х + 35  кн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 на ней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стало 43 кни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Х + 35 = 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Скольк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книг стояло на полке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Пусть  Х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ниг стояло на полке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9:02:24Z</dcterms:created>
  <dc:creator>Userov</dc:creator>
  <dc:description/>
  <dc:language>en-US</dc:language>
  <cp:lastModifiedBy>Пользователь Windows</cp:lastModifiedBy>
  <dcterms:modified xsi:type="dcterms:W3CDTF">2020-04-24T06:00:20Z</dcterms:modified>
  <cp:revision>53</cp:revision>
  <dc:subject/>
  <dc:title>Открытый урок –исследование в 3 классе в условиях развивающего обучения по программе  « Начальная школа ХХI века</dc:title>
</cp:coreProperties>
</file>