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133-A246-47CE-B0F6-9EB669EA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22-3DCF-4560-B03D-67C7F1D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34A-8DA3-4218-8E57-6488620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083-D985-4CC3-9751-5B022D5F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DD0A-A4E5-45DD-9311-5F98D280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E83A-F209-43E8-ADA6-7A1E5AF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5DC8-7753-4945-B7FC-1C32B42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48C-FC99-41A6-9109-B1116054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B38-FD25-4759-9194-A327A634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153-5AAA-4E8C-A2D0-D2FDF29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EC89-D62D-48A7-B860-81F5F84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831-A8B2-4902-A985-8D219FE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FCD-144F-4375-8E63-607BBF1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7A5F-973D-4EDE-81CE-CA298F2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2E82-47D5-4A4C-BF94-5A19FF2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C3B-AF8A-4470-BDDB-DA19A88B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9FEE-E0FC-441B-BB50-42FDC492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CF14-1D9E-4AED-BE97-8C6BC9C0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AA21-6E53-4CB2-9D37-4019226A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E793-6A19-43FB-85F8-C1A95AE8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6435-A8FA-4919-B9EC-185F40D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4C07-D4CA-44D1-A540-8CEE416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BD0-CFF8-440D-A3AB-0255515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BB8B-F813-4E69-9E98-88DB8C6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7E1A-5BE5-4BB6-9BEA-0FC0B69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CEC0-5548-450F-8A7D-599A48F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8120-2D3C-4B0F-B2CF-2421FB1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14DD-4A9B-4950-87FE-34B4DEC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28A2-BA8C-49B9-ACF0-35FFC0A1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2974-CDBA-4042-99EF-94EA7213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268A-8BDE-4C71-B91F-C7F29E58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14A9-397E-4AD4-9C18-57D6FB28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1BAF-0DB3-49EA-A912-126D6F3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82E-D665-4521-A198-1274D9B1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CDED-FAC0-4834-8095-D7F4E99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6E27-087B-427F-A5DF-FDE5261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07CB-1AFB-4FF7-A519-84C3D34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B2D3-4D0A-48A0-B5A8-FDB582F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8B84-9669-4265-8E68-C48B2B2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B899-3442-47DD-8D88-D5AC68A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8D53-6675-4891-99A9-BA8A7EC6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A798-9D89-47EB-B602-4B1067C3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252B-3BC2-4FE7-8146-71ED908E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EC9A-B415-4381-841A-F368FF1C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484-5490-431C-B2C2-E9E22F6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77BD1-044D-4F96-A26F-625766BB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EC08-9E4A-4A8E-9622-F1E8CC1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9E25-8D9E-4C4F-8E00-35B6661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3A74-6370-4742-A377-5F4C6B4F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FB31-1034-406C-87F8-76CD93A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9836-5597-4B0D-AB0A-B1EF4604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C0D1-87AE-4997-A81B-BC5D131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6181-5C9C-4661-AC44-1D20662B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1583-A5ED-40C0-906E-C51265ED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DF38-1ADD-4514-AC6A-297B78E2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7CF-23BE-4C0D-ADE4-A924730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2365-6B2A-4998-8099-E1406156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6CC9-CF5F-467B-8CC0-C4E6E0FE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F3DC-994E-4885-8CE8-EC4F19E0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8DCAC-18C4-46C7-AE68-1781DB50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904C-A883-4BAD-9F5F-47B157C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E4FDF-B69F-4ACC-9C0A-F46BD12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AF03-8928-4740-8729-1C0D6A8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C0ED-F80C-4D79-AF9F-D367ADAC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39ED-EF42-4D95-95FD-92471F3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5217-CCB6-473E-AED6-7C70D8C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691-2BC4-41CF-A391-5CE8FBA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C5C0-C429-47C5-B652-0CD56CA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B91B-A9C4-4CD2-848E-53EFAA8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7C2E-9D38-49CC-8A35-BC9BE745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4C7-119A-4DBD-9087-0725ED2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340-87A4-4C23-8098-6BA6EF4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81280" cy="5051160"/>
            <a:chOff x="3800520" y="1789200"/>
            <a:chExt cx="5381280" cy="5051160"/>
          </a:xfrm>
        </p:grpSpPr>
        <p:sp>
          <p:nvSpPr>
            <p:cNvPr id="1" name=""/>
            <p:cNvSpPr/>
            <p:nvPr/>
          </p:nvSpPr>
          <p:spPr>
            <a:xfrm>
              <a:off x="6735240" y="2166840"/>
              <a:ext cx="308880" cy="1573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45400" y="18813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96920" y="2376000"/>
              <a:ext cx="5040" cy="328608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59080" y="5568840"/>
              <a:ext cx="100080" cy="1476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45480" y="2436480"/>
              <a:ext cx="4680" cy="31669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84520" y="2419200"/>
              <a:ext cx="5040" cy="13939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74520" y="2884320"/>
              <a:ext cx="4680" cy="32227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84080" y="2892240"/>
              <a:ext cx="4680" cy="335880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6880" y="2968560"/>
              <a:ext cx="4680" cy="30211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77400" y="4795920"/>
              <a:ext cx="990000" cy="2426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84120" y="5700600"/>
              <a:ext cx="1586520" cy="19548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22280" y="5786280"/>
              <a:ext cx="1548360" cy="38448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50720" y="5700600"/>
              <a:ext cx="1518480" cy="13824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63600" y="2446200"/>
              <a:ext cx="157320" cy="2415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63600" y="2682720"/>
              <a:ext cx="138240" cy="1479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63600" y="2806560"/>
              <a:ext cx="13824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5600" y="1913040"/>
              <a:ext cx="157680" cy="2426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26760" y="2141640"/>
              <a:ext cx="128520" cy="14760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5600" y="2274840"/>
              <a:ext cx="13860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49000" y="5595840"/>
              <a:ext cx="100080" cy="1476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6640" y="1789200"/>
              <a:ext cx="4155840" cy="6998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63080" y="5989680"/>
              <a:ext cx="128520" cy="14616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14520" y="6146640"/>
              <a:ext cx="13824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09800" cy="1382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201400" cy="61272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95440" cy="45252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72680" cy="34416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57280" y="6013440"/>
              <a:ext cx="138600" cy="1476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39280" y="5719680"/>
              <a:ext cx="109800" cy="1666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48200" y="2814480"/>
              <a:ext cx="270360" cy="402588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27760" y="2452680"/>
              <a:ext cx="115920" cy="37620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17960" y="2766960"/>
              <a:ext cx="321480" cy="7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56560" y="2427120"/>
              <a:ext cx="397440" cy="24973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36960" y="2255760"/>
              <a:ext cx="502560" cy="21456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04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04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7804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87B44-4BC9-4ABC-B7BD-39849180B73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81280" cy="5051160"/>
            <a:chOff x="3800520" y="1789200"/>
            <a:chExt cx="5381280" cy="5051160"/>
          </a:xfrm>
        </p:grpSpPr>
        <p:sp>
          <p:nvSpPr>
            <p:cNvPr id="77" name=""/>
            <p:cNvSpPr/>
            <p:nvPr/>
          </p:nvSpPr>
          <p:spPr>
            <a:xfrm>
              <a:off x="6735240" y="2166840"/>
              <a:ext cx="308880" cy="1573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5400" y="18813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20000">
              <a:off x="8296920" y="2376000"/>
              <a:ext cx="5040" cy="328608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59080" y="5568840"/>
              <a:ext cx="100080" cy="1476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0000">
              <a:off x="8745480" y="2436480"/>
              <a:ext cx="4680" cy="31669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84520" y="2419200"/>
              <a:ext cx="5040" cy="13939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60000">
              <a:off x="5474520" y="2884320"/>
              <a:ext cx="4680" cy="32227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40000">
              <a:off x="4384080" y="2892240"/>
              <a:ext cx="4680" cy="335880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26880" y="2968560"/>
              <a:ext cx="4680" cy="302112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7400" y="4795920"/>
              <a:ext cx="990000" cy="24264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84120" y="5700600"/>
              <a:ext cx="1586520" cy="19548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2280" y="5786280"/>
              <a:ext cx="1548360" cy="38448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50720" y="5700600"/>
              <a:ext cx="1518480" cy="13824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3600" y="2446200"/>
              <a:ext cx="157320" cy="2415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63600" y="2682720"/>
              <a:ext cx="138240" cy="14796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63600" y="2806560"/>
              <a:ext cx="13824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715600" y="1913040"/>
              <a:ext cx="157680" cy="24264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26760" y="2141640"/>
              <a:ext cx="128520" cy="14760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15600" y="2274840"/>
              <a:ext cx="13860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49000" y="5595840"/>
              <a:ext cx="100080" cy="14760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96640" y="1789200"/>
              <a:ext cx="4155840" cy="69984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63080" y="5989680"/>
              <a:ext cx="128520" cy="14616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4520" y="6146640"/>
              <a:ext cx="138240" cy="16668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09800" cy="13824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201400" cy="61272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95440" cy="45252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72680" cy="34416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7280" y="6013440"/>
              <a:ext cx="138600" cy="14760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39280" y="5719680"/>
              <a:ext cx="109800" cy="16668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48200" y="2814480"/>
              <a:ext cx="270360" cy="402588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27760" y="2452680"/>
              <a:ext cx="115920" cy="376200"/>
            </a:xfrm>
            <a:prstGeom prst="rect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17960" y="2766960"/>
              <a:ext cx="321480" cy="7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6560" y="2427120"/>
              <a:ext cx="397440" cy="24973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36960" y="2255760"/>
              <a:ext cx="502560" cy="21456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04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04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3080" y="627804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8D3F9-2105-448B-9FBA-C3F1927732D7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6894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160E-B04B-4B9A-9A05-AD1B7D171739}" type="slidenum">
              <a:rPr b="0" lang="ru-RU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-430560"/>
            <a:ext cx="7790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9160" cy="65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733B1-4031-4E7E-94DD-4873075135F9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4056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719360"/>
            <a:ext cx="82263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5AE67-388B-467A-9B8A-8B0AC1F5182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153280" y="152280"/>
            <a:ext cx="789120" cy="1292400"/>
            <a:chOff x="8153280" y="152280"/>
            <a:chExt cx="789120" cy="1292400"/>
          </a:xfrm>
        </p:grpSpPr>
        <p:sp>
          <p:nvSpPr>
            <p:cNvPr id="252" name=""/>
            <p:cNvSpPr/>
            <p:nvPr/>
          </p:nvSpPr>
          <p:spPr>
            <a:xfrm>
              <a:off x="81532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21760" y="1522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9880" y="1522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532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21760" y="320760"/>
              <a:ext cx="11736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89880" y="320760"/>
              <a:ext cx="117720" cy="117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56560" y="3207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53280" y="48888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21760" y="488880"/>
              <a:ext cx="11736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8988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56560" y="48888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25040" y="488880"/>
              <a:ext cx="11736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3280" y="655560"/>
              <a:ext cx="117720" cy="1177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21760" y="655560"/>
              <a:ext cx="11736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89880" y="655560"/>
              <a:ext cx="117720" cy="1177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6560" y="655560"/>
              <a:ext cx="117720" cy="1177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53280" y="82404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760" y="824040"/>
              <a:ext cx="11736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8988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6560" y="82404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5040" y="824040"/>
              <a:ext cx="1173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3280" y="992160"/>
              <a:ext cx="117720" cy="117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21760" y="992160"/>
              <a:ext cx="11736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89880" y="992160"/>
              <a:ext cx="11772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656560" y="992160"/>
              <a:ext cx="11772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53280" y="1160640"/>
              <a:ext cx="11772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21760" y="1160640"/>
              <a:ext cx="11736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8988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56560" y="1160640"/>
              <a:ext cx="117720" cy="115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21760" y="1328760"/>
              <a:ext cx="11736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56560" y="1328760"/>
              <a:ext cx="11772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3238560" y="0"/>
            <a:ext cx="11922120" cy="3807000"/>
            <a:chOff x="-3238560" y="0"/>
            <a:chExt cx="11922120" cy="3807000"/>
          </a:xfrm>
        </p:grpSpPr>
        <p:sp>
          <p:nvSpPr>
            <p:cNvPr id="320" name=""/>
            <p:cNvSpPr/>
            <p:nvPr/>
          </p:nvSpPr>
          <p:spPr>
            <a:xfrm>
              <a:off x="-3238560" y="685800"/>
              <a:ext cx="4111560" cy="31212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2425680" y="0"/>
              <a:ext cx="3090960" cy="3151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1523880"/>
              <a:ext cx="7311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0160" y="248760"/>
            <a:ext cx="7310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01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E2EE5-742B-42E9-8F00-612F09F6D8A6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Правовое государст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конодательная власт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ламент. Должна заботиться о создании правовых законов, которые признают, гарантируют и защищают права человека. Законодательная власть должна избираться всем народом, выражать его волю и представлять его интересы. Наш парламент называется Федеральным советом и состоит из двух палат- Совета Федерации и Государственной Ду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полнительная вла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должна действовать на основе принятых представительной властью законов и опираться на них, принимая правительственные решения. Исполнительная власть не избирается, а чаще всего назначае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удебная вла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амостоятельная и независимая ветвь власти. Её исключительные полномочия- защищать право путём осуществления правосудия. Согласно Конституции РФ в России судебная власть состоит из трёх видов судов- конституционных судов, судов общей юрисдикции, арбитражных суд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c10b0b"/>
                </a:solidFill>
                <a:uFillTx/>
                <a:latin typeface="Arial"/>
              </a:rPr>
              <a:t>Платон и Аристоте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708360" y="1628640"/>
            <a:ext cx="498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ласть должна подчиняться закону, праву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ам, где отсутствует власть права, не может быть и разумно организованного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45780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10b0b"/>
                </a:solidFill>
                <a:latin typeface="Arial"/>
              </a:rPr>
              <a:t>Цицер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точник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ва – народ. Право человеку никем не даровано, оно принадлежит ему потому, что он – челов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298680" cy="3959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10b0b"/>
                </a:solidFill>
                <a:latin typeface="Arial"/>
              </a:rPr>
              <a:t>Кан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гражданин, так и государство обязаны подчиняться строго определённым и общепринятым ограничениям – правовым законам, и это разумное ограничение есть подлинная своб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39264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такое правовое государств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о, в котором люди не имеют ни как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о, которое не ограниченное в своих действиях прав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о, в котором обеспечены права и свободы человека и гражданина, а власть подчинена пра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кая из ветвей государственной власти является парламен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ьная вл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одательная вл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ебная вл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0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сущность правового государ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ить права человека и гражда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бжать экономическими средствами на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аничить права человека и гражда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национальной без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0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смысл суждения, высказанного Цицероном, «право выше власт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о должно иметь такое устройство, при котором сама власть подчинена пр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о, в котором правительство управляет вла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сть имеет право абсолютно на вс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три суждения 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0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равовое государство – государство, ограниченное в своих действиях правом, прежде всего конституцией, подчинённое воле суверенного народа и призванное обеспечить основополагающие права 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свободы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сказал эти сло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ля меня не важно, на чьей стороне сила; важно то, на чьей стороне пра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.А.Кистя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.В.Толст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Гю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48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0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–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–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–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0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Цель и признаки правового государ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300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Структу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Основные черт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Законы должны быть правовыми, то есть</a:t>
            </a: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70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иниматься компетентными орган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иниматься в соответствии с установленной процедур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 противоречить ни Конституции, ни друг другу.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аксимально соответствовать представлениям общества о справедлив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1960"/>
            <a:ext cx="854064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редпосылки создания и функционирования правового государств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жим демокра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ая система законод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ий уровень сознания и культуры личности и об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ственные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ское общ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Пути формирования правового государ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стижение такого состояния жизни общества, при котором соблюдение закона было бы выгоднее его нарушения               высокий уровень правовой культуры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вращение закона в в решающее средство управления всеми сторонами жизни общества, изменение соотношения закона с подзаконными актами в пользу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деление власт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дате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ните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деб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08:31Z</dcterms:created>
  <dc:creator>Irinka</dc:creator>
  <dc:description/>
  <dc:language>en-US</dc:language>
  <cp:lastModifiedBy>Irinka</cp:lastModifiedBy>
  <dcterms:modified xsi:type="dcterms:W3CDTF">2012-10-25T08:00:31Z</dcterms:modified>
  <cp:revision>4</cp:revision>
  <dc:subject/>
  <dc:title>Правовое государство</dc:title>
</cp:coreProperties>
</file>