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7D3-A716-4D87-80E9-45D93243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0E6-B053-4C77-B7B7-D900A4B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C6A-9426-4860-8519-D457F117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582-2276-4B05-8F5D-7849CFB9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E93-F6D1-49AB-9A12-8CE2995C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B30-4A14-48AF-804F-CD9A2440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A5E3-D680-4E5E-8241-A3C6FB8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734-832C-4B3A-8819-4222929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405E-2D55-491F-B4E6-827F176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D31-32C4-4788-B845-5E7F7CA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8655-F177-408F-B4A2-1F5D213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ED3-BD39-492A-8D2F-79F492A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D24-73B9-467B-A04C-1AC2BB4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F29-5BA3-4A63-B83E-E227ED0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F25-8E64-4D0C-9D9A-EAEA5833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0AB7-8871-4040-BDF2-16038DA1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B1E1-B146-46EC-AB17-6D22232B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214-F314-4731-A3E5-459FCA8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7AB-2988-427C-AF15-602C8AD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2A8-CB25-4480-894A-E64F8D58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9D5-4210-4DA6-A7C6-A30F1F2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2C3-B104-4BC1-AC4D-BA2450A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806-D43B-4D96-8C86-9ECEBEC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0F7-A0A8-4459-B5BD-44193DCB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5EF-BEDD-447A-A018-3B585F8AD6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893-9B79-4292-B615-71D8D385AFD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27280" y="1988640"/>
            <a:ext cx="468144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Фовизм </a:t>
            </a:r>
            <a:br>
              <a:rPr sz="72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(1905 -1907)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Выполнил Аитов А, 7Г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ransition spd="slow"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4643280" y="6491160"/>
            <a:ext cx="37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ре Дерен«Лодки в Коллиур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fovizm06"/>
          <p:cNvPicPr/>
          <p:nvPr/>
        </p:nvPicPr>
        <p:blipFill>
          <a:blip r:embed="rId1"/>
          <a:stretch/>
        </p:blipFill>
        <p:spPr>
          <a:xfrm>
            <a:off x="684360" y="260280"/>
            <a:ext cx="7705440" cy="6139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5435640" y="6021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859280" y="6308640"/>
            <a:ext cx="38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ре Дерен «Красный пару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Derain2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5869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1332000" y="54936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26920" y="549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льбер Марке (1875-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26920" y="1268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узский живописец-пейзажист. Примыкал к фовизму, писал жизнерадостно-яркие, однако более спокойные, чем у других фови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йз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a0000eb3"/>
          <p:cNvPicPr/>
          <p:nvPr/>
        </p:nvPicPr>
        <p:blipFill>
          <a:blip r:embed="rId1"/>
          <a:stretch/>
        </p:blipFill>
        <p:spPr>
          <a:xfrm>
            <a:off x="539640" y="2708280"/>
            <a:ext cx="2951280" cy="242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luxemburg_garden"/>
          <p:cNvPicPr/>
          <p:nvPr/>
        </p:nvPicPr>
        <p:blipFill>
          <a:blip r:embed="rId2"/>
          <a:stretch/>
        </p:blipFill>
        <p:spPr>
          <a:xfrm>
            <a:off x="4643280" y="3789360"/>
            <a:ext cx="3306960" cy="23526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arbour_menton"/>
          <p:cNvPicPr/>
          <p:nvPr/>
        </p:nvPicPr>
        <p:blipFill>
          <a:blip r:embed="rId1"/>
          <a:stretch/>
        </p:blipFill>
        <p:spPr>
          <a:xfrm>
            <a:off x="611280" y="189000"/>
            <a:ext cx="80326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osters"/>
          <p:cNvPicPr/>
          <p:nvPr/>
        </p:nvPicPr>
        <p:blipFill>
          <a:blip r:embed="rId1"/>
          <a:stretch/>
        </p:blipFill>
        <p:spPr>
          <a:xfrm>
            <a:off x="539640" y="189000"/>
            <a:ext cx="7891560" cy="6305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780000" y="6524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ер Марке «Афиши в Трувил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ont_neuf"/>
          <p:cNvPicPr/>
          <p:nvPr/>
        </p:nvPicPr>
        <p:blipFill>
          <a:blip r:embed="rId1"/>
          <a:stretch/>
        </p:blipFill>
        <p:spPr>
          <a:xfrm>
            <a:off x="611280" y="189000"/>
            <a:ext cx="7632720" cy="6259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348000" y="649116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ер Марке «Понт-нё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362_30010"/>
          <p:cNvPicPr/>
          <p:nvPr/>
        </p:nvPicPr>
        <p:blipFill>
          <a:blip r:embed="rId1"/>
          <a:stretch/>
        </p:blipFill>
        <p:spPr>
          <a:xfrm>
            <a:off x="611280" y="189000"/>
            <a:ext cx="7632720" cy="6453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132000" y="6308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рис де Вламинк «Вид на Сену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lackadder ITC"/>
              </a:rPr>
              <a:t>ФОВИЗМ</a:t>
            </a: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 (от франц.  fauve дикий), течение во французской живописи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на время объединило общее стремление к эмоциональной силе художественного выражения, к стихийной динамике письма, интенсивности открытого цвета и остроте ритма. В пейзажах, интерьерных сценах, натюрмортах фовизм выразил себя в резком обобщении</a:t>
            </a:r>
            <a:r>
              <a:rPr b="1" lang="en-US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объемов, пространтсва рисунка.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65959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ри Матисс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69-1954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ьбер Марке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75-19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дре Дерен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80-195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уль Дюфи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77-1953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ис де Вламинк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76-1958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орж Руо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71-1958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орж Брак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882-1963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32920" cy="1008360"/>
          </a:xfrm>
          <a:prstGeom prst="rect">
            <a:avLst/>
          </a:prstGeom>
          <a:noFill/>
          <a:ln w="3240">
            <a:solidFill>
              <a:srgbClr val="ffffff">
                <a:alpha val="26000"/>
              </a:srgbClr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Художники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p:transition advTm="8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219640" y="836640"/>
            <a:ext cx="39243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Анри Мат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(1869-1954)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796000" y="148428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724360" y="2349360"/>
            <a:ext cx="32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узский живописец, график и скульпто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оположник фовизма, стремившийся к обновлению декоративного искус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сность и радостная уравновешенность которого должны были, по его мнен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ваться зр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atiss"/>
          <p:cNvPicPr/>
          <p:nvPr/>
        </p:nvPicPr>
        <p:blipFill>
          <a:blip r:embed="rId1"/>
          <a:stretch/>
        </p:blipFill>
        <p:spPr>
          <a:xfrm>
            <a:off x="684360" y="189000"/>
            <a:ext cx="471168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age_204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5848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419640" y="616572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419640" y="630864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635280" y="630864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ри Матисс «Натюрморт с Танцем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132000" y="630864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92720" y="5805360"/>
            <a:ext cx="417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ри Мати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урпурные буковые деревь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58"/>
          <p:cNvPicPr/>
          <p:nvPr/>
        </p:nvPicPr>
        <p:blipFill>
          <a:blip r:embed="rId1"/>
          <a:stretch/>
        </p:blipFill>
        <p:spPr>
          <a:xfrm>
            <a:off x="395280" y="260280"/>
            <a:ext cx="532764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859280" y="6521400"/>
            <a:ext cx="34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ри Матисс «Радость жизн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0001mt6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018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258920" y="33336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ндре Дерен (1880-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60" y="1125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узский живописец. Писал в духе фовизма пейзажи, стремясь передать напряжённость жизни природы; их декоративный эффект основан на предельно интенсивном звучании крупных пятен чистых контрастных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Derain1"/>
          <p:cNvPicPr/>
          <p:nvPr/>
        </p:nvPicPr>
        <p:blipFill>
          <a:blip r:embed="rId1"/>
          <a:stretch/>
        </p:blipFill>
        <p:spPr>
          <a:xfrm>
            <a:off x="1332000" y="2924280"/>
            <a:ext cx="2601720" cy="2239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erain5"/>
          <p:cNvPicPr/>
          <p:nvPr/>
        </p:nvPicPr>
        <p:blipFill>
          <a:blip r:embed="rId2"/>
          <a:stretch/>
        </p:blipFill>
        <p:spPr>
          <a:xfrm>
            <a:off x="5148360" y="3429000"/>
            <a:ext cx="235116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ovizm05"/>
          <p:cNvPicPr/>
          <p:nvPr/>
        </p:nvPicPr>
        <p:blipFill>
          <a:blip r:embed="rId1"/>
          <a:stretch/>
        </p:blipFill>
        <p:spPr>
          <a:xfrm>
            <a:off x="826920" y="404640"/>
            <a:ext cx="7344000" cy="5751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059280" y="6308640"/>
            <a:ext cx="53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987640" y="6381720"/>
            <a:ext cx="59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ре Дерен «Порт в Гавр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49:08Z</dcterms:created>
  <dc:creator>Fate</dc:creator>
  <dc:description/>
  <dc:language>en-US</dc:language>
  <cp:lastModifiedBy>Лариса</cp:lastModifiedBy>
  <dcterms:modified xsi:type="dcterms:W3CDTF">2020-06-20T13:00:45Z</dcterms:modified>
  <cp:revision>22</cp:revision>
  <dc:subject/>
  <dc:title>Слайд 1</dc:title>
</cp:coreProperties>
</file>