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D47F-66BE-4809-B1C0-215CD49BA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069B-E1BD-4C01-9469-9AB575385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CE0B-9430-4CD1-928C-21BF05E85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33B0-F504-4E0B-B486-0D1013F36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1CD7-5495-449F-BB31-7D7F4DE35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E982-BD78-4E67-8D2D-2BCE3EAAB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B571-BFF6-4B6A-B4AB-89422EE92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7D40-FA90-486E-979F-F24BB5DE9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CBBA-04C6-4CB6-97A3-5E42DA6F3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0403-9F6B-4D04-AF93-944C4EEBA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F9F8-1A02-4811-9F02-A79FDD411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E70A-5500-4580-93A1-391377796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20982-41BD-47F6-BF2F-BC76A7B378A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0574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ffff"/>
                </a:solidFill>
                <a:latin typeface="ChinaCyr"/>
              </a:rPr>
              <a:t>Использование инновационных здоровьесберегающих технологий-ХАТХА-ИОГИ.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ccffff"/>
                </a:solidFill>
                <a:latin typeface="ChinaCyr"/>
              </a:rPr>
              <a:t>Поленок К.А</a:t>
            </a:r>
            <a:br>
              <a:rPr sz="6000"/>
            </a:br>
            <a:r>
              <a:rPr b="0" lang="ru-RU" sz="6000" spc="-1" strike="noStrike">
                <a:solidFill>
                  <a:srgbClr val="ccffff"/>
                </a:solidFill>
                <a:latin typeface="ChinaCyr"/>
              </a:rPr>
              <a:t>Шкляр В.С</a:t>
            </a:r>
            <a:endParaRPr b="0" lang="en-US" sz="6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04920" y="151920"/>
            <a:ext cx="854064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16"/>
                </a:solidFill>
                <a:latin typeface="Arial"/>
              </a:rPr>
              <a:t>5. Поза воина II (Вирабхадрасана 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1616"/>
                </a:solidFill>
                <a:latin typeface="Arial"/>
              </a:rPr>
              <a:t>Может, конечно, название и не говорит о дзене, но поверьте, именно эта поза поможет успокоиться, а ещё подтянет ноги, укрепит лодыжки и повысит вынослив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4" descr="25 поз из йоги, которые должен знать каждый. Изображение номер 5"/>
          <p:cNvPicPr/>
          <p:nvPr/>
        </p:nvPicPr>
        <p:blipFill>
          <a:blip r:embed="rId1"/>
          <a:stretch/>
        </p:blipFill>
        <p:spPr>
          <a:xfrm>
            <a:off x="533520" y="2209680"/>
            <a:ext cx="8076960" cy="45342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98440" y="372600"/>
            <a:ext cx="854064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16"/>
                </a:solidFill>
                <a:latin typeface="Arial"/>
              </a:rPr>
              <a:t>6.Поза дерева (Врикшасан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1616"/>
                </a:solidFill>
                <a:latin typeface="Arial"/>
              </a:rPr>
              <a:t>Эта поза — одна из лучших для развития баланса. Также растягивает лодыжки и бёд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4" descr="25 поз из йоги, которые должен знать каждый. Изображение номер 7"/>
          <p:cNvPicPr/>
          <p:nvPr/>
        </p:nvPicPr>
        <p:blipFill>
          <a:blip r:embed="rId1"/>
          <a:stretch/>
        </p:blipFill>
        <p:spPr>
          <a:xfrm>
            <a:off x="495360" y="1905120"/>
            <a:ext cx="8147160" cy="4572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374760" y="372600"/>
            <a:ext cx="854064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16"/>
                </a:solidFill>
                <a:latin typeface="Arial"/>
              </a:rPr>
              <a:t>7. Поза моста (Сету Бандха Сарвангасан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1616"/>
                </a:solidFill>
                <a:latin typeface="Arial"/>
              </a:rPr>
              <a:t>Помогает растянуть шею и позвоночник, а также успокоить ум, уменьшить беспокойство и улучшить пищевар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4" descr="25 поз из йоги, которые должен знать каждый. Изображение номер 8"/>
          <p:cNvPicPr/>
          <p:nvPr/>
        </p:nvPicPr>
        <p:blipFill>
          <a:blip r:embed="rId1"/>
          <a:srcRect l="9000" t="10543" r="6000" b="0"/>
          <a:stretch/>
        </p:blipFill>
        <p:spPr>
          <a:xfrm>
            <a:off x="839880" y="2057400"/>
            <a:ext cx="7610400" cy="44956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01680" y="228240"/>
            <a:ext cx="854064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16"/>
                </a:solidFill>
                <a:latin typeface="Arial"/>
              </a:rPr>
              <a:t>8. Поза «собаки, смотрящей вверх» (Урдхва Мукха Шванасан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1616"/>
                </a:solidFill>
                <a:latin typeface="Arial"/>
              </a:rPr>
              <a:t>Открывает плечи и грудную клетку, помогает растянуть пресс и бёдра. Обычно выполняется после позы посох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4" descr="25 поз из йоги, которые должен знать каждый. Изображение номер 13"/>
          <p:cNvPicPr/>
          <p:nvPr/>
        </p:nvPicPr>
        <p:blipFill>
          <a:blip r:embed="rId1"/>
          <a:srcRect l="7618" t="6776" r="9626" b="0"/>
          <a:stretch/>
        </p:blipFill>
        <p:spPr>
          <a:xfrm>
            <a:off x="1143000" y="2362320"/>
            <a:ext cx="6858000" cy="43354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301680" y="228240"/>
            <a:ext cx="854064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16"/>
                </a:solidFill>
                <a:latin typeface="Arial"/>
              </a:rPr>
              <a:t>9. Поза лука (Дханурасан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1616"/>
                </a:solidFill>
                <a:latin typeface="Arial"/>
              </a:rPr>
              <a:t>Помогает растянуть мышцы грудной клетки и плечи, а также массирует органы брюшной пол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2" descr="25 поз из йоги, которые должен знать каждый. Изображение номер 18"/>
          <p:cNvPicPr/>
          <p:nvPr/>
        </p:nvPicPr>
        <p:blipFill>
          <a:blip r:embed="rId1"/>
          <a:stretch/>
        </p:blipFill>
        <p:spPr>
          <a:xfrm>
            <a:off x="363600" y="1600200"/>
            <a:ext cx="8416800" cy="47242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01680" y="228240"/>
            <a:ext cx="854064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16"/>
                </a:solidFill>
                <a:latin typeface="Arial"/>
              </a:rPr>
              <a:t>10. Поза мертвеца (Шавасан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1616"/>
                </a:solidFill>
                <a:latin typeface="Arial"/>
              </a:rPr>
              <a:t>Самая простая поза из всех, обычно именно ею заканчиваются все занятия йогой. Она расслабляет тело, так что используйте её не только после занятий, но и в конце трудного рабочего дн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6" descr="25 поз из йоги, которые должен знать каждый. Изображение номер 10"/>
          <p:cNvPicPr/>
          <p:nvPr/>
        </p:nvPicPr>
        <p:blipFill>
          <a:blip r:embed="rId1"/>
          <a:srcRect l="12000" t="21380" r="13003" b="0"/>
          <a:stretch/>
        </p:blipFill>
        <p:spPr>
          <a:xfrm>
            <a:off x="1009800" y="2438280"/>
            <a:ext cx="7124400" cy="41911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298440" y="193320"/>
            <a:ext cx="854064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16"/>
                </a:solidFill>
                <a:latin typeface="Arial"/>
              </a:rPr>
              <a:t>Поза МАРИЧИАСА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16"/>
                </a:solidFill>
                <a:latin typeface="Arial"/>
              </a:rPr>
              <a:t>Эта асана посвящена мудрецу Маричи. Маричи был дедом Сурьи </a:t>
            </a:r>
            <a:r>
              <a:rPr b="1" i="1" lang="ru-RU" sz="2800" spc="-1" strike="noStrike">
                <a:solidFill>
                  <a:srgbClr val="161616"/>
                </a:solidFill>
                <a:latin typeface="Arial"/>
              </a:rPr>
              <a:t>(Бога Солнца)</a:t>
            </a:r>
            <a:r>
              <a:rPr b="1" lang="ru-RU" sz="2800" spc="-1" strike="noStrike">
                <a:solidFill>
                  <a:srgbClr val="16161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4" descr="http://www.yoga.ru/files/main/image/zbyisy_sbynbvb_2.jpg"/>
          <p:cNvPicPr/>
          <p:nvPr/>
        </p:nvPicPr>
        <p:blipFill>
          <a:blip r:embed="rId1"/>
          <a:stretch/>
        </p:blipFill>
        <p:spPr>
          <a:xfrm>
            <a:off x="3906720" y="4038480"/>
            <a:ext cx="5189760" cy="26290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http://www.yoga.ru/files/main/image/zbyisy_sbynbvb_.jpg"/>
          <p:cNvPicPr/>
          <p:nvPr/>
        </p:nvPicPr>
        <p:blipFill>
          <a:blip r:embed="rId2"/>
          <a:stretch/>
        </p:blipFill>
        <p:spPr>
          <a:xfrm>
            <a:off x="14400" y="1828800"/>
            <a:ext cx="4489200" cy="33526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298440" y="193320"/>
            <a:ext cx="854064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16"/>
                </a:solidFill>
                <a:latin typeface="Arial"/>
              </a:rPr>
              <a:t>Поза ДЖАНУ ШИРШАСА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61616"/>
                </a:solidFill>
                <a:latin typeface="Arial"/>
              </a:rPr>
              <a:t>Джану — это «колено», ширша — «голова». Это поза сидя, в которой одна нога сгибается в колене, а другая — вытягивается вперед, руки захватывают стопу вытянутой ноги, а голова опускается на колено той же ног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2" descr="http://www.yoga.ru/files/main/image/j_bvyo_syiy_bynbvb.jpg"/>
          <p:cNvPicPr/>
          <p:nvPr/>
        </p:nvPicPr>
        <p:blipFill>
          <a:blip r:embed="rId1"/>
          <a:stretch/>
        </p:blipFill>
        <p:spPr>
          <a:xfrm>
            <a:off x="50760" y="2286000"/>
            <a:ext cx="4442040" cy="3305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http://www.yoga.ru/files/main/image/j_bvyo_syiy_bynbvb2.jpg"/>
          <p:cNvPicPr/>
          <p:nvPr/>
        </p:nvPicPr>
        <p:blipFill>
          <a:blip r:embed="rId2"/>
          <a:stretch/>
        </p:blipFill>
        <p:spPr>
          <a:xfrm>
            <a:off x="4586400" y="3429000"/>
            <a:ext cx="4500360" cy="32767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298440" y="193320"/>
            <a:ext cx="854064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16"/>
                </a:solidFill>
                <a:latin typeface="Arial"/>
              </a:rPr>
              <a:t>Поза Баддха Конаса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1616"/>
                </a:solidFill>
                <a:latin typeface="Arial"/>
              </a:rPr>
              <a:t>Баддха означает «ограниченный», «связанный», а кона — «угол». В этой позе в Индии сидят сапожники: таз на полу, пятки возле промежности, руки на стопах. При этом бедра отводятся в стороны до тех пор, пока колени не коснутся пол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2" descr="http://www.yoga.ru/files/main/image/dbyyytb_vdvbynbvb.jpg"/>
          <p:cNvPicPr/>
          <p:nvPr/>
        </p:nvPicPr>
        <p:blipFill>
          <a:blip r:embed="rId1"/>
          <a:stretch/>
        </p:blipFill>
        <p:spPr>
          <a:xfrm>
            <a:off x="152280" y="2666880"/>
            <a:ext cx="4257720" cy="31244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http://www.yoga.ru/files/main/image/dbyyytb_vdvbynbvb2.jpg"/>
          <p:cNvPicPr/>
          <p:nvPr/>
        </p:nvPicPr>
        <p:blipFill>
          <a:blip r:embed="rId2"/>
          <a:stretch/>
        </p:blipFill>
        <p:spPr>
          <a:xfrm>
            <a:off x="4556160" y="3352680"/>
            <a:ext cx="4505400" cy="32324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2004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cffff"/>
                </a:solidFill>
                <a:latin typeface="ChinaCyr"/>
              </a:rPr>
              <a:t>СПАСИБО ЗА ВНИМАНИЕ!</a:t>
            </a:r>
            <a:br>
              <a:rPr sz="6000"/>
            </a:br>
            <a:br>
              <a:rPr sz="6000"/>
            </a:br>
            <a:br>
              <a:rPr sz="6000"/>
            </a:b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2"/>
                </a:solidFill>
                <a:latin typeface="ChinaCyr"/>
              </a:rPr>
              <a:t>Показания</a:t>
            </a:r>
            <a:r>
              <a:rPr b="0" lang="ru-RU" sz="4000" spc="-1" strike="noStrike">
                <a:solidFill>
                  <a:srgbClr val="ccffff"/>
                </a:solidFill>
                <a:latin typeface="ChinaCyr"/>
              </a:rPr>
              <a:t> </a:t>
            </a:r>
            <a:r>
              <a:rPr b="0" lang="ru-RU" sz="4000" spc="-1" strike="noStrike">
                <a:solidFill>
                  <a:srgbClr val="000092"/>
                </a:solidFill>
                <a:latin typeface="ChinaCyr"/>
              </a:rPr>
              <a:t>к</a:t>
            </a:r>
            <a:r>
              <a:rPr b="0" lang="ru-RU" sz="4000" spc="-1" strike="noStrike">
                <a:solidFill>
                  <a:srgbClr val="ccffff"/>
                </a:solidFill>
                <a:latin typeface="ChinaCyr"/>
              </a:rPr>
              <a:t> </a:t>
            </a:r>
            <a:r>
              <a:rPr b="0" lang="ru-RU" sz="4000" spc="-1" strike="noStrike">
                <a:solidFill>
                  <a:srgbClr val="000092"/>
                </a:solidFill>
                <a:latin typeface="ChinaCyr"/>
              </a:rPr>
              <a:t>применению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Karnac One"/>
              </a:rPr>
              <a:t>Астм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Karnac One"/>
              </a:rPr>
              <a:t>Спортивные травм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Karnac One"/>
              </a:rPr>
              <a:t>Боли в спин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Karnac One"/>
              </a:rPr>
              <a:t>Рак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Karnac One"/>
              </a:rPr>
              <a:t>Синдром хронической усталост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Karnac One"/>
              </a:rPr>
              <a:t>Депресс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Karnac One"/>
              </a:rPr>
              <a:t>Диабет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Karnac One"/>
              </a:rPr>
              <a:t>Головная бол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Karnac One"/>
              </a:rPr>
              <a:t>Гиперто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Karnac One"/>
              </a:rPr>
              <a:t>Стресс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Karnac One"/>
              </a:rPr>
              <a:t>Сердечные заболева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Karnac One"/>
              </a:rPr>
              <a:t>Расстройство пищевар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Karnac One"/>
              </a:rPr>
              <a:t>Синдром раздраженного кишечни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Karnac One"/>
              </a:rPr>
              <a:t>Менструальные проблем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Karnac One"/>
              </a:rPr>
              <a:t>Мононуклеоз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Karnac One"/>
              </a:rPr>
              <a:t>Хроническая бол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Karnac One"/>
              </a:rPr>
              <a:t>ПМС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Karnac One"/>
              </a:rPr>
              <a:t>Заболевания горл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1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1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050"/>
                            </p:stCondLst>
                            <p:childTnLst>
                              <p:par>
                                <p:cTn id="2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2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550"/>
                            </p:stCondLst>
                            <p:childTnLst>
                              <p:par>
                                <p:cTn id="3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7300"/>
                            </p:stCondLst>
                            <p:childTnLst>
                              <p:par>
                                <p:cTn id="4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8400"/>
                            </p:stCondLst>
                            <p:childTnLst>
                              <p:par>
                                <p:cTn id="5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9400"/>
                            </p:stCondLst>
                            <p:childTnLst>
                              <p:par>
                                <p:cTn id="5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0200"/>
                            </p:stCondLst>
                            <p:childTnLst>
                              <p:par>
                                <p:cTn id="6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1700"/>
                            </p:stCondLst>
                            <p:childTnLst>
                              <p:par>
                                <p:cTn id="7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3350"/>
                            </p:stCondLst>
                            <p:childTnLst>
                              <p:par>
                                <p:cTn id="7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5300"/>
                            </p:stCondLst>
                            <p:childTnLst>
                              <p:par>
                                <p:cTn id="8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6850"/>
                            </p:stCondLst>
                            <p:childTnLst>
                              <p:par>
                                <p:cTn id="8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7900"/>
                            </p:stCondLst>
                            <p:childTnLst>
                              <p:par>
                                <p:cTn id="9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9150"/>
                            </p:stCondLst>
                            <p:childTnLst>
                              <p:par>
                                <p:cTn id="10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9800"/>
                            </p:stCondLst>
                            <p:childTnLst>
                              <p:par>
                                <p:cTn id="10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2"/>
                </a:solidFill>
                <a:latin typeface="ChinaCyr"/>
              </a:rPr>
              <a:t>Чем полезен данный метод?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1680" y="1676520"/>
            <a:ext cx="419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Karnac One"/>
              </a:rPr>
              <a:t>Спортивные травмы: спортсмены – от бегунов на длинные дистанции до профессиональных футболистов – применяют растягивающие позы йоги, чтобы сохранить подвижность тела и освободить травмированные мышц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Karnac One"/>
              </a:rPr>
              <a:t>Стресс: регулярные занятия йогой могут уменьшить чувство тревоги, гнева, усталости и депресс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7960" y="1676520"/>
            <a:ext cx="4267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Karnac One"/>
              </a:rPr>
              <a:t>Заболевания спины: поскольку позы йоги сгибают, тонизируют и укрепляют мышцы, они часто прописываются при хронических заболеваниях спи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Karnac One"/>
              </a:rPr>
              <a:t>Сердечные проблемы: занятия йогой могут помочь укрепить сердце, заставив его работать более энергично, а также снизить кровяное давление и уровень холестерина в крови.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2"/>
                </a:solidFill>
                <a:latin typeface="ChinaCyr"/>
              </a:rPr>
              <a:t>Противопоказания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Karnac On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Karnac One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Karnac One"/>
              </a:rPr>
              <a:t>Некоторые из более продвинутых, повышенной сложности поз йоги, такие, как стойка на голове, могут оказаться опасными для людей с высоким кровяным давлением или заболевание глаз. </a:t>
            </a:r>
            <a:r>
              <a:rPr b="0" lang="en-US" sz="3200" spc="-1" strike="noStrike">
                <a:solidFill>
                  <a:srgbClr val="ffffff"/>
                </a:solidFill>
                <a:latin typeface="Karnac One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Karnac One"/>
              </a:rPr>
              <a:t>Беременным женщинам следует избегать поз, которые сдавливают или напрягают живот или спин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1447560"/>
            <a:ext cx="8434440" cy="292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cffff"/>
                </a:solidFill>
                <a:latin typeface="ChinaCyr"/>
              </a:rPr>
              <a:t>Галерея поз хатха-йоги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80520" y="75960"/>
            <a:ext cx="85410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16"/>
                </a:solidFill>
                <a:latin typeface="Arial"/>
              </a:rPr>
              <a:t>1. Поза горы (Тадасан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Arial"/>
              </a:rPr>
              <a:t>Сначала может показаться, что вы просто так стоите на одном месте и ничего не делаете. Но нет. Эта поза помогает найти баланс, улучшает осанку и тонус мышц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11" descr="25 поз из йоги, которые должен знать каждый. Изображение номер 1"/>
          <p:cNvPicPr/>
          <p:nvPr/>
        </p:nvPicPr>
        <p:blipFill>
          <a:blip r:embed="rId1"/>
          <a:srcRect l="10689" t="0" r="11811" b="0"/>
          <a:stretch/>
        </p:blipFill>
        <p:spPr>
          <a:xfrm>
            <a:off x="990720" y="1752480"/>
            <a:ext cx="6945120" cy="50292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01680" y="228240"/>
            <a:ext cx="854064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16"/>
                </a:solidFill>
                <a:latin typeface="Arial"/>
              </a:rPr>
              <a:t>2. Поза стула (Уткатасан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Arial"/>
              </a:rPr>
              <a:t>Эта простая поза поможет растянуть мышцы ног, спины и плеч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8" descr="25 поз из йоги, которые должен знать каждый. Изображение номер 2"/>
          <p:cNvPicPr/>
          <p:nvPr/>
        </p:nvPicPr>
        <p:blipFill>
          <a:blip r:embed="rId1"/>
          <a:srcRect l="5456" t="0" r="5338" b="0"/>
          <a:stretch/>
        </p:blipFill>
        <p:spPr>
          <a:xfrm>
            <a:off x="514440" y="1371600"/>
            <a:ext cx="8115120" cy="51055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380520" y="-360"/>
            <a:ext cx="85410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16"/>
                </a:solidFill>
                <a:latin typeface="Arial"/>
                <a:ea typeface="Times New Roman"/>
              </a:rPr>
              <a:t>3. Поза «собака мордой вниз» (Адхо Мукха Шванасан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1616"/>
                </a:solidFill>
                <a:latin typeface="Arial"/>
                <a:ea typeface="Times New Roman"/>
              </a:rPr>
              <a:t>Классическая поза йоги, которая «раскрывает» плечи и лёгкие, растягивает мышцы бёдер. Благодаря положению головы (она будет ниже уровня сердца), эта асана создаёт успокаивающий эффек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4" descr="25 поз из йоги, которые должен знать каждый. Изображение номер 4"/>
          <p:cNvPicPr/>
          <p:nvPr/>
        </p:nvPicPr>
        <p:blipFill>
          <a:blip r:embed="rId1"/>
          <a:stretch/>
        </p:blipFill>
        <p:spPr>
          <a:xfrm>
            <a:off x="762120" y="2438280"/>
            <a:ext cx="7619760" cy="42768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04920" y="151920"/>
            <a:ext cx="854064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16"/>
                </a:solidFill>
                <a:latin typeface="Arial"/>
              </a:rPr>
              <a:t>4. Поза воина I (Вирабхадрасана 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1616"/>
                </a:solidFill>
                <a:latin typeface="Arial"/>
              </a:rPr>
              <a:t>Укрепляет ноги, руки и мышцы спины, а также растягивает мышцы груди, плеч, шеи и бёде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6" descr="25 поз из йоги, которые должен знать каждый. Изображение номер 15"/>
          <p:cNvPicPr/>
          <p:nvPr/>
        </p:nvPicPr>
        <p:blipFill>
          <a:blip r:embed="rId1"/>
          <a:srcRect l="11645" t="7807" r="8563" b="3136"/>
          <a:stretch/>
        </p:blipFill>
        <p:spPr>
          <a:xfrm>
            <a:off x="685800" y="1679400"/>
            <a:ext cx="7780320" cy="48736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ePack by Diakov</cp:lastModifiedBy>
  <dcterms:modified xsi:type="dcterms:W3CDTF">2020-01-15T17:43:03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