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B0D-8EA1-44DC-BCEC-C96D4287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341-C665-4402-A6E5-58ACB471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2F1-0209-4D29-9AB6-0301A82C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AE5-19AF-4189-952D-20CA4A72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5286-E24E-4A77-93E4-55367BA5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828F-AE83-40A7-BB1D-E0DED983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2C93-175E-4D75-A07B-79B98B62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23CC-7EBC-4168-B277-4F48A439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A973-E37C-438B-AD3C-2073D6F9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5C83-EA85-4456-BB74-9988C210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0989-516A-4AEE-A812-1AFCF15C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0BE-EC1E-4AE0-8D38-1773F45D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9A96-BD4F-4C1E-80F7-3C82B0B0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4826-69E7-47D3-8277-77417DA7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45C6-2D0B-4DD0-ABDE-39125C28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53FF-0932-4AE7-A625-BFC5E982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2087-DA7A-4378-9F58-9827BF36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07B-CD94-4B58-B50D-CEA9FF23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CE5-41B8-4E77-99C8-A3FE8BE9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0C2-4573-49D1-8B97-615A5CFC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6C0-EC32-4AA5-BE3C-5DBC8E3F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4FF-C0A2-4F86-A63E-7641ABA1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189-D5DD-40A9-9C14-76797DAA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E47-5C12-4D23-85F9-5D9D4705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0A4E-4068-42B5-B4A5-8976374A0C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61B6-0387-45B5-949F-D66D18F56F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Единственное и множественное число глаг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357200" y="142920"/>
            <a:ext cx="7429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С какой частью речи мы сегодня работал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Что такое глагол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От чего зависит число глагола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Приведите  примеры глаголов в ед. числ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Приведите примеры глаголов во мн. числ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500120"/>
            <a:ext cx="8786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бей,   д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га, в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на,      с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ка, м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зит,   м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ва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71760"/>
            <a:ext cx="4686480" cy="12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бей,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7680" y="5214960"/>
            <a:ext cx="3643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ва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4857840" y="1571760"/>
            <a:ext cx="37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га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500040" y="292896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на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4857840" y="2928960"/>
            <a:ext cx="40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ка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57120" y="4214880"/>
            <a:ext cx="430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зит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5000760" y="4214880"/>
            <a:ext cx="331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ро</a:t>
            </a:r>
            <a:r>
              <a:rPr b="0" i="1" lang="ru-RU" sz="7200" spc="-1" strike="noStrike">
                <a:solidFill>
                  <a:srgbClr val="ff0000"/>
                </a:solidFill>
                <a:latin typeface="Comic Sans MS"/>
              </a:rPr>
              <a:t>з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2643120" y="357120"/>
            <a:ext cx="5643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читает   поют  играют пишет рисует убирают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500040" y="714240"/>
            <a:ext cx="807264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ет         поют   пишет         играют рисует        убирают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357120" y="857160"/>
            <a:ext cx="378612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Comic Sans MS"/>
              </a:rPr>
              <a:t>Единственное чис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4357800" y="857160"/>
            <a:ext cx="407196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Comic Sans MS"/>
              </a:rPr>
              <a:t>Множественное чис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6870960" cy="20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Единственное и множественное число глаг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2857320"/>
            <a:ext cx="7696080" cy="29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Учиться задавать вопросы и определять число глаголов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495760" cy="3657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3143160" y="3200400"/>
            <a:ext cx="5496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99680" y="2142720"/>
            <a:ext cx="335772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галась выбежал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ел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и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Содержимое 2"/>
          <p:cNvSpPr/>
          <p:nvPr/>
        </p:nvSpPr>
        <p:spPr>
          <a:xfrm>
            <a:off x="500040" y="357120"/>
            <a:ext cx="32860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ое чис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4429080" y="642960"/>
            <a:ext cx="385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енное  чис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Содержимое 2"/>
          <p:cNvSpPr/>
          <p:nvPr/>
        </p:nvSpPr>
        <p:spPr>
          <a:xfrm>
            <a:off x="4572000" y="2071800"/>
            <a:ext cx="342900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щили завесил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ежал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л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70722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Е ЧИСЛО ГЛАГОЛ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14680" y="1643040"/>
            <a:ext cx="6929280" cy="521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ает, ходят, шумит, прыгнул, сверкает, смотрит, любит, срезают, делает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20:51:37Z</dcterms:created>
  <dc:creator>Ашанина</dc:creator>
  <dc:description/>
  <dc:language>en-US</dc:language>
  <cp:lastModifiedBy>scool</cp:lastModifiedBy>
  <dcterms:modified xsi:type="dcterms:W3CDTF">2020-04-09T13:09:59Z</dcterms:modified>
  <cp:revision>34</cp:revision>
  <dc:subject/>
  <dc:title>Слайд 1</dc:title>
</cp:coreProperties>
</file>