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6.jpeg" ContentType="image/jpeg"/>
  <Override PartName="/ppt/media/image15.jpeg" ContentType="image/jpeg"/>
  <Override PartName="/ppt/media/image27.jpeg" ContentType="image/jpeg"/>
  <Override PartName="/ppt/media/image33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34.jpeg" ContentType="image/jpeg"/>
  <Override PartName="/ppt/media/image28.jpeg" ContentType="image/jpeg"/>
  <Override PartName="/ppt/media/image10.png" ContentType="image/png"/>
  <Override PartName="/ppt/media/image35.jpeg" ContentType="image/jpeg"/>
  <Override PartName="/ppt/media/image8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43C0-65FC-4E96-B11E-783C10BE8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158400"/>
            <a:ext cx="109728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51CE-3BD4-4DE3-9F04-4EBE469E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58400"/>
            <a:ext cx="109728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DF90-D50A-4D87-B31B-272DA8767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58400"/>
            <a:ext cx="109728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6966-1121-4B61-A19F-B6BB5A4C9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D2C1-40E3-4343-98A6-AA3112ECD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158400"/>
            <a:ext cx="109728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0B66-A4E7-428F-9EDE-5A43E263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158400"/>
            <a:ext cx="109728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A230-E41E-4314-B25D-47863790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158400"/>
            <a:ext cx="109728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794B-BF96-4FDB-B1D4-249CACDD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158400"/>
            <a:ext cx="109728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F10A-A852-493D-80CD-B35F3F84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09480" y="158400"/>
            <a:ext cx="10972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183D-FC75-4C7C-92BA-F6DBF8C0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158400"/>
            <a:ext cx="109728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1108-64E0-4FE3-9991-E463F7CD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58400"/>
            <a:ext cx="109728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1E64-D9B7-436C-A35D-E537C58B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158400"/>
            <a:ext cx="109728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A491-6DF1-4CB7-A140-6F8EDCB9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158400"/>
            <a:ext cx="109728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ED44-AEFC-4B44-BCEB-B7DF0165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158400"/>
            <a:ext cx="109728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373D-4F7C-4757-9AAA-1D50240D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158400"/>
            <a:ext cx="109728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CAC0-F81F-4706-B6AE-D29040236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158400"/>
            <a:ext cx="109728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398F-DF9A-45B6-A8EF-0A3B6862F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158400"/>
            <a:ext cx="109728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630F-6AC6-4043-B003-5A14EB0F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58400"/>
            <a:ext cx="109728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C17D-B5B1-4E6B-8B71-41891393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8400"/>
            <a:ext cx="109728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D0E9-CA5D-43F7-A111-191F0533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09480" y="158400"/>
            <a:ext cx="10972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2573-DF2D-426C-A467-ACC7C6D6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58400"/>
            <a:ext cx="109728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4F98-8E72-4186-B415-F13C4511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58400"/>
            <a:ext cx="109728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9352-8002-4328-848F-C7583318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58400"/>
            <a:ext cx="109728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8C13-6296-40EC-8C5A-5A3342AB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dc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2186720" cy="6851520"/>
            <a:chOff x="0" y="0"/>
            <a:chExt cx="12186720" cy="6851520"/>
          </a:xfrm>
        </p:grpSpPr>
        <p:sp>
          <p:nvSpPr>
            <p:cNvPr id="1" name="Freeform 3"/>
            <p:cNvSpPr/>
            <p:nvPr/>
          </p:nvSpPr>
          <p:spPr>
            <a:xfrm>
              <a:off x="3834720" y="4462560"/>
              <a:ext cx="835164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18680" y="5757840"/>
              <a:ext cx="366768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1180584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0459800" y="0"/>
              <a:ext cx="172692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50000">
                  <a:srgbClr val="d6d6d6"/>
                </a:gs>
                <a:gs pos="100000">
                  <a:srgbClr val="cdcdc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1218672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415008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99666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798552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62078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241200" y="4519440"/>
              <a:ext cx="315936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001160" y="4929120"/>
              <a:ext cx="180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001160" y="4929120"/>
              <a:ext cx="180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406440" y="3625920"/>
              <a:ext cx="2653200" cy="1465200"/>
              <a:chOff x="406440" y="3625920"/>
              <a:chExt cx="265320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863280" y="4776840"/>
                <a:ext cx="9900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929960" y="3625920"/>
                <a:ext cx="685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406440" y="3625920"/>
                <a:ext cx="265320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447200" y="4300560"/>
                <a:ext cx="9972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716920" y="4083120"/>
                <a:ext cx="31500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2412360" y="3863880"/>
                <a:ext cx="3535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2005920" y="3673440"/>
                <a:ext cx="23940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2374560" y="4092480"/>
                <a:ext cx="13932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993320" y="4245120"/>
                <a:ext cx="34056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559520" y="4386240"/>
                <a:ext cx="15444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1320480" y="4586400"/>
                <a:ext cx="2520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1041120" y="4795920"/>
                <a:ext cx="1011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924480" y="4805280"/>
                <a:ext cx="60948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751760" y="4767120"/>
                <a:ext cx="13932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774360" y="4938840"/>
                <a:ext cx="16308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1053720" y="5024520"/>
                <a:ext cx="13932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777320" y="4633920"/>
                <a:ext cx="3816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1155240" y="4795920"/>
                <a:ext cx="1224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1130040" y="4672080"/>
                <a:ext cx="6300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1142280" y="4824360"/>
                <a:ext cx="507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694880" y="4255920"/>
                <a:ext cx="4546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1134360" y="4302000"/>
                <a:ext cx="44820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2194560" y="4141800"/>
                <a:ext cx="13500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834560" y="3922560"/>
                <a:ext cx="28980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729080" y="3979800"/>
                <a:ext cx="1371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158400"/>
            <a:ext cx="109728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609120" y="624348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8737560" y="624348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BD33-3B26-41A0-9AFA-D5EE7E632B4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dc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12186720" cy="6851520"/>
            <a:chOff x="0" y="0"/>
            <a:chExt cx="12186720" cy="6851520"/>
          </a:xfrm>
        </p:grpSpPr>
        <p:sp>
          <p:nvSpPr>
            <p:cNvPr id="81" name="Freeform 3"/>
            <p:cNvSpPr/>
            <p:nvPr/>
          </p:nvSpPr>
          <p:spPr>
            <a:xfrm>
              <a:off x="3834720" y="4462560"/>
              <a:ext cx="835164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8518680" y="5757840"/>
              <a:ext cx="366768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1180584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10459800" y="0"/>
              <a:ext cx="172692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50000">
                  <a:srgbClr val="d6d6d6"/>
                </a:gs>
                <a:gs pos="100000">
                  <a:srgbClr val="cdcdc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1218672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415008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99666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798552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62078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241200" y="4519440"/>
              <a:ext cx="315936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1001160" y="4929120"/>
              <a:ext cx="180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1001160" y="4929120"/>
              <a:ext cx="180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406440" y="3625920"/>
              <a:ext cx="2653200" cy="1465200"/>
              <a:chOff x="406440" y="3625920"/>
              <a:chExt cx="265320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863280" y="4776840"/>
                <a:ext cx="9900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929960" y="3625920"/>
                <a:ext cx="685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406440" y="3625920"/>
                <a:ext cx="265320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447200" y="4300560"/>
                <a:ext cx="9972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716920" y="4083120"/>
                <a:ext cx="31500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2412360" y="3863880"/>
                <a:ext cx="3535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2005920" y="3673440"/>
                <a:ext cx="23940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2374560" y="4092480"/>
                <a:ext cx="13932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993320" y="4245120"/>
                <a:ext cx="34056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559520" y="4386240"/>
                <a:ext cx="15444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1320480" y="4586400"/>
                <a:ext cx="2520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1041120" y="4795920"/>
                <a:ext cx="1011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924480" y="4805280"/>
                <a:ext cx="60948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751760" y="4767120"/>
                <a:ext cx="13932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774360" y="4938840"/>
                <a:ext cx="16308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1053720" y="5024520"/>
                <a:ext cx="13932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777320" y="4633920"/>
                <a:ext cx="3816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1155240" y="4795920"/>
                <a:ext cx="1224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1130040" y="4672080"/>
                <a:ext cx="6300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1142280" y="4824360"/>
                <a:ext cx="507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694880" y="4255920"/>
                <a:ext cx="4546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1134360" y="4302000"/>
                <a:ext cx="44820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2194560" y="4141800"/>
                <a:ext cx="13500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834560" y="3922560"/>
                <a:ext cx="28980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729080" y="3979800"/>
                <a:ext cx="1371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8400"/>
            <a:ext cx="109728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DA2C-D80C-41D2-B4FF-2FCFBA595560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TextBox 1" descr=""/>
          <p:cNvPicPr/>
          <p:nvPr/>
        </p:nvPicPr>
        <p:blipFill>
          <a:blip r:embed="rId1"/>
          <a:stretch/>
        </p:blipFill>
        <p:spPr>
          <a:xfrm>
            <a:off x="2932200" y="1841400"/>
            <a:ext cx="676584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1" descr=""/>
          <p:cNvPicPr/>
          <p:nvPr/>
        </p:nvPicPr>
        <p:blipFill>
          <a:blip r:embed="rId1"/>
          <a:stretch/>
        </p:blipFill>
        <p:spPr>
          <a:xfrm>
            <a:off x="-101520" y="0"/>
            <a:ext cx="5979960" cy="453384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2" descr=""/>
          <p:cNvPicPr/>
          <p:nvPr/>
        </p:nvPicPr>
        <p:blipFill>
          <a:blip r:embed="rId2"/>
          <a:stretch/>
        </p:blipFill>
        <p:spPr>
          <a:xfrm>
            <a:off x="5856120" y="2108160"/>
            <a:ext cx="6336000" cy="4749840"/>
          </a:xfrm>
          <a:prstGeom prst="rect">
            <a:avLst/>
          </a:prstGeom>
          <a:ln w="0">
            <a:noFill/>
          </a:ln>
        </p:spPr>
      </p:pic>
      <p:pic>
        <p:nvPicPr>
          <p:cNvPr id="183" name="TextBox 3" descr=""/>
          <p:cNvPicPr/>
          <p:nvPr/>
        </p:nvPicPr>
        <p:blipFill>
          <a:blip r:embed="rId3"/>
          <a:stretch/>
        </p:blipFill>
        <p:spPr>
          <a:xfrm>
            <a:off x="7162920" y="573120"/>
            <a:ext cx="2535120" cy="110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1" descr=""/>
          <p:cNvPicPr/>
          <p:nvPr/>
        </p:nvPicPr>
        <p:blipFill>
          <a:blip r:embed="rId1"/>
          <a:stretch/>
        </p:blipFill>
        <p:spPr>
          <a:xfrm>
            <a:off x="507960" y="3240"/>
            <a:ext cx="10979280" cy="6854760"/>
          </a:xfrm>
          <a:prstGeom prst="rect">
            <a:avLst/>
          </a:prstGeom>
          <a:ln w="0">
            <a:noFill/>
          </a:ln>
        </p:spPr>
      </p:pic>
      <p:sp>
        <p:nvSpPr>
          <p:cNvPr id="185" name="TextBox 3"/>
          <p:cNvSpPr/>
          <p:nvPr/>
        </p:nvSpPr>
        <p:spPr>
          <a:xfrm>
            <a:off x="7799400" y="-177840"/>
            <a:ext cx="3533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dsport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095880"/>
          </a:xfrm>
          <a:prstGeom prst="rect">
            <a:avLst/>
          </a:prstGeom>
          <a:ln w="0">
            <a:noFill/>
          </a:ln>
        </p:spPr>
      </p:pic>
      <p:pic>
        <p:nvPicPr>
          <p:cNvPr id="187" name="TextBox 4" descr=""/>
          <p:cNvPicPr/>
          <p:nvPr/>
        </p:nvPicPr>
        <p:blipFill>
          <a:blip r:embed="rId2"/>
          <a:stretch/>
        </p:blipFill>
        <p:spPr>
          <a:xfrm>
            <a:off x="3790800" y="5870520"/>
            <a:ext cx="4610160" cy="110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Рисунок 2" descr=""/>
          <p:cNvPicPr/>
          <p:nvPr/>
        </p:nvPicPr>
        <p:blipFill>
          <a:blip r:embed="rId1"/>
          <a:stretch/>
        </p:blipFill>
        <p:spPr>
          <a:xfrm>
            <a:off x="5524560" y="0"/>
            <a:ext cx="6667560" cy="500076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1" descr=""/>
          <p:cNvPicPr/>
          <p:nvPr/>
        </p:nvPicPr>
        <p:blipFill>
          <a:blip r:embed="rId2"/>
          <a:stretch/>
        </p:blipFill>
        <p:spPr>
          <a:xfrm>
            <a:off x="0" y="1833480"/>
            <a:ext cx="6095880" cy="4876920"/>
          </a:xfrm>
          <a:prstGeom prst="rect">
            <a:avLst/>
          </a:prstGeom>
          <a:ln w="0">
            <a:noFill/>
          </a:ln>
        </p:spPr>
      </p:pic>
      <p:sp>
        <p:nvSpPr>
          <p:cNvPr id="190" name="TextBox 3"/>
          <p:cNvSpPr/>
          <p:nvPr/>
        </p:nvSpPr>
        <p:spPr>
          <a:xfrm>
            <a:off x="636120" y="368280"/>
            <a:ext cx="3813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shockey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Рисунок 1" descr=""/>
          <p:cNvPicPr/>
          <p:nvPr/>
        </p:nvPicPr>
        <p:blipFill>
          <a:blip r:embed="rId1"/>
          <a:stretch/>
        </p:blipFill>
        <p:spPr>
          <a:xfrm>
            <a:off x="241200" y="93600"/>
            <a:ext cx="6667560" cy="476244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2" descr=""/>
          <p:cNvPicPr/>
          <p:nvPr/>
        </p:nvPicPr>
        <p:blipFill>
          <a:blip r:embed="rId2"/>
          <a:stretch/>
        </p:blipFill>
        <p:spPr>
          <a:xfrm>
            <a:off x="6475320" y="3232080"/>
            <a:ext cx="5524560" cy="368640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4" descr=""/>
          <p:cNvPicPr/>
          <p:nvPr/>
        </p:nvPicPr>
        <p:blipFill>
          <a:blip r:embed="rId3"/>
          <a:stretch/>
        </p:blipFill>
        <p:spPr>
          <a:xfrm>
            <a:off x="8070840" y="154080"/>
            <a:ext cx="3078000" cy="3078000"/>
          </a:xfrm>
          <a:prstGeom prst="rect">
            <a:avLst/>
          </a:prstGeom>
          <a:ln w="0">
            <a:noFill/>
          </a:ln>
        </p:spPr>
      </p:pic>
      <p:sp>
        <p:nvSpPr>
          <p:cNvPr id="194" name="TextBox 5"/>
          <p:cNvSpPr/>
          <p:nvPr/>
        </p:nvSpPr>
        <p:spPr>
          <a:xfrm>
            <a:off x="573840" y="5308560"/>
            <a:ext cx="4700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skunstlauf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Рисунок 1" descr=""/>
          <p:cNvPicPr/>
          <p:nvPr/>
        </p:nvPicPr>
        <p:blipFill>
          <a:blip r:embed="rId1"/>
          <a:stretch/>
        </p:blipFill>
        <p:spPr>
          <a:xfrm>
            <a:off x="5780160" y="0"/>
            <a:ext cx="6411960" cy="439740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2" descr=""/>
          <p:cNvPicPr/>
          <p:nvPr/>
        </p:nvPicPr>
        <p:blipFill>
          <a:blip r:embed="rId2"/>
          <a:stretch/>
        </p:blipFill>
        <p:spPr>
          <a:xfrm>
            <a:off x="17640" y="0"/>
            <a:ext cx="6540480" cy="43974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3"/>
          <p:cNvSpPr/>
          <p:nvPr/>
        </p:nvSpPr>
        <p:spPr>
          <a:xfrm>
            <a:off x="2124000" y="5126040"/>
            <a:ext cx="6842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littschuhlaufen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02920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1" descr=""/>
          <p:cNvPicPr/>
          <p:nvPr/>
        </p:nvPicPr>
        <p:blipFill>
          <a:blip r:embed="rId2"/>
          <a:stretch/>
        </p:blipFill>
        <p:spPr>
          <a:xfrm>
            <a:off x="6477120" y="2575080"/>
            <a:ext cx="5715000" cy="42829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8141400" y="666720"/>
            <a:ext cx="3256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Biathlon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https://ds04.infourok.ru/uploads/ex/1360/0015972f-5059aa7e/img5.jpg"/>
          <p:cNvPicPr/>
          <p:nvPr/>
        </p:nvPicPr>
        <p:blipFill>
          <a:blip r:embed="rId1"/>
          <a:stretch/>
        </p:blipFill>
        <p:spPr>
          <a:xfrm>
            <a:off x="1003320" y="0"/>
            <a:ext cx="9804240" cy="735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Segeln "/>
          <p:cNvPicPr/>
          <p:nvPr/>
        </p:nvPicPr>
        <p:blipFill>
          <a:blip r:embed="rId1"/>
          <a:stretch/>
        </p:blipFill>
        <p:spPr>
          <a:xfrm>
            <a:off x="674640" y="-457200"/>
            <a:ext cx="977436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 Werfen "/>
          <p:cNvPicPr/>
          <p:nvPr/>
        </p:nvPicPr>
        <p:blipFill>
          <a:blip r:embed="rId1"/>
          <a:stretch/>
        </p:blipFill>
        <p:spPr>
          <a:xfrm>
            <a:off x="347760" y="-930240"/>
            <a:ext cx="11376000" cy="851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1" descr=""/>
          <p:cNvPicPr/>
          <p:nvPr/>
        </p:nvPicPr>
        <p:blipFill>
          <a:blip r:embed="rId1"/>
          <a:stretch/>
        </p:blipFill>
        <p:spPr>
          <a:xfrm>
            <a:off x="1033560" y="0"/>
            <a:ext cx="10296360" cy="68976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2"/>
          <p:cNvSpPr/>
          <p:nvPr/>
        </p:nvSpPr>
        <p:spPr>
          <a:xfrm>
            <a:off x="8413920" y="177840"/>
            <a:ext cx="190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uf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der Ringkampf "/>
          <p:cNvPicPr/>
          <p:nvPr/>
        </p:nvPicPr>
        <p:blipFill>
          <a:blip r:embed="rId1"/>
          <a:stretch/>
        </p:blipFill>
        <p:spPr>
          <a:xfrm>
            <a:off x="766800" y="-182520"/>
            <a:ext cx="10531440" cy="78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Snowboard "/>
          <p:cNvPicPr/>
          <p:nvPr/>
        </p:nvPicPr>
        <p:blipFill>
          <a:blip r:embed="rId1"/>
          <a:stretch/>
        </p:blipFill>
        <p:spPr>
          <a:xfrm>
            <a:off x="876240" y="-493560"/>
            <a:ext cx="10213920" cy="76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Bodybuilding "/>
          <p:cNvPicPr/>
          <p:nvPr/>
        </p:nvPicPr>
        <p:blipFill>
          <a:blip r:embed="rId1"/>
          <a:stretch/>
        </p:blipFill>
        <p:spPr>
          <a:xfrm>
            <a:off x="1278000" y="-311040"/>
            <a:ext cx="9896400" cy="740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https://ds04.infourok.ru/uploads/ex/1360/0015972f-5059aa7e/img29.jpg"/>
          <p:cNvPicPr/>
          <p:nvPr/>
        </p:nvPicPr>
        <p:blipFill>
          <a:blip r:embed="rId1"/>
          <a:stretch/>
        </p:blipFill>
        <p:spPr>
          <a:xfrm>
            <a:off x="1044720" y="0"/>
            <a:ext cx="10156680" cy="761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Рисунок 3" descr=""/>
          <p:cNvPicPr/>
          <p:nvPr/>
        </p:nvPicPr>
        <p:blipFill>
          <a:blip r:embed="rId1"/>
          <a:stretch/>
        </p:blipFill>
        <p:spPr>
          <a:xfrm>
            <a:off x="0" y="22860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" descr=""/>
          <p:cNvPicPr/>
          <p:nvPr/>
        </p:nvPicPr>
        <p:blipFill>
          <a:blip r:embed="rId2"/>
          <a:stretch/>
        </p:blipFill>
        <p:spPr>
          <a:xfrm>
            <a:off x="5389560" y="7920"/>
            <a:ext cx="6802560" cy="4538520"/>
          </a:xfrm>
          <a:prstGeom prst="rect">
            <a:avLst/>
          </a:prstGeom>
          <a:ln w="0">
            <a:noFill/>
          </a:ln>
        </p:spPr>
      </p:pic>
      <p:sp>
        <p:nvSpPr>
          <p:cNvPr id="165" name="TextBox 2"/>
          <p:cNvSpPr/>
          <p:nvPr/>
        </p:nvSpPr>
        <p:spPr>
          <a:xfrm>
            <a:off x="1162440" y="250920"/>
            <a:ext cx="3813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leyball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Рисунок 1" descr=""/>
          <p:cNvPicPr/>
          <p:nvPr/>
        </p:nvPicPr>
        <p:blipFill>
          <a:blip r:embed="rId1"/>
          <a:stretch/>
        </p:blipFill>
        <p:spPr>
          <a:xfrm>
            <a:off x="2462040" y="15840"/>
            <a:ext cx="9120240" cy="68421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4"/>
          <p:cNvSpPr/>
          <p:nvPr/>
        </p:nvSpPr>
        <p:spPr>
          <a:xfrm>
            <a:off x="6647040" y="-63360"/>
            <a:ext cx="490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ketball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3000" y="769680"/>
            <a:ext cx="10782360" cy="335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66360" y="4206600"/>
            <a:ext cx="9231480" cy="16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Рисунок 3" descr=""/>
          <p:cNvPicPr/>
          <p:nvPr/>
        </p:nvPicPr>
        <p:blipFill>
          <a:blip r:embed="rId1"/>
          <a:stretch/>
        </p:blipFill>
        <p:spPr>
          <a:xfrm>
            <a:off x="6045120" y="0"/>
            <a:ext cx="6147000" cy="4610160"/>
          </a:xfrm>
          <a:prstGeom prst="rect">
            <a:avLst/>
          </a:prstGeom>
          <a:ln w="0">
            <a:noFill/>
          </a:ln>
        </p:spPr>
      </p:pic>
      <p:pic>
        <p:nvPicPr>
          <p:cNvPr id="171" name="TextBox 4" descr=""/>
          <p:cNvPicPr/>
          <p:nvPr/>
        </p:nvPicPr>
        <p:blipFill>
          <a:blip r:embed="rId2"/>
          <a:stretch/>
        </p:blipFill>
        <p:spPr>
          <a:xfrm>
            <a:off x="858960" y="268200"/>
            <a:ext cx="4189320" cy="110988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5" descr=""/>
          <p:cNvPicPr/>
          <p:nvPr/>
        </p:nvPicPr>
        <p:blipFill>
          <a:blip r:embed="rId3"/>
          <a:stretch/>
        </p:blipFill>
        <p:spPr>
          <a:xfrm>
            <a:off x="0" y="2286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Рисунок 1" descr=""/>
          <p:cNvPicPr/>
          <p:nvPr/>
        </p:nvPicPr>
        <p:blipFill>
          <a:blip r:embed="rId1"/>
          <a:stretch/>
        </p:blipFill>
        <p:spPr>
          <a:xfrm>
            <a:off x="1587600" y="19080"/>
            <a:ext cx="9118440" cy="6838920"/>
          </a:xfrm>
          <a:prstGeom prst="rect">
            <a:avLst/>
          </a:prstGeom>
          <a:ln w="0">
            <a:noFill/>
          </a:ln>
        </p:spPr>
      </p:pic>
      <p:sp>
        <p:nvSpPr>
          <p:cNvPr id="174" name="TextBox 5"/>
          <p:cNvSpPr/>
          <p:nvPr/>
        </p:nvSpPr>
        <p:spPr>
          <a:xfrm>
            <a:off x="6390360" y="5759280"/>
            <a:ext cx="4280400" cy="109944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schtennis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Рисунок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3"/>
          <p:cNvSpPr/>
          <p:nvPr/>
        </p:nvSpPr>
        <p:spPr>
          <a:xfrm>
            <a:off x="1906560" y="-114480"/>
            <a:ext cx="2416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xen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1" descr=""/>
          <p:cNvPicPr/>
          <p:nvPr/>
        </p:nvPicPr>
        <p:blipFill>
          <a:blip r:embed="rId1"/>
          <a:stretch/>
        </p:blipFill>
        <p:spPr>
          <a:xfrm>
            <a:off x="1490760" y="0"/>
            <a:ext cx="915192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7866720" y="5759280"/>
            <a:ext cx="2693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Karate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Рисунок 3" descr=""/>
          <p:cNvPicPr/>
          <p:nvPr/>
        </p:nvPicPr>
        <p:blipFill>
          <a:blip r:embed="rId1"/>
          <a:stretch/>
        </p:blipFill>
        <p:spPr>
          <a:xfrm>
            <a:off x="1638360" y="0"/>
            <a:ext cx="8881920" cy="6883560"/>
          </a:xfrm>
          <a:prstGeom prst="rect">
            <a:avLst/>
          </a:prstGeom>
          <a:ln w="0">
            <a:noFill/>
          </a:ln>
        </p:spPr>
      </p:pic>
      <p:sp>
        <p:nvSpPr>
          <p:cNvPr id="180" name="TextBox 5"/>
          <p:cNvSpPr/>
          <p:nvPr/>
        </p:nvSpPr>
        <p:spPr>
          <a:xfrm>
            <a:off x="1835640" y="5775480"/>
            <a:ext cx="302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chten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1T15:52:41Z</dcterms:created>
  <dc:creator>Васян</dc:creator>
  <dc:description/>
  <dc:language>en-US</dc:language>
  <cp:lastModifiedBy>User</cp:lastModifiedBy>
  <dcterms:modified xsi:type="dcterms:W3CDTF">2020-05-19T06:34:59Z</dcterms:modified>
  <cp:revision>13</cp:revision>
  <dc:subject/>
  <dc:title>    </dc:title>
</cp:coreProperties>
</file>