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C7B-33D8-47C2-98A9-7211517D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7CB-6783-45C2-8D41-1822378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5A8-765A-491A-BF8D-72B2C05E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9BF-32DE-46D7-BFDA-FFF8FF32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981-23D5-47E5-9964-C317ED8E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A06C-3D3F-4E7E-84F9-59F602B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F0AC-2A44-4647-A4C7-C60DC6F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C7BD-5F97-453E-828C-512E6B0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85C-7997-4DC3-8936-7175F7D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E29E-6F7D-44F0-8CE6-532799E6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77D-7ACC-4125-8E42-3B797A5D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70E-FD6C-4A58-BAED-4613201F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FD8-8316-4E70-B051-719566E4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66E4-69D7-4A51-A176-35A3D51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F695-CC4F-40CF-9DD3-193375D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85D8-A36D-454B-84B0-9C0AD362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EA0-46EC-411B-8AD6-7936832B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55A-F200-477A-A127-E05A3CB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D4D-BE46-458F-AB90-297DDD2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AE6-CEB2-4454-BD76-6448190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1EE-B652-4122-8EAE-85B0509A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08A-8BD0-42E0-81B3-AC36A248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B11-F5A0-4B68-913E-9AAF8F1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A5A-ECE3-4C7E-AE95-D410255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922-CD9A-409C-B214-9DA3E00CD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ribka58.png"/>
          <p:cNvPicPr/>
          <p:nvPr/>
        </p:nvPicPr>
        <p:blipFill>
          <a:blip r:embed="rId3"/>
          <a:stretch/>
        </p:blipFill>
        <p:spPr>
          <a:xfrm>
            <a:off x="0" y="0"/>
            <a:ext cx="1325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ribka1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E933-42CE-4F9D-A97F-3735B1C06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770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полнительная образовательная программ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физкультурно-оздоровительной направленност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«Юные пловцы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25992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№ 56 «Северяно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995640" y="4509360"/>
            <a:ext cx="46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арасова Валентина Игнат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структор по физической культуре (плав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1"/>
          <p:cNvSpPr/>
          <p:nvPr/>
        </p:nvSpPr>
        <p:spPr>
          <a:xfrm>
            <a:off x="1908000" y="1268280"/>
            <a:ext cx="6840720" cy="5113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реализации программы необходи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 Плавательный бассейн. Он должен иметь разминочный зал, раздевалку, сушилку, душевые каб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Спортивное оборудование (плавательные доски, обручи и мячи разных размеров, тонущие игрушки, круги и мячи надувные, нарукавники надувные,  гимнастические палки, дуги для подныривания, свисток, секундомер) для проведения  занятий, подвижных и спортивных игр, игр – 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Иллюстративный материал – карты – схемы, плакаты с изображением способов плавания, методическая лит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Видеомагнитофон, аудио- и видеозаписи для проведения занятий, развлечений, праздник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835280" y="333360"/>
            <a:ext cx="6983280" cy="576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Материально – техническ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1"/>
          <p:cNvSpPr/>
          <p:nvPr/>
        </p:nvSpPr>
        <p:spPr>
          <a:xfrm>
            <a:off x="1908000" y="1052640"/>
            <a:ext cx="6840720" cy="5211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.Н.Доронова, С.Г.Якобсон, Е.В.Соловьева.  Радуга: «Прог8рамма воспитания, оюразования и развития детей дошкольного возраста в условиях детского сада. – М.: Просвещение, 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Л.Ф.Еремеева  Научите ребенка плавать. Программа обучения плаванию детей дошкольного и младшего школьного возраста: Методическое пособие. – СПб.: Издательство «ДЕТСТВО – ПРЕСС»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Т.И.Осокина, Е.А.Тимофеева, Т.Л.Богина  Обучение плаванию в детском саду: Книга для воспитателей детского сада и родителей  – М.: Просвещение, 199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М.В.Рыбак Занятия в бассейне с дошкольниками – М.: ТЦ Сфера, 2012 – 9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Н.Г.Пищикова  Обучение плаванию детей дошкольного возраста. Занятия, игры, праздники. – М.: Издательство «Скрипторий 2003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И.А.Большакова  Маленький дельфин. Нетрадиционная методика обучения плаванию детей дошкольного возраста: Пособие для инструкторов по плаванию, педагогов дошкольных учреждений. – М.: АРКТИ, 2005.Н.Ж.Булгакова  Игры у воды, на воде, под водрй. – М.: Физкультура и спорт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.К.Велитченко  Как научиться плавать – М.:Терра – Спорт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Л.Д.Глазырина  Физическая культура – дошкольникам: Программа и программные требования. – М.: Гуманит. Изд.центр ВЛАДОС, 199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Э.Я.Степаненкова.  Методика физического воспитания – М.: Издательский дом «Воспитание дошкольника»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.В.Яблонская, С.А.Циклис. Физкультура и плавание в детском саду. – М.: ТЦ Сфер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835280" y="333360"/>
            <a:ext cx="6983280" cy="576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Список используем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1"/>
          <p:cNvSpPr/>
          <p:nvPr/>
        </p:nvSpPr>
        <p:spPr>
          <a:xfrm>
            <a:off x="1908000" y="1197000"/>
            <a:ext cx="6840720" cy="540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ошкольный возраст является решающим в формировании фундамента физического и психического здоровья. До семи лет ребенок проходит огромный путь развития, неповторяемый на протяжении последующей жизни. Именно в этот период идет интенсивное развитие органов и становление функциональных систем организма, закладываются основные черты личности, формируется характер. Современные ученые и специалисты – практики рассматривают систему физического воспитания дошкольников как один из потенциалов целостного гуманистического воздействия на личность, обеспечивающего реализацию права каждого ребенка на постоянное и максимально полное физическое разви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 настоящее время приоритетным становится интеллектуальное, эстетическое развитие ребенка, на смену увлекательным коллективным играм пришли компьютерные игры. Анализ исследований по вопросам развития двигательных навыков и качеств детей (Е.Н. Вавилова,  Н.А. Ноткина,) свидетельствует, что почти у 40% старших дошкольников уровень развития двигательных навыков ниже среднего. По данным М. Руновой, двигательный режим в дошкольных учреждениях позволяет восполнить лишь 55-60% естественной потребности детей в движениях. Недостаточная физическая активность детей, особенно в период активного роста, когда ускоренное развитие скелета и мышечной массы не подкрепляется соответствующей тренировкой систем кровообращения и дыхания, является одной из причин ухудшения их здоровья, снижения жизненного тону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835280" y="189000"/>
            <a:ext cx="6697440" cy="9144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1"/>
          <p:cNvSpPr/>
          <p:nvPr/>
        </p:nvSpPr>
        <p:spPr>
          <a:xfrm>
            <a:off x="1908000" y="1268280"/>
            <a:ext cx="6840720" cy="540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Ухудшение состояния здоровья и уменьшение двигательной активности воспитанников, увеличение объема и интенсивности учебной нагрузки без учета принципа оздоровительной направленности, ориентация современного образования на целостное развитие личности определяют необходимость в существенном обновлении основ образования воспитанников  в области физической культу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здание целостной дошкольной системы разнообразных форм физкультурно-оздоровительных  занятий физическими упражнениями с целью профилактики физического и умственного утомления, полноценного физического развития воспитанников разных медицинских групп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существление дифференцированного подхода к воспитанникам с учетом возрастных особенностей физического и психического развития, состояния здоровья и двигательной подготовле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ование знаний и умений по основам физкультурной деятельности с целью активного включения воспитанников  в самостоятельные занятия физическими упражнениями и спорт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835280" y="189000"/>
            <a:ext cx="6767280" cy="9144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2"/>
          <p:cNvSpPr/>
          <p:nvPr/>
        </p:nvSpPr>
        <p:spPr>
          <a:xfrm>
            <a:off x="1908000" y="1125360"/>
            <a:ext cx="6840720" cy="547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еспечение комплексного оздоровления и индивидуальной помощи старшим дошкольникам в освоении спортивных способов плавания на в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Оздорови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Способствовать сохранению и укреплению психического и физического здоровья детей старш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Повышать работоспособность орган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Формировать представления об оздоровительном воздействии плавания на орган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Образо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Совершенствовать навыки плавания способом «кроль» на груди и спине с полной координацией движения рук, ног и дыхания, «брас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Развивать физические качества: ловкость, выносливость, силу, быстр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оспит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Формировать интерес и потребность к занятиям по обучению пла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Воспитывать нравственно – волевые качества: смелость, настойчивость, реши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763640" y="189000"/>
            <a:ext cx="6840720" cy="64764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ый прямоугольник 1"/>
          <p:cNvSpPr/>
          <p:nvPr/>
        </p:nvSpPr>
        <p:spPr>
          <a:xfrm>
            <a:off x="1908000" y="981000"/>
            <a:ext cx="6840720" cy="5616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Принцип нау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оит в подкреплении всех проводимых мероприятий, направленных на укрепление здоровья, научно аргументированными, обоснованными и практически апробированными технолог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Принцип комплексности и интегра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заключается в решении оздоровительных задач в системе всего образовательного процесса и все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Принцип адресованности и преем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оит в поддержании связей между возрастными категориями, в учете разноуровневого развития детей и состояния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Принцип взаимо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усматривает участие всего коллектива педагогов и родителей в поиске новых, эффективных методов и целенаправленной деятельности по оздоровлению себя 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Принцип результативности и гарантирова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ет реализацию прав детей на получение необходимой помощи и поддержки, гарантирует положительный результат независимо от возраста и уровня физического развит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692360" y="189000"/>
            <a:ext cx="6983280" cy="576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нцип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кругленный прямоугольник 1"/>
          <p:cNvSpPr/>
          <p:nvPr/>
        </p:nvSpPr>
        <p:spPr>
          <a:xfrm>
            <a:off x="1908000" y="1341360"/>
            <a:ext cx="6840720" cy="4248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050920" y="189000"/>
            <a:ext cx="6769080" cy="64764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411280" y="1769040"/>
            <a:ext cx="55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спортивных способов плавания на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аболева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родителей дополнительной образовательной услугой составит 10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1"/>
          <p:cNvSpPr/>
          <p:nvPr/>
        </p:nvSpPr>
        <p:spPr>
          <a:xfrm>
            <a:off x="1908000" y="1052640"/>
            <a:ext cx="6840720" cy="55450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тодологическую основу программы составляют психолого-педагогические теории обучения, воспитания и оздоров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природосообразности и гуманизации образования (Ш.А. Амонашвили, И.Г. Песталоцци, В.А. Сухомлинский, К.Д. Ушинск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обучения двигательным действиям (А.Н. Бернштейн, М.М. Боген, П.К. Анохин, А.В. Запорожец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ния о ведущей роли деятельности в становлении человека как личности (Л.С. Выготский, Б.Г. Ананьев, А.В. Запорожец, А.Н. Леонтье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цепция о возрастной периодизации (Л.С. Выготский, И.А. Аршавский, В.К. Бальсевич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деи о связи умственного, физического и психического развития (Я.А. Коменский, Л.П. Матвеев, П.Ф. Лесгаф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развития двигательных качеств и способностей (Н.А. Бернштейн, В.И. Лях, Б.М. Теплов, Л.А. Венг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етические основы методики организации и проведения подвижных игр (П.Ф. Лесгафт, Н.Н. Кильпио, А.В. Кенеман, Д.В. Хухлаева, Л.В. Былеева, Н.Н. Кожухова, Т.И. Осок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908000" y="260280"/>
            <a:ext cx="6624720" cy="576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цепция пр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"/>
          <p:cNvSpPr/>
          <p:nvPr/>
        </p:nvSpPr>
        <p:spPr>
          <a:xfrm>
            <a:off x="1547640" y="1052640"/>
            <a:ext cx="6985080" cy="55450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решения поставленных задач используется комплекс взаимодополняющих методов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теоретические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изучение, анализ, обобщение научно-методической литературы, анализ программно-нормативных документов, систематизация, прогнозирование, сравнение, классификац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эмпирические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педагогическое наблюдение, метод хронометража, пульсометрии, методика определения физических качеств и уровня плавательных умений и навыков, анкетирование, методы математической статисти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Этапы реализации програм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этап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– изучение и анализ философской, психолого-педагогической, научно-методической литературы. Определяются методологические и теоретические основы программы, формулируется цель, разрабатываются задачи, подбираются методики и технолог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I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этап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разработка основных концептуальных положений, создание модели процесса развития процесса формирования плавательных умений и навыков у старших дошкольников, поэтапная разработка задач и методи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II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этап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– проведение работы по апробации созданной модели процесса формирования плавательных умений и навыков у старших дошкольников, обработка полученных результа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V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этап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целостное структурирование, оформление работы, обработка полученных данных с применением методов математической статистики, формулирование заключения, перспективы дальнейшей работы по данной тем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Механизм реализации программы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включает в себя:  механизм управления программой,  распределение сфер ответственности, механизм взаимодействия заказчиков программы, контроль за реализацией программ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ем программы является заместитель заведующего по воспитательно-методической работе, который несёт персональную ответственность за её реализацию и конечные результаты. Руководитель программы: Осуществляет координацию деятельности участников программы по эффективной реализации её основных механизмов. Подготавливает проекты решений о внесении изменений и дополнений в программу. Подготавливает по окончании года проект о ходе реализации программ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уют внедрение информационных технологий в целях управления реализацией программы и контроля за ходом выполнения её мероприят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Инструктор по физической культуре (плаванию) является координатором и исполнителем программы в ходе её выполнения. Несёт ответственность за своевременную и качественную реализацию программ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рабатывает в пределах своих полномочий проекты, предложения, необходимые для выполнения программы. Подготавливает по окончании года предложения по уточнению мероприятий программы на очередной учебный год, а также механизм её выполн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692360" y="260280"/>
            <a:ext cx="6983280" cy="432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908000" y="3294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Методы, этапы, механизм реализации программы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1"/>
          <p:cNvSpPr/>
          <p:nvPr/>
        </p:nvSpPr>
        <p:spPr>
          <a:xfrm>
            <a:off x="1692360" y="1341360"/>
            <a:ext cx="6840360" cy="518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одержание программы «Юные пловцы» предполагает использование подвижных, спортивных игр и упражнений в комплексе с другими физкультурно-оздоровительными мероприятиями; ориентирована на формирование у детей плавательных умений и навыков в тесной взаимосвязи с такими качествами, как самостоятельность, самоконтроль, умение действовать в группе сверстников, заботиться о своем здоров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Модель процесса формирования плавательных умений и нав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у старших дошк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.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 Содержани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. Работа с дет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(технология реализации программ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. Работа с родителями и 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5.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484360" y="333360"/>
            <a:ext cx="5329440" cy="71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 программы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05:28Z</dcterms:created>
  <dc:creator>Helen</dc:creator>
  <dc:description/>
  <dc:language>en-US</dc:language>
  <cp:lastModifiedBy>Admin</cp:lastModifiedBy>
  <dcterms:modified xsi:type="dcterms:W3CDTF">2020-06-23T12:24:47Z</dcterms:modified>
  <cp:revision>8</cp:revision>
  <dc:subject/>
  <dc:title>Слайд 1</dc:title>
</cp:coreProperties>
</file>