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CD7-6B78-4A5D-92A2-07697526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317D-D200-44D5-A1EE-B5DDE174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5A8-1493-4318-84D4-9025C28B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6FB-48F0-4F97-8B14-BBEB33CF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BE8-0DBB-4DC1-866D-C5157594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B3D-4144-4127-91A0-A0FD1958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A7A-E436-4AEB-A09D-161666B6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2B3-8810-44B7-ACF9-3CCB8E12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E49-9519-46ED-8453-8664505D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A7F-88E3-4726-A1CD-3AE914B3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7D8-8004-4BA2-8E60-CFCA0623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49E-62C3-4C03-B421-86B0CC61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E78A-FAC8-4F42-B5CF-A3CC88A30A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2880" y="917640"/>
            <a:ext cx="7772400" cy="126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ЗАНЯТИЕ «Геометрические фигуры 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46200" y="5097240"/>
            <a:ext cx="472284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 : Торгашова Л.В. МБДОУ  д/сад №56 «Северяноч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репление у детей знаний о геометрических фигурах на основе словесного описания и зрительного вос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4789440" y="3719520"/>
            <a:ext cx="4111560" cy="2552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762120" y="3719520"/>
            <a:ext cx="3419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Закреплять пространственное отношение, ум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ознавать геометрические фигуры, сравнивать их по цвету, форме и размеру, обозначать симво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Закреплять счет в пределах 10, умение сопоставлять цифру с количеством предметов и пользоваться цифрами для обозначения порядка следования предме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Развивать мышление, внимание, память, речь, формировать навы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контроля, воспитывать умение работать в коллекти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Закреплять умение использовать символы для обозначения свойств предметов, умение пользоваться таблиц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Материал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ветик-семицветик, геометрические фигуры разной величины, цвета и формы, карточки, цифры от 0-10, веревка для физкультминутки, материал для аппликации зай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528920" y="3457440"/>
            <a:ext cx="617508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Наглядный материал для дете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ометрические фигуры разной величины и фор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PK\Desktop\ЗАНЯТИЕ МАТЕМАТИКА\ЗАНЯТИЕ МАТЕМАТИКА\P1060736.JPG"/>
          <p:cNvPicPr/>
          <p:nvPr/>
        </p:nvPicPr>
        <p:blipFill>
          <a:blip r:embed="rId1"/>
          <a:stretch/>
        </p:blipFill>
        <p:spPr>
          <a:xfrm>
            <a:off x="225360" y="2543040"/>
            <a:ext cx="3029040" cy="2270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PK\Desktop\ЗАНЯТИЕ МАТЕМАТИКА\ЗАНЯТИЕ МАТЕМАТИКА\P1060737.JPG"/>
          <p:cNvPicPr/>
          <p:nvPr/>
        </p:nvPicPr>
        <p:blipFill>
          <a:blip r:embed="rId2"/>
          <a:stretch/>
        </p:blipFill>
        <p:spPr>
          <a:xfrm>
            <a:off x="325440" y="4816440"/>
            <a:ext cx="2928960" cy="2041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PK\Desktop\ЗАНЯТИЕ МАТЕМАТИКА\ЗАНЯТИЕ МАТЕМАТИКА\P1060738.JPG"/>
          <p:cNvPicPr/>
          <p:nvPr/>
        </p:nvPicPr>
        <p:blipFill>
          <a:blip r:embed="rId3"/>
          <a:stretch/>
        </p:blipFill>
        <p:spPr>
          <a:xfrm>
            <a:off x="3419640" y="2543040"/>
            <a:ext cx="2842920" cy="227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PK\Desktop\ЗАНЯТИЕ МАТЕМАТИКА\ЗАНЯТИЕ МАТЕМАТИКА\P1060739.JPG"/>
          <p:cNvPicPr/>
          <p:nvPr/>
        </p:nvPicPr>
        <p:blipFill>
          <a:blip r:embed="rId4"/>
          <a:stretch/>
        </p:blipFill>
        <p:spPr>
          <a:xfrm>
            <a:off x="3419640" y="4869000"/>
            <a:ext cx="2842920" cy="1938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PK\Desktop\ЗАНЯТИЕ МАТЕМАТИКА\ЗАНЯТИЕ МАТЕМАТИКА\P1060740.JPG"/>
          <p:cNvPicPr/>
          <p:nvPr/>
        </p:nvPicPr>
        <p:blipFill>
          <a:blip r:embed="rId5"/>
          <a:stretch/>
        </p:blipFill>
        <p:spPr>
          <a:xfrm>
            <a:off x="6397560" y="2543040"/>
            <a:ext cx="2611440" cy="227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PK\Desktop\ЗАНЯТИЕ МАТЕМАТИКА\ЗАНЯТИЕ МАТЕМАТИКА\P1060741.JPG"/>
          <p:cNvPicPr/>
          <p:nvPr/>
        </p:nvPicPr>
        <p:blipFill>
          <a:blip r:embed="rId6"/>
          <a:stretch/>
        </p:blipFill>
        <p:spPr>
          <a:xfrm>
            <a:off x="6397560" y="4925880"/>
            <a:ext cx="26114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PK\Desktop\ЗАНЯТИЕ МАТЕМАТИКА\ЗАНЯТИЕ МАТЕМАТИКА\P1060742.JPG"/>
          <p:cNvPicPr/>
          <p:nvPr/>
        </p:nvPicPr>
        <p:blipFill>
          <a:blip r:embed="rId1"/>
          <a:stretch/>
        </p:blipFill>
        <p:spPr>
          <a:xfrm>
            <a:off x="212760" y="187200"/>
            <a:ext cx="2727360" cy="1892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PK\Desktop\ЗАНЯТИЕ МАТЕМАТИКА\ЗАНЯТИЕ МАТЕМАТИКА\P1060743.JPG"/>
          <p:cNvPicPr/>
          <p:nvPr/>
        </p:nvPicPr>
        <p:blipFill>
          <a:blip r:embed="rId2"/>
          <a:stretch/>
        </p:blipFill>
        <p:spPr>
          <a:xfrm>
            <a:off x="6354720" y="187200"/>
            <a:ext cx="2560680" cy="179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PK\Desktop\ЗАНЯТИЕ МАТЕМАТИКА\ЗАНЯТИЕ МАТЕМАТИКА\P1060744.JPG"/>
          <p:cNvPicPr/>
          <p:nvPr/>
        </p:nvPicPr>
        <p:blipFill>
          <a:blip r:embed="rId3"/>
          <a:stretch/>
        </p:blipFill>
        <p:spPr>
          <a:xfrm>
            <a:off x="3568680" y="187200"/>
            <a:ext cx="2052720" cy="179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PK\Desktop\ЗАНЯТИЕ МАТЕМАТИКА\ЗАНЯТИЕ МАТЕМАТИКА\P1060745.JPG"/>
          <p:cNvPicPr/>
          <p:nvPr/>
        </p:nvPicPr>
        <p:blipFill>
          <a:blip r:embed="rId4"/>
          <a:stretch/>
        </p:blipFill>
        <p:spPr>
          <a:xfrm>
            <a:off x="3406680" y="4869000"/>
            <a:ext cx="2214720" cy="162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PK\Desktop\ЗАНЯТИЕ МАТЕМАТИКА\ЗАНЯТИЕ МАТЕМАТИКА\P1060746.JPG"/>
          <p:cNvPicPr/>
          <p:nvPr/>
        </p:nvPicPr>
        <p:blipFill>
          <a:blip r:embed="rId5"/>
          <a:stretch/>
        </p:blipFill>
        <p:spPr>
          <a:xfrm>
            <a:off x="3568680" y="2630520"/>
            <a:ext cx="2052720" cy="1660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PK\Desktop\ЗАНЯТИЕ МАТЕМАТИКА\ЗАНЯТИЕ МАТЕМАТИКА\P1060747.JPG"/>
          <p:cNvPicPr/>
          <p:nvPr/>
        </p:nvPicPr>
        <p:blipFill>
          <a:blip r:embed="rId6"/>
          <a:stretch/>
        </p:blipFill>
        <p:spPr>
          <a:xfrm>
            <a:off x="6354720" y="3232080"/>
            <a:ext cx="2755800" cy="337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PK\Desktop\ЗАНЯТИЕ МАТЕМАТИКА\ЗАНЯТИЕ МАТЕМАТИКА\P1060749.JPG"/>
          <p:cNvPicPr/>
          <p:nvPr/>
        </p:nvPicPr>
        <p:blipFill>
          <a:blip r:embed="rId7"/>
          <a:stretch/>
        </p:blipFill>
        <p:spPr>
          <a:xfrm>
            <a:off x="212760" y="3328920"/>
            <a:ext cx="27748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avatars.mds.yandex.net/get-pdb/215709/61d59be2-9884-445f-bc01-4eca1d48f1cc/s1200?webp=false"/>
          <p:cNvPicPr/>
          <p:nvPr/>
        </p:nvPicPr>
        <p:blipFill>
          <a:blip r:embed="rId1"/>
          <a:stretch/>
        </p:blipFill>
        <p:spPr>
          <a:xfrm>
            <a:off x="1225440" y="3363840"/>
            <a:ext cx="6877080" cy="34686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1552680" y="727200"/>
            <a:ext cx="608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43:27Z</dcterms:created>
  <dc:creator>Инна</dc:creator>
  <dc:description/>
  <dc:language>en-US</dc:language>
  <cp:lastModifiedBy>PK</cp:lastModifiedBy>
  <dcterms:modified xsi:type="dcterms:W3CDTF">2020-07-02T16:01:33Z</dcterms:modified>
  <cp:revision>13</cp:revision>
  <dc:subject/>
  <dc:title>Презентация PowerPoint</dc:title>
</cp:coreProperties>
</file>