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A3D-1C2E-4B4E-9F3F-1B60F8EB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F9E-F51E-43A2-9D47-868717BF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B67-4194-48C9-A478-82FEA022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CFF-ED38-443F-A32B-C4472B49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7172-D4C7-4FE7-B58E-AC1E746E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9CBD-2519-4206-B095-691A4DA6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5E19-6E01-43C6-9EC2-02EAD79D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1D09-9896-48C1-94F2-7FC48D70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F94E-727F-4AE7-BD84-C4E99694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A57C-1C8B-4843-8F0E-334BB397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AE7A-5153-4644-8CFC-6A175224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262-6493-4FEF-A592-06BFDA65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FF1A-8E55-4251-89DF-5FC9EDB8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62EC-A6A9-4D5A-89AC-0B23486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1DC-319C-4BB5-949B-51EA036A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1AE1-FC9C-4EC8-9003-B3D3D31C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BC25-6035-438C-91BA-C1149FD0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55939-BEAA-45A0-B918-0093FE41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7B747-D949-4F9A-9FC8-12037464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D4702-AB8E-43E4-ACCB-1443F90E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4496D-0758-4624-A124-D9119A2B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93F27-F1E8-4F05-A846-998E27B0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F1D-0CE5-46FF-9535-74DEC2DF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35C1F-8AAE-47B5-87CC-BB3B323E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7BB04-0817-481F-BB19-0E2564E9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D8DB6-D350-43BB-8687-B6EB02C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496F7-815A-4493-BA6D-289F70CA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B32B3-4DE7-4AA6-8B72-303C48C6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9FCFD-DC3C-4873-812B-C7AC8586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13354-DA53-45B5-826C-64BB0A77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236E-E52D-4DB1-9A48-F6353846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975F0-1180-4162-89E3-2E00447D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F4D35-3A99-4125-BDA2-F2E52A5A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AFC-698F-4AC2-A75B-EDC9BA65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8EF5D-413A-4AF7-8C61-5ED968DC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A271-50F1-45B0-A95B-40E7BFD3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570C-4EF7-4B92-96FC-5AE8CA28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0504-5663-4A14-95DC-74F39BA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A3646-C8C0-4581-8CB5-74A4E151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99B0-069D-440F-8DA1-DE42EAD1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69D57-DE79-4E1C-A7AE-7E6DE14F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20FA7-0DDF-4636-92D1-6D697EF1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CFB58-D6F4-4A2B-A59A-E1ECA070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ABB58-390C-4CDD-AE7E-B07F5BA4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BFC-8BE6-4EAF-A41B-22A62137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8CACC-5326-4801-B0E6-5498E7C3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5F710-E798-43B3-B180-60A9DF0C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B3F5C-6B97-4261-B744-35828320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A3E93-EF93-4CB2-8DF4-8C9FED94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9D5D6-0918-40A3-BED9-58113213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C333E-17E9-4F47-B237-9BA35BA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60ED1-54B5-4F63-85A2-5BEA810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5B083-0321-4260-BDF2-AE774DC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0421A-42EA-43CF-993A-23FE3486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BCB19-082F-496E-A0AA-43121D40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CB6-2152-4CA8-95FF-D4088CA6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A60C3-B012-4070-80CF-6C1BB269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0DF2A-70FF-46F9-8116-D07C3C86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2F9DB-1C30-4ED1-BE6B-3BD89215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A847F-C3C6-4BD1-B02B-015EB2DD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D4EFA-9C23-4AE4-A99F-F2EB3C40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9D80E-6A63-4DC3-A4D5-7EF77B4F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A263A-2A8A-435B-9164-D3C0D21D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EE425-1C1C-429F-BAF7-0E556B92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54708-B610-41D4-92AF-BBA92E01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1D12C-3934-4A2C-BF1E-66C20AB8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C24-4FC1-45C2-BDDD-9A42548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1BAFF-CF3B-4C2F-AB77-119AC1E5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8B1E5-A293-49BF-BF9E-3575C03E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A9C9F-0FD3-46F4-9518-3FBB3D0D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8A1CF-7136-4DCF-85F1-13711173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7A5FB-8FE4-46FD-8483-9DB9067F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8C2A2-73C1-4E3A-BA17-F0A18FA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F4227-6145-4C18-B573-64794D50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B35DA-405A-4A05-854C-3DE44705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1E918-65D2-4405-8CAB-037EA495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68B852-FC99-49A2-A540-CD1C8247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EF9-EC75-417F-BF9C-76D774A4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D6FF5-4F85-416D-B396-BD7BBBA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B4F2C-A0D3-49C4-8342-670FC535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783CD-F21E-4A6D-B813-69179520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A9DC3-8EF5-4207-837B-0E1FB5F8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DC79C-E801-47F3-BF99-FBAEC488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D9C-BF0D-4FD1-9272-C385FF1E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C45-0580-42E8-A715-3AD5DB3693E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D6D2-CE69-4EA8-8FEE-9DB1A11405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FC6C-A57D-49C0-A3C9-5634E922F8D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0548-F36F-478B-BAC6-13431D68A60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CB82-7ACD-4143-BFBF-D7A51C024DC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4BA1-8BB1-4781-9285-7E97CDE336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B90D-5547-42FF-95AA-DFD407D297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7160" y="1285920"/>
            <a:ext cx="7886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f0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0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ыполнила: воспитатель высшей категори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рагина И.Е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Прямоугольник 4" descr=""/>
          <p:cNvPicPr/>
          <p:nvPr/>
        </p:nvPicPr>
        <p:blipFill>
          <a:blip r:embed="rId1"/>
          <a:stretch/>
        </p:blipFill>
        <p:spPr>
          <a:xfrm>
            <a:off x="347760" y="749160"/>
            <a:ext cx="8369280" cy="361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4"/>
          <p:cNvSpPr/>
          <p:nvPr/>
        </p:nvSpPr>
        <p:spPr>
          <a:xfrm>
            <a:off x="357120" y="928800"/>
            <a:ext cx="8348760" cy="923760"/>
          </a:xfrm>
          <a:prstGeom prst="rect">
            <a:avLst/>
          </a:prstGeom>
          <a:noFill/>
          <a:ln w="9360">
            <a:solidFill>
              <a:srgbClr val="244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428760" y="-165600"/>
            <a:ext cx="8429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557f"/>
                </a:solidFill>
                <a:latin typeface="Monotype Corsiva"/>
                <a:ea typeface="Calibri"/>
              </a:rPr>
              <a:t>Проект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 –это обучение через деятельность. Деятельность является поисков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познавательной. Интенсивное изменение окружающей жизни, активное проникнов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научно-технического прогресса во все ее сферы диктуют педагогу необход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выбирать более эффективные средства обучения и воспитания на основе современных методов и новых интегрированных 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4"/>
          <p:cNvSpPr/>
          <p:nvPr/>
        </p:nvSpPr>
        <p:spPr>
          <a:xfrm>
            <a:off x="357120" y="928800"/>
            <a:ext cx="8348760" cy="923760"/>
          </a:xfrm>
          <a:prstGeom prst="rect">
            <a:avLst/>
          </a:prstGeom>
          <a:noFill/>
          <a:ln w="9360">
            <a:solidFill>
              <a:srgbClr val="244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0" y="-19044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Прое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- помогают активизировать самостоятельную познавательную деятельность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- помогают осваивать детьми окружающую действительность, всесторонне изучать 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- способствуют развитию творческих способностей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- способствуют умению наблюд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- способствуют умению слуш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- способствуют развитию навыков обобщать и анализиро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- способствуют развитию мыш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- помогают увидеть проблему с разных сторон, комплекс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- развивают воображение;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4"/>
          <p:cNvSpPr/>
          <p:nvPr/>
        </p:nvSpPr>
        <p:spPr>
          <a:xfrm>
            <a:off x="357120" y="928800"/>
            <a:ext cx="8348760" cy="923760"/>
          </a:xfrm>
          <a:prstGeom prst="rect">
            <a:avLst/>
          </a:prstGeom>
          <a:noFill/>
          <a:ln w="9360">
            <a:solidFill>
              <a:srgbClr val="244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285840" y="-13320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Примерный план работы воспитателя по подготовке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. На основе изученных проблем детей поставить цель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2. Разработка плана достижения цели (воспитатель обсуждает план с родителя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3. Привлечение специалистов к осуществлению соответствующих разделов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4. Составление плана-схемы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5. Сбор, накопление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285840" y="405612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6. Включение в план схему проекта занятий, игр и других видов дет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7. Домашние задания для сам.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8. Презентация проекта, открытое за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4"/>
          <p:cNvSpPr/>
          <p:nvPr/>
        </p:nvSpPr>
        <p:spPr>
          <a:xfrm>
            <a:off x="357120" y="928800"/>
            <a:ext cx="8348760" cy="923760"/>
          </a:xfrm>
          <a:prstGeom prst="rect">
            <a:avLst/>
          </a:prstGeom>
          <a:noFill/>
          <a:ln w="9360">
            <a:solidFill>
              <a:srgbClr val="244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571680" y="-726120"/>
            <a:ext cx="785808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Основные этапы метода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. Целеполагание: педагог помогает ребёнку выбрать наиболее актуальную и посильную для него задачу на определённый отрезок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2. Разработка проекта – план деятельности по достижению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· к кому обратится за помощью (взрослому, педагог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· в каких источниках можно найти информ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· какие предметы использовать (принадлежности, оборудова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· с какими предметами научиться работать для достижения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3. Выполнение проекта – практическая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4. Подведение итогов – определение задач для новых 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4"/>
          <p:cNvSpPr/>
          <p:nvPr/>
        </p:nvSpPr>
        <p:spPr>
          <a:xfrm>
            <a:off x="357120" y="928800"/>
            <a:ext cx="8348760" cy="923760"/>
          </a:xfrm>
          <a:prstGeom prst="rect">
            <a:avLst/>
          </a:prstGeom>
          <a:noFill/>
          <a:ln w="9360">
            <a:solidFill>
              <a:srgbClr val="244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571680" y="314316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428760" y="247320"/>
            <a:ext cx="8715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В практике современных дошкольных учреждений используются следующие виды про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1. исследовательско-творческие: дети экспериментируют, а затем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оформляют в виде газет, драматизации, детского дизай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2. ролево-игровые: (с элементами творческих игр, когда дети входят в об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персонажей сказки и решают по-своему поставленные пробл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3. информационно-практико-ориентированные: дети собирают информацию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реализуют её, ориентируясь на социальные интересы (оформление и диза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группы, витражи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4. творческие: оформление результата в виде детского праздника, детского дизайна, например: «Театральная недел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4"/>
          <p:cNvSpPr/>
          <p:nvPr/>
        </p:nvSpPr>
        <p:spPr>
          <a:xfrm>
            <a:off x="357120" y="928800"/>
            <a:ext cx="8348760" cy="923760"/>
          </a:xfrm>
          <a:prstGeom prst="rect">
            <a:avLst/>
          </a:prstGeom>
          <a:noFill/>
          <a:ln w="9360">
            <a:solidFill>
              <a:srgbClr val="244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571680" y="31129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785880" y="-187920"/>
            <a:ext cx="7858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Основной целью проектного метода в детском саду является развитие свободной творческой личности ребёнка, которое определяется задачами развития и задачами исследовательской деятельност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Задачи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. обеспечение психологического благополучия и здоровь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2. развитие познавательных способ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3. развитие творческого вообра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4. развитие творческого мыш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5. развитие коммуникативных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7T06:37:53Z</dcterms:created>
  <dc:creator>1</dc:creator>
  <dc:description/>
  <dc:language>en-US</dc:language>
  <cp:lastModifiedBy>1</cp:lastModifiedBy>
  <dcterms:modified xsi:type="dcterms:W3CDTF">2020-02-27T07:11:46Z</dcterms:modified>
  <cp:revision>2</cp:revision>
  <dc:subject/>
  <dc:title>Слайд 1</dc:title>
</cp:coreProperties>
</file>