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ADA6-CCCC-4BF4-A3A3-7340D06BCC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DD9F-C76A-4F97-9DD3-BF5429350B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EBE-0A54-483C-999E-56EFB6E6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72E-971C-4B81-BE0F-42175F46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318-66A3-49FD-A47C-BB284410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818-4016-4E07-B056-F156290C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CF3E-DF1D-42F1-B674-BEE66CD6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4704-BBFC-4ED3-8DC0-B973355C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6070-BF2C-40BD-AB83-18588B00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0D9B-F0C6-4B5A-970F-CC97D771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B6F9-7A49-479F-9068-DFCD632C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FF19-58BB-4734-8E7C-90FE0789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B86C-B182-45E5-B458-9AD7A4B8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989-B976-40F6-9BD8-C9EF772F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3DC8-2CAD-43D5-936D-8AC26008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0303-6873-4072-BBA1-5FB09FCD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DFC9-57E0-4E1A-B08B-63CBB9B5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CC5B-C003-48E1-B490-EB88D9AA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275E-5C9E-4CFD-89F6-F7508D5C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3F541-8E47-4987-BD27-6273DB00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F7B6E-3A36-46AF-9E64-C6EF0C11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C5AD7-A7CC-4DCB-A481-CE7B33F9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7C9BF-1F8E-46AF-955D-E40030B8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FD636-A23B-421D-B101-5073969C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243-D2F0-4B8A-916A-2D3E715E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1A278-7586-48F1-97A5-CB830469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1095A-8C00-42AF-A692-AB554577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44F63-2385-4069-BEBE-FFB1D556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70081-F258-482C-B31A-6618389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6F6AF-5888-4E82-A727-50680A1E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A0682-3B58-4F45-83D4-EA6481AC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0EB6B-354C-48A4-8A57-613FEBDF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9B7-A465-4210-87D8-824E9719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3FB-1D32-4DF6-8E43-9E05CC28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BD1-65D5-4700-A336-203EDFB9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5B6-1936-4C40-8B68-726FAE7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5E3-C917-485C-95A8-AD26029B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A81-AC15-4D7F-AC58-E9AAB2A0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4213-F683-441D-A336-C207744EC7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0BF7-C4BB-4074-9615-F77CDDBB5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B72E-6395-4B33-BF73-F6A884C1D6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5"/>
          <p:cNvSpPr txBox="1"/>
          <p:nvPr/>
        </p:nvSpPr>
        <p:spPr>
          <a:xfrm>
            <a:off x="1476360" y="1628640"/>
            <a:ext cx="6337440" cy="129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Неопределённая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форма глагола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9"/>
          <p:cNvSpPr txBox="1"/>
          <p:nvPr/>
        </p:nvSpPr>
        <p:spPr>
          <a:xfrm>
            <a:off x="4500720" y="5373720"/>
            <a:ext cx="409572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10"/>
          <p:cNvSpPr txBox="1"/>
          <p:nvPr/>
        </p:nvSpPr>
        <p:spPr>
          <a:xfrm>
            <a:off x="3564000" y="3500280"/>
            <a:ext cx="517680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рок 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русского языка 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в 4 классе 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980720" y="24210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700000" y="148428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живёш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поплывёш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побежиш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глядим –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жду –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машешь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есёш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сидит –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13"/>
          <p:cNvSpPr txBox="1"/>
          <p:nvPr/>
        </p:nvSpPr>
        <p:spPr>
          <a:xfrm>
            <a:off x="4932360" y="1628640"/>
            <a:ext cx="1295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жи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0" name="WordArt 14"/>
          <p:cNvSpPr txBox="1"/>
          <p:nvPr/>
        </p:nvSpPr>
        <p:spPr>
          <a:xfrm>
            <a:off x="5651640" y="2133720"/>
            <a:ext cx="1990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плыть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1" name="WordArt 15"/>
          <p:cNvSpPr txBox="1"/>
          <p:nvPr/>
        </p:nvSpPr>
        <p:spPr>
          <a:xfrm>
            <a:off x="4788000" y="3213000"/>
            <a:ext cx="1990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гляде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2" name="WordArt 16"/>
          <p:cNvSpPr txBox="1"/>
          <p:nvPr/>
        </p:nvSpPr>
        <p:spPr>
          <a:xfrm>
            <a:off x="4211640" y="3716280"/>
            <a:ext cx="1990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жда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17"/>
          <p:cNvSpPr txBox="1"/>
          <p:nvPr/>
        </p:nvSpPr>
        <p:spPr>
          <a:xfrm>
            <a:off x="5003640" y="4365720"/>
            <a:ext cx="19908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аха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18"/>
          <p:cNvSpPr txBox="1"/>
          <p:nvPr/>
        </p:nvSpPr>
        <p:spPr>
          <a:xfrm>
            <a:off x="4716360" y="4941720"/>
            <a:ext cx="19908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с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19"/>
          <p:cNvSpPr txBox="1"/>
          <p:nvPr/>
        </p:nvSpPr>
        <p:spPr>
          <a:xfrm>
            <a:off x="4572000" y="5373720"/>
            <a:ext cx="1990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иде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6" name="WordArt 20"/>
          <p:cNvSpPr txBox="1"/>
          <p:nvPr/>
        </p:nvSpPr>
        <p:spPr>
          <a:xfrm>
            <a:off x="5435640" y="2637000"/>
            <a:ext cx="19908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бежа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7" name="WordArt 22"/>
          <p:cNvSpPr txBox="1"/>
          <p:nvPr/>
        </p:nvSpPr>
        <p:spPr>
          <a:xfrm>
            <a:off x="1042920" y="333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бразуйте от данных глагол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определенную форм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Picture 23" descr=""/>
          <p:cNvPicPr/>
          <p:nvPr/>
        </p:nvPicPr>
        <p:blipFill>
          <a:blip r:embed="rId1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68360" y="34189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8"/>
          <p:cNvSpPr txBox="1"/>
          <p:nvPr/>
        </p:nvSpPr>
        <p:spPr>
          <a:xfrm>
            <a:off x="2268360" y="476280"/>
            <a:ext cx="40482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изкультминутк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WordArt 9"/>
          <p:cNvSpPr txBox="1"/>
          <p:nvPr/>
        </p:nvSpPr>
        <p:spPr>
          <a:xfrm>
            <a:off x="1187280" y="1341360"/>
            <a:ext cx="46483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От зелёного причала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оттолкнулся пароход.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12" name="WordArt 10"/>
          <p:cNvSpPr txBox="1"/>
          <p:nvPr/>
        </p:nvSpPr>
        <p:spPr>
          <a:xfrm>
            <a:off x="2050920" y="2852640"/>
            <a:ext cx="4095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 шагнул назад,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 потом вперёд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3" name="WordArt 11"/>
          <p:cNvSpPr txBox="1"/>
          <p:nvPr/>
        </p:nvSpPr>
        <p:spPr>
          <a:xfrm>
            <a:off x="2556000" y="4365720"/>
            <a:ext cx="619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 поплыл, поплыл по речке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бирая полный ход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14" name="Picture 12" descr="Кораблик"/>
          <p:cNvPicPr/>
          <p:nvPr/>
        </p:nvPicPr>
        <p:blipFill>
          <a:blip r:embed="rId1"/>
          <a:stretch/>
        </p:blipFill>
        <p:spPr>
          <a:xfrm>
            <a:off x="6012000" y="0"/>
            <a:ext cx="2979720" cy="3213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411280" y="16002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темно, свет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обед, уж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зелёный, крас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исунок, крас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абота, гру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1116000" y="260280"/>
            <a:ext cx="63356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Образуйте от данных слов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глаголы неопределённой форм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2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2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6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160"/>
                            </p:stCondLst>
                            <p:childTnLst>
                              <p:par>
                                <p:cTn id="3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627280" y="1267920"/>
            <a:ext cx="6059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Темнеть, светлеть, потемнеть, посветл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Обедать, ужинать, пообедать, поужин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Зеленеть, краснеть, зазеленеть, покрасн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исовать, красить, нарисовать, покрас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аботать, грузить, заработать, нагруз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2700360" y="549360"/>
            <a:ext cx="360036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роверим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1547640" y="907920"/>
            <a:ext cx="504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Как сказать одним слово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970200" y="2060640"/>
            <a:ext cx="58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сполнять роль в спектакле -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71640" y="278136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Чувствовать холод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9"/>
          <p:cNvSpPr txBox="1"/>
          <p:nvPr/>
        </p:nvSpPr>
        <p:spPr>
          <a:xfrm>
            <a:off x="4932360" y="292428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ёрзну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971640" y="3429000"/>
            <a:ext cx="62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е разрешать что-либо делать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7020000" y="3645000"/>
            <a:ext cx="1800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прещ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2700000" y="4941720"/>
            <a:ext cx="33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айти решение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WordArt 14"/>
          <p:cNvSpPr txBox="1"/>
          <p:nvPr/>
        </p:nvSpPr>
        <p:spPr>
          <a:xfrm>
            <a:off x="6084720" y="5157720"/>
            <a:ext cx="180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еши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2554560" y="4221000"/>
            <a:ext cx="39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аходить решение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6516720" y="4437000"/>
            <a:ext cx="19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еш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31" name="Picture 17" descr=""/>
          <p:cNvPicPr/>
          <p:nvPr/>
        </p:nvPicPr>
        <p:blipFill>
          <a:blip r:embed="rId1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18"/>
          <p:cNvSpPr txBox="1"/>
          <p:nvPr/>
        </p:nvSpPr>
        <p:spPr>
          <a:xfrm>
            <a:off x="6732720" y="227664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гр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cover dir="l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1258920" y="404640"/>
            <a:ext cx="6338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мените фразеологические обороты 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глаголами неопределенной форм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971640" y="1844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Зарубить на носу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WordArt 6"/>
          <p:cNvSpPr txBox="1"/>
          <p:nvPr/>
        </p:nvSpPr>
        <p:spPr>
          <a:xfrm>
            <a:off x="4500720" y="1989000"/>
            <a:ext cx="2592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помни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1040760" y="2637000"/>
            <a:ext cx="50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ержать язык за зубами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6012000" y="2852640"/>
            <a:ext cx="2438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лч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2194920" y="350028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ешать нос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WordArt 10"/>
          <p:cNvSpPr txBox="1"/>
          <p:nvPr/>
        </p:nvSpPr>
        <p:spPr>
          <a:xfrm>
            <a:off x="4932360" y="3716280"/>
            <a:ext cx="2438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ныв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2842200" y="448164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озолить глаза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WordArt 12"/>
          <p:cNvSpPr txBox="1"/>
          <p:nvPr/>
        </p:nvSpPr>
        <p:spPr>
          <a:xfrm>
            <a:off x="6227640" y="4653000"/>
            <a:ext cx="24386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доед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1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979280" y="1268280"/>
            <a:ext cx="6840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Знаю ли я, что такое глагол?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Знаю ли я, что обозначает глагол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Знаю ли я, на какие вопросы отвечает глагол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Знаю ли я, как изменяется глагол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могу ли я определить  время глагола?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могу ли я найти глагол в неопределённой форме?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3"/>
          <p:cNvSpPr txBox="1"/>
          <p:nvPr/>
        </p:nvSpPr>
        <p:spPr>
          <a:xfrm>
            <a:off x="1979640" y="692280"/>
            <a:ext cx="453564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амооцен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1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-234144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124000" y="26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9"/>
          <p:cNvSpPr txBox="1"/>
          <p:nvPr/>
        </p:nvSpPr>
        <p:spPr>
          <a:xfrm rot="188400">
            <a:off x="6738480" y="178920"/>
            <a:ext cx="2081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стров Глаголов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49" name="WordArt 10"/>
          <p:cNvSpPr txBox="1"/>
          <p:nvPr/>
        </p:nvSpPr>
        <p:spPr>
          <a:xfrm rot="21392400">
            <a:off x="901440" y="1397160"/>
            <a:ext cx="2519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Домашнее задание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208160" y="2923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WordArt 12"/>
          <p:cNvSpPr txBox="1"/>
          <p:nvPr/>
        </p:nvSpPr>
        <p:spPr>
          <a:xfrm rot="21409800">
            <a:off x="1014120" y="2468160"/>
            <a:ext cx="287964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пр. 414,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тр. 70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79280" y="981000"/>
            <a:ext cx="6707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7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img1.liveinternet.ru/images/attach/b/3/41/217/41217286_1237407883_Moy_zavetnuyy_ostrov_Horvatiya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7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питан http://s015.radikal.ru/i331/1110/98/f57cc763a410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7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аблик http://img1.liveinternet.ru/images/attach/c/4/81/85/81085631_large_4663906_transport.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47280" y="134136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Заливается звонок,</a:t>
            </a: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Он зовёт нас на урок.</a:t>
            </a: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Будем все внимательны,</a:t>
            </a: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Прилежны и  старательны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imageДЕТИ ЗА ПАРТАМИ "/>
          <p:cNvPicPr/>
          <p:nvPr/>
        </p:nvPicPr>
        <p:blipFill>
          <a:blip r:embed="rId1"/>
          <a:stretch/>
        </p:blipFill>
        <p:spPr>
          <a:xfrm>
            <a:off x="5940360" y="4005360"/>
            <a:ext cx="2735280" cy="2525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-255744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6" descr="Кораблик"/>
          <p:cNvPicPr/>
          <p:nvPr/>
        </p:nvPicPr>
        <p:blipFill>
          <a:blip r:embed="rId2"/>
          <a:stretch/>
        </p:blipFill>
        <p:spPr>
          <a:xfrm>
            <a:off x="9144000" y="4076640"/>
            <a:ext cx="2398680" cy="278136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8"/>
          <p:cNvSpPr txBox="1"/>
          <p:nvPr/>
        </p:nvSpPr>
        <p:spPr>
          <a:xfrm>
            <a:off x="1403280" y="6093000"/>
            <a:ext cx="2028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рабль 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0" name="Line 19"/>
          <p:cNvSpPr/>
          <p:nvPr/>
        </p:nvSpPr>
        <p:spPr>
          <a:xfrm flipH="1">
            <a:off x="2339640" y="5950080"/>
            <a:ext cx="142920" cy="215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 flipH="1">
            <a:off x="1619280" y="6597720"/>
            <a:ext cx="216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21"/>
          <p:cNvSpPr txBox="1"/>
          <p:nvPr/>
        </p:nvSpPr>
        <p:spPr>
          <a:xfrm>
            <a:off x="395280" y="333360"/>
            <a:ext cx="34862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стров Глаголов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179280" y="4434840"/>
            <a:ext cx="408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Это что за чуде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ует ветер в парус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и паром, ни дирижабль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 волнам плывет..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36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65 -0.00324 L -0.56025 -0.00324 E">
                                      <p:cBhvr>
                                        <p:cTn id="35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68000" y="2852280"/>
            <a:ext cx="60706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и </a:t>
            </a:r>
            <a:r>
              <a:rPr b="0" i="1" lang="ru-RU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и 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ь</a:t>
            </a:r>
            <a:r>
              <a:rPr b="0" i="1" lang="ru-RU" sz="4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ь</a:t>
            </a:r>
            <a:r>
              <a:rPr b="0" i="1" lang="ru-RU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476360" y="54936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Двадцать седьмое  февраля</a:t>
            </a:r>
            <a:endParaRPr b="1" i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лассная работа</a:t>
            </a:r>
            <a:endParaRPr b="1" i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46" name="WordArt 8"/>
          <p:cNvSpPr txBox="1"/>
          <p:nvPr/>
        </p:nvSpPr>
        <p:spPr>
          <a:xfrm>
            <a:off x="2195640" y="2060640"/>
            <a:ext cx="505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инутка чистописания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лагол  –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часть сло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часть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лагол обознач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признак предм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действие предм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лагол отвечает на 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что делать? что сделат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кто? что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предложении глагол явля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главным членом предлож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второстепенным членом предло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WordArt 3"/>
          <p:cNvSpPr txBox="1"/>
          <p:nvPr/>
        </p:nvSpPr>
        <p:spPr>
          <a:xfrm>
            <a:off x="1187280" y="33336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Что вы знаете о глаголе 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5"/>
          <p:cNvSpPr txBox="1"/>
          <p:nvPr/>
        </p:nvSpPr>
        <p:spPr>
          <a:xfrm>
            <a:off x="1258920" y="333360"/>
            <a:ext cx="612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Как изменяются глаголы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1332000" y="907920"/>
            <a:ext cx="6121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голы изменяютя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2411280" y="1484280"/>
            <a:ext cx="446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о временам</a:t>
            </a:r>
            <a:endParaRPr b="1" i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484000" y="1916280"/>
            <a:ext cx="50508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 flipH="1">
            <a:off x="4500720" y="1916280"/>
            <a:ext cx="7128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6084720" y="1916280"/>
            <a:ext cx="57636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1547640" y="2565360"/>
            <a:ext cx="18734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П. 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3564000" y="2565360"/>
            <a:ext cx="18730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Н. 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5724360" y="2565360"/>
            <a:ext cx="18734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Б. 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18"/>
          <p:cNvSpPr txBox="1"/>
          <p:nvPr/>
        </p:nvSpPr>
        <p:spPr>
          <a:xfrm>
            <a:off x="3564000" y="3860640"/>
            <a:ext cx="42498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о числам</a:t>
            </a:r>
            <a:endParaRPr b="1" i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Line 19"/>
          <p:cNvSpPr/>
          <p:nvPr/>
        </p:nvSpPr>
        <p:spPr>
          <a:xfrm flipH="1">
            <a:off x="3924360" y="4292640"/>
            <a:ext cx="50472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3203640" y="4941720"/>
            <a:ext cx="18730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Ед. ч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6659640" y="4292640"/>
            <a:ext cx="57636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2"/>
          <p:cNvSpPr/>
          <p:nvPr/>
        </p:nvSpPr>
        <p:spPr>
          <a:xfrm>
            <a:off x="5940360" y="4941720"/>
            <a:ext cx="18734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Мн. ч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4" descr=""/>
          <p:cNvPicPr/>
          <p:nvPr/>
        </p:nvPicPr>
        <p:blipFill>
          <a:blip r:embed="rId1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1258920" y="333360"/>
            <a:ext cx="61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Какую особенность имею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глаголы прошедшего времени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1619280" y="220500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в единственном числе они 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изменяются по родам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132000" y="3645000"/>
            <a:ext cx="3024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203640" y="4508640"/>
            <a:ext cx="2952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3203640" y="5445000"/>
            <a:ext cx="2952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4500720" y="4797360"/>
            <a:ext cx="1600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гра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4500720" y="5805360"/>
            <a:ext cx="1600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грал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4284720" y="3933720"/>
            <a:ext cx="1600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гра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73" name="Picture 14" descr=""/>
          <p:cNvPicPr/>
          <p:nvPr/>
        </p:nvPicPr>
        <p:blipFill>
          <a:blip r:embed="rId1"/>
          <a:stretch/>
        </p:blipFill>
        <p:spPr>
          <a:xfrm>
            <a:off x="7353360" y="0"/>
            <a:ext cx="179064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123640" y="1557360"/>
            <a:ext cx="3281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Рису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Идё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Дум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48360" y="1557360"/>
          <a:ext cx="3313080" cy="381636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поё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Реши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ru-RU" sz="4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Откро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3"/>
          <p:cNvSpPr/>
          <p:nvPr/>
        </p:nvSpPr>
        <p:spPr>
          <a:xfrm>
            <a:off x="2130840" y="3357000"/>
            <a:ext cx="264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Стоять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799600" y="2565360"/>
            <a:ext cx="241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Прой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15"/>
          <p:cNvSpPr txBox="1"/>
          <p:nvPr/>
        </p:nvSpPr>
        <p:spPr>
          <a:xfrm>
            <a:off x="1116000" y="62064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пределите время глагол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WordArt 17"/>
          <p:cNvSpPr txBox="1"/>
          <p:nvPr/>
        </p:nvSpPr>
        <p:spPr>
          <a:xfrm>
            <a:off x="2916360" y="5589720"/>
            <a:ext cx="554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 каких глаголов вы не смогл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пределить время? Почему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0" name="AutoShape 19"/>
          <p:cNvSpPr/>
          <p:nvPr/>
        </p:nvSpPr>
        <p:spPr>
          <a:xfrm>
            <a:off x="4284720" y="1844640"/>
            <a:ext cx="865080" cy="411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.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0"/>
          <p:cNvSpPr/>
          <p:nvPr/>
        </p:nvSpPr>
        <p:spPr>
          <a:xfrm>
            <a:off x="3851280" y="2708280"/>
            <a:ext cx="865080" cy="411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.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1"/>
          <p:cNvSpPr/>
          <p:nvPr/>
        </p:nvSpPr>
        <p:spPr>
          <a:xfrm>
            <a:off x="4427640" y="4508640"/>
            <a:ext cx="865080" cy="411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.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7812000" y="1844640"/>
            <a:ext cx="865440" cy="411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.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3"/>
          <p:cNvSpPr/>
          <p:nvPr/>
        </p:nvSpPr>
        <p:spPr>
          <a:xfrm>
            <a:off x="7956720" y="3716280"/>
            <a:ext cx="865080" cy="411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.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4"/>
          <p:cNvSpPr/>
          <p:nvPr/>
        </p:nvSpPr>
        <p:spPr>
          <a:xfrm>
            <a:off x="7956720" y="5084640"/>
            <a:ext cx="865080" cy="411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.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9" descr=""/>
          <p:cNvPicPr/>
          <p:nvPr/>
        </p:nvPicPr>
        <p:blipFill>
          <a:blip r:embed="rId1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3eb75"/>
                                      </p:to>
                                    </p:animClr>
                                    <p:set>
                                      <p:cBhvr>
                                        <p:cTn id="23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3eb75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1187280" y="692280"/>
            <a:ext cx="633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определённая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орма глагола 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1547640" y="2997360"/>
            <a:ext cx="352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Что делать?</a:t>
            </a:r>
            <a:endParaRPr b="1" i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2484360" y="4437000"/>
            <a:ext cx="352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Что сделать?</a:t>
            </a:r>
            <a:endParaRPr b="1" i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5796000" y="2924280"/>
            <a:ext cx="259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ешать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езт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1" name="WordArt 10"/>
          <p:cNvSpPr txBox="1"/>
          <p:nvPr/>
        </p:nvSpPr>
        <p:spPr>
          <a:xfrm>
            <a:off x="6227640" y="4437000"/>
            <a:ext cx="25909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ешить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везт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92" name="Picture 30" descr="Рисунок1"/>
          <p:cNvPicPr/>
          <p:nvPr/>
        </p:nvPicPr>
        <p:blipFill>
          <a:blip r:embed="rId1"/>
          <a:srcRect l="74153" t="0" r="0" b="0"/>
          <a:stretch/>
        </p:blipFill>
        <p:spPr>
          <a:xfrm>
            <a:off x="7308720" y="2637000"/>
            <a:ext cx="576360" cy="27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2" descr="Рисунок1"/>
          <p:cNvPicPr/>
          <p:nvPr/>
        </p:nvPicPr>
        <p:blipFill>
          <a:blip r:embed="rId2"/>
          <a:srcRect l="74153" t="0" r="0" b="0"/>
          <a:stretch/>
        </p:blipFill>
        <p:spPr>
          <a:xfrm>
            <a:off x="8028000" y="4797360"/>
            <a:ext cx="647640" cy="26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3" descr="Рисунок1"/>
          <p:cNvPicPr/>
          <p:nvPr/>
        </p:nvPicPr>
        <p:blipFill>
          <a:blip r:embed="rId3"/>
          <a:srcRect l="74153" t="0" r="0" b="0"/>
          <a:stretch/>
        </p:blipFill>
        <p:spPr>
          <a:xfrm>
            <a:off x="7740720" y="4149720"/>
            <a:ext cx="576360" cy="293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" descr="Рисунок1"/>
          <p:cNvPicPr/>
          <p:nvPr/>
        </p:nvPicPr>
        <p:blipFill>
          <a:blip r:embed="rId4"/>
          <a:srcRect l="74153" t="0" r="0" b="0"/>
          <a:stretch/>
        </p:blipFill>
        <p:spPr>
          <a:xfrm>
            <a:off x="7164360" y="3213000"/>
            <a:ext cx="647640" cy="2635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35"/>
          <p:cNvSpPr txBox="1"/>
          <p:nvPr/>
        </p:nvSpPr>
        <p:spPr>
          <a:xfrm>
            <a:off x="3203640" y="5805360"/>
            <a:ext cx="352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равило стр. 69</a:t>
            </a:r>
            <a:endParaRPr b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197" name="Picture 36" descr=""/>
          <p:cNvPicPr/>
          <p:nvPr/>
        </p:nvPicPr>
        <p:blipFill>
          <a:blip r:embed="rId5"/>
          <a:stretch/>
        </p:blipFill>
        <p:spPr>
          <a:xfrm>
            <a:off x="7308720" y="0"/>
            <a:ext cx="1791000" cy="1816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Бухгамер О.А.</dc:creator>
  <dc:description/>
  <dc:language>en-US</dc:language>
  <cp:lastModifiedBy>Windows User</cp:lastModifiedBy>
  <dcterms:modified xsi:type="dcterms:W3CDTF">2020-07-01T18:52:00Z</dcterms:modified>
  <cp:revision>169</cp:revision>
  <dc:subject>Неопределённая форма глагола </dc:subject>
  <dc:title>Презентация к уроку русского языка в 4 классе </dc:title>
</cp:coreProperties>
</file>