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312-F669-4257-82EB-214E8A7D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DEF-8958-414D-9B9F-687F2E88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077-4098-4A46-BCF9-E29D5796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33F-8EF4-4533-98DF-DB3D2859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408-6094-4FD2-A5B2-80653CF3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53AE-C5CE-4188-AF19-E338E5E2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F31-18E7-4274-9427-EEFCF136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A27-98D7-4691-AE5A-433C7A3E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35D-8F60-45E2-9DFB-D6B21C37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C1F-5976-423C-A892-51FE0687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DF5-FB32-4FCF-AD93-8FA4CD61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7EC0-7239-4431-8AD3-DB83A28B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047E-8237-4A1A-8913-09A7F9AEB3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7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9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69440" cy="10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Вопросы по истории Древнего Р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000" y="6093000"/>
            <a:ext cx="514332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Хеландер Антон, 5Г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690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ой Римской республики, руководителем всей политической жизни государства бы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>
            <a:hlinkClick r:id="" action="ppaction://hlinkshowjump?jump=nextslide"/>
          </p:cNvPr>
          <p:cNvSpPr/>
          <p:nvPr/>
        </p:nvSpPr>
        <p:spPr>
          <a:xfrm>
            <a:off x="1332000" y="4626000"/>
            <a:ext cx="6121440" cy="863640"/>
          </a:xfrm>
          <a:custGeom>
            <a:avLst/>
            <a:gdLst>
              <a:gd name="textAreaLeft" fmla="*/ 55800 w 6121440"/>
              <a:gd name="textAreaRight" fmla="*/ 6065640 w 6121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53045" h="21600">
                <a:moveTo>
                  <a:pt x="0" y="0"/>
                </a:moveTo>
                <a:lnTo>
                  <a:pt x="153045" y="0"/>
                </a:lnTo>
                <a:lnTo>
                  <a:pt x="153045" y="21600"/>
                </a:lnTo>
                <a:lnTo>
                  <a:pt x="0" y="21600"/>
                </a:lnTo>
                <a:close/>
              </a:path>
              <a:path fill="lightenLess" w="153045" h="21600">
                <a:moveTo>
                  <a:pt x="0" y="0"/>
                </a:moveTo>
                <a:lnTo>
                  <a:pt x="153045" y="0"/>
                </a:lnTo>
                <a:lnTo>
                  <a:pt x="151645" y="1400"/>
                </a:lnTo>
                <a:lnTo>
                  <a:pt x="1400" y="1400"/>
                </a:lnTo>
                <a:close/>
              </a:path>
              <a:path fill="darken" w="153045" h="21600">
                <a:moveTo>
                  <a:pt x="153045" y="0"/>
                </a:moveTo>
                <a:lnTo>
                  <a:pt x="153045" y="21600"/>
                </a:lnTo>
                <a:lnTo>
                  <a:pt x="151645" y="20200"/>
                </a:lnTo>
                <a:lnTo>
                  <a:pt x="151645" y="1400"/>
                </a:lnTo>
                <a:close/>
              </a:path>
              <a:path fill="darkenLess" w="153045" h="21600">
                <a:moveTo>
                  <a:pt x="153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645" y="20200"/>
                </a:lnTo>
                <a:close/>
              </a:path>
              <a:path fill="lighten" w="153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>
            <a:hlinkClick r:id="rId1" action="ppaction://hlinksldjump"/>
          </p:cNvPr>
          <p:cNvSpPr/>
          <p:nvPr/>
        </p:nvSpPr>
        <p:spPr>
          <a:xfrm>
            <a:off x="1332000" y="3475080"/>
            <a:ext cx="6121440" cy="863640"/>
          </a:xfrm>
          <a:custGeom>
            <a:avLst/>
            <a:gdLst>
              <a:gd name="textAreaLeft" fmla="*/ 55800 w 6121440"/>
              <a:gd name="textAreaRight" fmla="*/ 6065640 w 6121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53045" h="21600">
                <a:moveTo>
                  <a:pt x="0" y="0"/>
                </a:moveTo>
                <a:lnTo>
                  <a:pt x="153045" y="0"/>
                </a:lnTo>
                <a:lnTo>
                  <a:pt x="153045" y="21600"/>
                </a:lnTo>
                <a:lnTo>
                  <a:pt x="0" y="21600"/>
                </a:lnTo>
                <a:close/>
              </a:path>
              <a:path fill="lightenLess" w="153045" h="21600">
                <a:moveTo>
                  <a:pt x="0" y="0"/>
                </a:moveTo>
                <a:lnTo>
                  <a:pt x="153045" y="0"/>
                </a:lnTo>
                <a:lnTo>
                  <a:pt x="151645" y="1400"/>
                </a:lnTo>
                <a:lnTo>
                  <a:pt x="1400" y="1400"/>
                </a:lnTo>
                <a:close/>
              </a:path>
              <a:path fill="darken" w="153045" h="21600">
                <a:moveTo>
                  <a:pt x="153045" y="0"/>
                </a:moveTo>
                <a:lnTo>
                  <a:pt x="153045" y="21600"/>
                </a:lnTo>
                <a:lnTo>
                  <a:pt x="151645" y="20200"/>
                </a:lnTo>
                <a:lnTo>
                  <a:pt x="151645" y="1400"/>
                </a:lnTo>
                <a:close/>
              </a:path>
              <a:path fill="darkenLess" w="153045" h="21600">
                <a:moveTo>
                  <a:pt x="153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645" y="20200"/>
                </a:lnTo>
                <a:close/>
              </a:path>
              <a:path fill="lighten" w="153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нниб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1332000" y="5805360"/>
            <a:ext cx="6121440" cy="863640"/>
          </a:xfrm>
          <a:custGeom>
            <a:avLst/>
            <a:gdLst>
              <a:gd name="textAreaLeft" fmla="*/ 55800 w 6121440"/>
              <a:gd name="textAreaRight" fmla="*/ 6065640 w 6121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53045" h="21600">
                <a:moveTo>
                  <a:pt x="0" y="0"/>
                </a:moveTo>
                <a:lnTo>
                  <a:pt x="153045" y="0"/>
                </a:lnTo>
                <a:lnTo>
                  <a:pt x="153045" y="21600"/>
                </a:lnTo>
                <a:lnTo>
                  <a:pt x="0" y="21600"/>
                </a:lnTo>
                <a:close/>
              </a:path>
              <a:path fill="lightenLess" w="153045" h="21600">
                <a:moveTo>
                  <a:pt x="0" y="0"/>
                </a:moveTo>
                <a:lnTo>
                  <a:pt x="153045" y="0"/>
                </a:lnTo>
                <a:lnTo>
                  <a:pt x="151645" y="1400"/>
                </a:lnTo>
                <a:lnTo>
                  <a:pt x="1400" y="1400"/>
                </a:lnTo>
                <a:close/>
              </a:path>
              <a:path fill="darken" w="153045" h="21600">
                <a:moveTo>
                  <a:pt x="153045" y="0"/>
                </a:moveTo>
                <a:lnTo>
                  <a:pt x="153045" y="21600"/>
                </a:lnTo>
                <a:lnTo>
                  <a:pt x="151645" y="20200"/>
                </a:lnTo>
                <a:lnTo>
                  <a:pt x="151645" y="1400"/>
                </a:lnTo>
                <a:close/>
              </a:path>
              <a:path fill="darkenLess" w="153045" h="21600">
                <a:moveTo>
                  <a:pt x="153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645" y="20200"/>
                </a:lnTo>
                <a:close/>
              </a:path>
              <a:path fill="lighten" w="153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олодец!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Ты на верном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>
            <a:hlinkClick r:id="" action="ppaction://hlinkshowjump?jump=nextslide"/>
          </p:cNvPr>
          <p:cNvSpPr/>
          <p:nvPr/>
        </p:nvSpPr>
        <p:spPr>
          <a:xfrm>
            <a:off x="250920" y="595008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8" h="21600">
                <a:moveTo>
                  <a:pt x="7418" y="3794"/>
                </a:moveTo>
                <a:lnTo>
                  <a:pt x="21430" y="10800"/>
                </a:lnTo>
                <a:lnTo>
                  <a:pt x="741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80139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олодец!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Хорошая рабо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>
            <a:hlinkClick r:id="" action="ppaction://hlinkshowjump?jump=firstslide"/>
          </p:cNvPr>
          <p:cNvSpPr/>
          <p:nvPr/>
        </p:nvSpPr>
        <p:spPr>
          <a:xfrm>
            <a:off x="324000" y="595008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8398" y="10800"/>
                </a:moveTo>
                <a:lnTo>
                  <a:pt x="18904" y="3794"/>
                </a:lnTo>
                <a:lnTo>
                  <a:pt x="18904" y="17806"/>
                </a:lnTo>
                <a:close/>
              </a:path>
              <a:path fill="darken" w="23795" h="21600">
                <a:moveTo>
                  <a:pt x="4891" y="3794"/>
                </a:moveTo>
                <a:lnTo>
                  <a:pt x="6553" y="3794"/>
                </a:lnTo>
                <a:lnTo>
                  <a:pt x="6553" y="17806"/>
                </a:lnTo>
                <a:lnTo>
                  <a:pt x="489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5013000"/>
            <a:ext cx="8748720" cy="1079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твет неверен! Попробу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179280" y="1484280"/>
            <a:ext cx="2016360" cy="1079640"/>
          </a:xfrm>
          <a:custGeom>
            <a:avLst/>
            <a:gdLst>
              <a:gd name="textAreaLeft" fmla="*/ 69840 w 2016360"/>
              <a:gd name="textAreaRight" fmla="*/ 1946520 w 201636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40334" h="21600">
                <a:moveTo>
                  <a:pt x="0" y="0"/>
                </a:moveTo>
                <a:lnTo>
                  <a:pt x="40334" y="0"/>
                </a:lnTo>
                <a:lnTo>
                  <a:pt x="40334" y="21600"/>
                </a:lnTo>
                <a:lnTo>
                  <a:pt x="0" y="21600"/>
                </a:lnTo>
                <a:close/>
              </a:path>
              <a:path fill="lightenLess" w="40334" h="21600">
                <a:moveTo>
                  <a:pt x="0" y="0"/>
                </a:moveTo>
                <a:lnTo>
                  <a:pt x="40334" y="0"/>
                </a:lnTo>
                <a:lnTo>
                  <a:pt x="38934" y="1400"/>
                </a:lnTo>
                <a:lnTo>
                  <a:pt x="1400" y="1400"/>
                </a:lnTo>
                <a:close/>
              </a:path>
              <a:path fill="darken" w="40334" h="21600">
                <a:moveTo>
                  <a:pt x="40334" y="0"/>
                </a:moveTo>
                <a:lnTo>
                  <a:pt x="40334" y="21600"/>
                </a:lnTo>
                <a:lnTo>
                  <a:pt x="38934" y="20200"/>
                </a:lnTo>
                <a:lnTo>
                  <a:pt x="38934" y="1400"/>
                </a:lnTo>
                <a:close/>
              </a:path>
              <a:path fill="darkenLess" w="40334" h="21600">
                <a:moveTo>
                  <a:pt x="4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34" y="20200"/>
                </a:lnTo>
                <a:close/>
              </a:path>
              <a:path fill="lighten" w="4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334" h="21600">
                <a:moveTo>
                  <a:pt x="13161" y="10800"/>
                </a:moveTo>
                <a:lnTo>
                  <a:pt x="27174" y="3794"/>
                </a:lnTo>
                <a:lnTo>
                  <a:pt x="271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2340000" y="620640"/>
            <a:ext cx="2879640" cy="576360"/>
          </a:xfrm>
          <a:custGeom>
            <a:avLst/>
            <a:gdLst>
              <a:gd name="textAreaLeft" fmla="*/ 37080 w 2879640"/>
              <a:gd name="textAreaRight" fmla="*/ 2842560 w 287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07865" h="21600">
                <a:moveTo>
                  <a:pt x="0" y="0"/>
                </a:moveTo>
                <a:lnTo>
                  <a:pt x="107865" y="0"/>
                </a:lnTo>
                <a:lnTo>
                  <a:pt x="107865" y="21600"/>
                </a:lnTo>
                <a:lnTo>
                  <a:pt x="0" y="21600"/>
                </a:lnTo>
                <a:close/>
              </a:path>
              <a:path fill="lightenLess" w="107865" h="21600">
                <a:moveTo>
                  <a:pt x="0" y="0"/>
                </a:moveTo>
                <a:lnTo>
                  <a:pt x="107865" y="0"/>
                </a:lnTo>
                <a:lnTo>
                  <a:pt x="106465" y="1400"/>
                </a:lnTo>
                <a:lnTo>
                  <a:pt x="1400" y="1400"/>
                </a:lnTo>
                <a:close/>
              </a:path>
              <a:path fill="darken" w="107865" h="21600">
                <a:moveTo>
                  <a:pt x="107865" y="0"/>
                </a:moveTo>
                <a:lnTo>
                  <a:pt x="107865" y="21600"/>
                </a:lnTo>
                <a:lnTo>
                  <a:pt x="106465" y="20200"/>
                </a:lnTo>
                <a:lnTo>
                  <a:pt x="106465" y="1400"/>
                </a:lnTo>
                <a:close/>
              </a:path>
              <a:path fill="darkenLess" w="107865" h="21600">
                <a:moveTo>
                  <a:pt x="107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5" y="20200"/>
                </a:lnTo>
                <a:close/>
              </a:path>
              <a:path fill="lighten" w="107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 пер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0000" y="1268280"/>
            <a:ext cx="2879640" cy="576360"/>
          </a:xfrm>
          <a:custGeom>
            <a:avLst/>
            <a:gdLst>
              <a:gd name="textAreaLeft" fmla="*/ 37080 w 2879640"/>
              <a:gd name="textAreaRight" fmla="*/ 2842560 w 287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07865" h="21600">
                <a:moveTo>
                  <a:pt x="0" y="0"/>
                </a:moveTo>
                <a:lnTo>
                  <a:pt x="107865" y="0"/>
                </a:lnTo>
                <a:lnTo>
                  <a:pt x="107865" y="21600"/>
                </a:lnTo>
                <a:lnTo>
                  <a:pt x="0" y="21600"/>
                </a:lnTo>
                <a:close/>
              </a:path>
              <a:path fill="lightenLess" w="107865" h="21600">
                <a:moveTo>
                  <a:pt x="0" y="0"/>
                </a:moveTo>
                <a:lnTo>
                  <a:pt x="107865" y="0"/>
                </a:lnTo>
                <a:lnTo>
                  <a:pt x="106465" y="1400"/>
                </a:lnTo>
                <a:lnTo>
                  <a:pt x="1400" y="1400"/>
                </a:lnTo>
                <a:close/>
              </a:path>
              <a:path fill="darken" w="107865" h="21600">
                <a:moveTo>
                  <a:pt x="107865" y="0"/>
                </a:moveTo>
                <a:lnTo>
                  <a:pt x="107865" y="21600"/>
                </a:lnTo>
                <a:lnTo>
                  <a:pt x="106465" y="20200"/>
                </a:lnTo>
                <a:lnTo>
                  <a:pt x="106465" y="1400"/>
                </a:lnTo>
                <a:close/>
              </a:path>
              <a:path fill="darkenLess" w="107865" h="21600">
                <a:moveTo>
                  <a:pt x="107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5" y="20200"/>
                </a:lnTo>
                <a:close/>
              </a:path>
              <a:path fill="lighten" w="107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 вто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2340000" y="1916280"/>
            <a:ext cx="2879640" cy="576000"/>
          </a:xfrm>
          <a:custGeom>
            <a:avLst/>
            <a:gdLst>
              <a:gd name="textAreaLeft" fmla="*/ 37080 w 2879640"/>
              <a:gd name="textAreaRight" fmla="*/ 2842560 w 2879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07933" h="21600">
                <a:moveTo>
                  <a:pt x="0" y="0"/>
                </a:moveTo>
                <a:lnTo>
                  <a:pt x="107933" y="0"/>
                </a:lnTo>
                <a:lnTo>
                  <a:pt x="107933" y="21600"/>
                </a:lnTo>
                <a:lnTo>
                  <a:pt x="0" y="21600"/>
                </a:lnTo>
                <a:close/>
              </a:path>
              <a:path fill="lightenLess" w="107933" h="21600">
                <a:moveTo>
                  <a:pt x="0" y="0"/>
                </a:moveTo>
                <a:lnTo>
                  <a:pt x="107933" y="0"/>
                </a:lnTo>
                <a:lnTo>
                  <a:pt x="106533" y="1400"/>
                </a:lnTo>
                <a:lnTo>
                  <a:pt x="1400" y="1400"/>
                </a:lnTo>
                <a:close/>
              </a:path>
              <a:path fill="darken" w="107933" h="21600">
                <a:moveTo>
                  <a:pt x="107933" y="0"/>
                </a:moveTo>
                <a:lnTo>
                  <a:pt x="107933" y="21600"/>
                </a:lnTo>
                <a:lnTo>
                  <a:pt x="106533" y="20200"/>
                </a:lnTo>
                <a:lnTo>
                  <a:pt x="106533" y="1400"/>
                </a:lnTo>
                <a:close/>
              </a:path>
              <a:path fill="darkenLess" w="107933" h="21600">
                <a:moveTo>
                  <a:pt x="107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33" y="20200"/>
                </a:lnTo>
                <a:close/>
              </a:path>
              <a:path fill="lighten" w="107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 тре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2340000" y="2563920"/>
            <a:ext cx="2879640" cy="576000"/>
          </a:xfrm>
          <a:custGeom>
            <a:avLst/>
            <a:gdLst>
              <a:gd name="textAreaLeft" fmla="*/ 37080 w 2879640"/>
              <a:gd name="textAreaRight" fmla="*/ 2842560 w 2879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07933" h="21600">
                <a:moveTo>
                  <a:pt x="0" y="0"/>
                </a:moveTo>
                <a:lnTo>
                  <a:pt x="107933" y="0"/>
                </a:lnTo>
                <a:lnTo>
                  <a:pt x="107933" y="21600"/>
                </a:lnTo>
                <a:lnTo>
                  <a:pt x="0" y="21600"/>
                </a:lnTo>
                <a:close/>
              </a:path>
              <a:path fill="lightenLess" w="107933" h="21600">
                <a:moveTo>
                  <a:pt x="0" y="0"/>
                </a:moveTo>
                <a:lnTo>
                  <a:pt x="107933" y="0"/>
                </a:lnTo>
                <a:lnTo>
                  <a:pt x="106533" y="1400"/>
                </a:lnTo>
                <a:lnTo>
                  <a:pt x="1400" y="1400"/>
                </a:lnTo>
                <a:close/>
              </a:path>
              <a:path fill="darken" w="107933" h="21600">
                <a:moveTo>
                  <a:pt x="107933" y="0"/>
                </a:moveTo>
                <a:lnTo>
                  <a:pt x="107933" y="21600"/>
                </a:lnTo>
                <a:lnTo>
                  <a:pt x="106533" y="20200"/>
                </a:lnTo>
                <a:lnTo>
                  <a:pt x="106533" y="1400"/>
                </a:lnTo>
                <a:close/>
              </a:path>
              <a:path fill="darkenLess" w="107933" h="21600">
                <a:moveTo>
                  <a:pt x="107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33" y="20200"/>
                </a:lnTo>
                <a:close/>
              </a:path>
              <a:path fill="lighten" w="107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 четвёр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5364000" y="1557360"/>
            <a:ext cx="2880000" cy="576360"/>
          </a:xfrm>
          <a:custGeom>
            <a:avLst/>
            <a:gdLst>
              <a:gd name="textAreaLeft" fmla="*/ 37080 w 2880000"/>
              <a:gd name="textAreaRight" fmla="*/ 2842920 w 2880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07879" h="21600">
                <a:moveTo>
                  <a:pt x="0" y="0"/>
                </a:moveTo>
                <a:lnTo>
                  <a:pt x="107879" y="0"/>
                </a:lnTo>
                <a:lnTo>
                  <a:pt x="107879" y="21600"/>
                </a:lnTo>
                <a:lnTo>
                  <a:pt x="0" y="21600"/>
                </a:lnTo>
                <a:close/>
              </a:path>
              <a:path fill="lightenLess" w="107879" h="21600">
                <a:moveTo>
                  <a:pt x="0" y="0"/>
                </a:moveTo>
                <a:lnTo>
                  <a:pt x="107879" y="0"/>
                </a:lnTo>
                <a:lnTo>
                  <a:pt x="106479" y="1400"/>
                </a:lnTo>
                <a:lnTo>
                  <a:pt x="1400" y="1400"/>
                </a:lnTo>
                <a:close/>
              </a:path>
              <a:path fill="darken" w="107879" h="21600">
                <a:moveTo>
                  <a:pt x="107879" y="0"/>
                </a:moveTo>
                <a:lnTo>
                  <a:pt x="107879" y="21600"/>
                </a:lnTo>
                <a:lnTo>
                  <a:pt x="106479" y="20200"/>
                </a:lnTo>
                <a:lnTo>
                  <a:pt x="106479" y="1400"/>
                </a:lnTo>
                <a:close/>
              </a:path>
              <a:path fill="darkenLess" w="107879" h="21600">
                <a:moveTo>
                  <a:pt x="107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79" y="20200"/>
                </a:lnTo>
                <a:close/>
              </a:path>
              <a:path fill="lighten" w="107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 пя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>
            <a:hlinkClick r:id="rId1" action="ppaction://hlinksldjump"/>
          </p:cNvPr>
          <p:cNvSpPr/>
          <p:nvPr/>
        </p:nvSpPr>
        <p:spPr>
          <a:xfrm>
            <a:off x="1332000" y="3716280"/>
            <a:ext cx="6121440" cy="863640"/>
          </a:xfrm>
          <a:custGeom>
            <a:avLst/>
            <a:gdLst>
              <a:gd name="textAreaLeft" fmla="*/ 55800 w 6121440"/>
              <a:gd name="textAreaRight" fmla="*/ 6065640 w 6121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53045" h="21600">
                <a:moveTo>
                  <a:pt x="0" y="0"/>
                </a:moveTo>
                <a:lnTo>
                  <a:pt x="153045" y="0"/>
                </a:lnTo>
                <a:lnTo>
                  <a:pt x="153045" y="21600"/>
                </a:lnTo>
                <a:lnTo>
                  <a:pt x="0" y="21600"/>
                </a:lnTo>
                <a:close/>
              </a:path>
              <a:path fill="lightenLess" w="153045" h="21600">
                <a:moveTo>
                  <a:pt x="0" y="0"/>
                </a:moveTo>
                <a:lnTo>
                  <a:pt x="153045" y="0"/>
                </a:lnTo>
                <a:lnTo>
                  <a:pt x="151645" y="1400"/>
                </a:lnTo>
                <a:lnTo>
                  <a:pt x="1400" y="1400"/>
                </a:lnTo>
                <a:close/>
              </a:path>
              <a:path fill="darken" w="153045" h="21600">
                <a:moveTo>
                  <a:pt x="153045" y="0"/>
                </a:moveTo>
                <a:lnTo>
                  <a:pt x="153045" y="21600"/>
                </a:lnTo>
                <a:lnTo>
                  <a:pt x="151645" y="20200"/>
                </a:lnTo>
                <a:lnTo>
                  <a:pt x="151645" y="1400"/>
                </a:lnTo>
                <a:close/>
              </a:path>
              <a:path fill="darkenLess" w="153045" h="21600">
                <a:moveTo>
                  <a:pt x="153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645" y="20200"/>
                </a:lnTo>
                <a:close/>
              </a:path>
              <a:path fill="lighten" w="153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47280" y="189000"/>
            <a:ext cx="698508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означает по-латыни фору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0">
            <a:hlinkClick r:id="rId2" action="ppaction://hlinksldjump"/>
          </p:cNvPr>
          <p:cNvSpPr/>
          <p:nvPr/>
        </p:nvSpPr>
        <p:spPr>
          <a:xfrm>
            <a:off x="1332000" y="2565360"/>
            <a:ext cx="6121440" cy="863640"/>
          </a:xfrm>
          <a:custGeom>
            <a:avLst/>
            <a:gdLst>
              <a:gd name="textAreaLeft" fmla="*/ 55800 w 6121440"/>
              <a:gd name="textAreaRight" fmla="*/ 6065640 w 6121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53045" h="21600">
                <a:moveTo>
                  <a:pt x="0" y="0"/>
                </a:moveTo>
                <a:lnTo>
                  <a:pt x="153045" y="0"/>
                </a:lnTo>
                <a:lnTo>
                  <a:pt x="153045" y="21600"/>
                </a:lnTo>
                <a:lnTo>
                  <a:pt x="0" y="21600"/>
                </a:lnTo>
                <a:close/>
              </a:path>
              <a:path fill="lightenLess" w="153045" h="21600">
                <a:moveTo>
                  <a:pt x="0" y="0"/>
                </a:moveTo>
                <a:lnTo>
                  <a:pt x="153045" y="0"/>
                </a:lnTo>
                <a:lnTo>
                  <a:pt x="151645" y="1400"/>
                </a:lnTo>
                <a:lnTo>
                  <a:pt x="1400" y="1400"/>
                </a:lnTo>
                <a:close/>
              </a:path>
              <a:path fill="darken" w="153045" h="21600">
                <a:moveTo>
                  <a:pt x="153045" y="0"/>
                </a:moveTo>
                <a:lnTo>
                  <a:pt x="153045" y="21600"/>
                </a:lnTo>
                <a:lnTo>
                  <a:pt x="151645" y="20200"/>
                </a:lnTo>
                <a:lnTo>
                  <a:pt x="151645" y="1400"/>
                </a:lnTo>
                <a:close/>
              </a:path>
              <a:path fill="darkenLess" w="153045" h="21600">
                <a:moveTo>
                  <a:pt x="153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645" y="20200"/>
                </a:lnTo>
                <a:close/>
              </a:path>
              <a:path fill="lighten" w="153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рк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1">
            <a:hlinkClick r:id="rId3" action="ppaction://hlinksldjump"/>
          </p:cNvPr>
          <p:cNvSpPr/>
          <p:nvPr/>
        </p:nvSpPr>
        <p:spPr>
          <a:xfrm>
            <a:off x="1403280" y="5084640"/>
            <a:ext cx="6121440" cy="863640"/>
          </a:xfrm>
          <a:custGeom>
            <a:avLst/>
            <a:gdLst>
              <a:gd name="textAreaLeft" fmla="*/ 55800 w 6121440"/>
              <a:gd name="textAreaRight" fmla="*/ 6065640 w 6121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53045" h="21600">
                <a:moveTo>
                  <a:pt x="0" y="0"/>
                </a:moveTo>
                <a:lnTo>
                  <a:pt x="153045" y="0"/>
                </a:lnTo>
                <a:lnTo>
                  <a:pt x="153045" y="21600"/>
                </a:lnTo>
                <a:lnTo>
                  <a:pt x="0" y="21600"/>
                </a:lnTo>
                <a:close/>
              </a:path>
              <a:path fill="lightenLess" w="153045" h="21600">
                <a:moveTo>
                  <a:pt x="0" y="0"/>
                </a:moveTo>
                <a:lnTo>
                  <a:pt x="153045" y="0"/>
                </a:lnTo>
                <a:lnTo>
                  <a:pt x="151645" y="1400"/>
                </a:lnTo>
                <a:lnTo>
                  <a:pt x="1400" y="1400"/>
                </a:lnTo>
                <a:close/>
              </a:path>
              <a:path fill="darken" w="153045" h="21600">
                <a:moveTo>
                  <a:pt x="153045" y="0"/>
                </a:moveTo>
                <a:lnTo>
                  <a:pt x="153045" y="21600"/>
                </a:lnTo>
                <a:lnTo>
                  <a:pt x="151645" y="20200"/>
                </a:lnTo>
                <a:lnTo>
                  <a:pt x="151645" y="1400"/>
                </a:lnTo>
                <a:close/>
              </a:path>
              <a:path fill="darkenLess" w="153045" h="21600">
                <a:moveTo>
                  <a:pt x="153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645" y="20200"/>
                </a:lnTo>
                <a:close/>
              </a:path>
              <a:path fill="lighten" w="153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67690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олодец!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Ты на верном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13">
            <a:hlinkClick r:id="rId1" action="ppaction://hlinksldjump"/>
          </p:cNvPr>
          <p:cNvSpPr/>
          <p:nvPr/>
        </p:nvSpPr>
        <p:spPr>
          <a:xfrm>
            <a:off x="1332000" y="4626000"/>
            <a:ext cx="6121440" cy="863640"/>
          </a:xfrm>
          <a:custGeom>
            <a:avLst/>
            <a:gdLst>
              <a:gd name="textAreaLeft" fmla="*/ 55800 w 6121440"/>
              <a:gd name="textAreaRight" fmla="*/ 6065640 w 6121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53045" h="21600">
                <a:moveTo>
                  <a:pt x="0" y="0"/>
                </a:moveTo>
                <a:lnTo>
                  <a:pt x="153045" y="0"/>
                </a:lnTo>
                <a:lnTo>
                  <a:pt x="153045" y="21600"/>
                </a:lnTo>
                <a:lnTo>
                  <a:pt x="0" y="21600"/>
                </a:lnTo>
                <a:close/>
              </a:path>
              <a:path fill="lightenLess" w="153045" h="21600">
                <a:moveTo>
                  <a:pt x="0" y="0"/>
                </a:moveTo>
                <a:lnTo>
                  <a:pt x="153045" y="0"/>
                </a:lnTo>
                <a:lnTo>
                  <a:pt x="151645" y="1400"/>
                </a:lnTo>
                <a:lnTo>
                  <a:pt x="1400" y="1400"/>
                </a:lnTo>
                <a:close/>
              </a:path>
              <a:path fill="darken" w="153045" h="21600">
                <a:moveTo>
                  <a:pt x="153045" y="0"/>
                </a:moveTo>
                <a:lnTo>
                  <a:pt x="153045" y="21600"/>
                </a:lnTo>
                <a:lnTo>
                  <a:pt x="151645" y="20200"/>
                </a:lnTo>
                <a:lnTo>
                  <a:pt x="151645" y="1400"/>
                </a:lnTo>
                <a:close/>
              </a:path>
              <a:path fill="darkenLess" w="153045" h="21600">
                <a:moveTo>
                  <a:pt x="153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645" y="20200"/>
                </a:lnTo>
                <a:close/>
              </a:path>
              <a:path fill="lighten" w="153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д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4">
            <a:hlinkClick r:id="rId2" action="ppaction://hlinksldjump"/>
          </p:cNvPr>
          <p:cNvSpPr/>
          <p:nvPr/>
        </p:nvSpPr>
        <p:spPr>
          <a:xfrm>
            <a:off x="1332000" y="3475080"/>
            <a:ext cx="6121440" cy="863640"/>
          </a:xfrm>
          <a:custGeom>
            <a:avLst/>
            <a:gdLst>
              <a:gd name="textAreaLeft" fmla="*/ 55800 w 6121440"/>
              <a:gd name="textAreaRight" fmla="*/ 6065640 w 6121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53045" h="21600">
                <a:moveTo>
                  <a:pt x="0" y="0"/>
                </a:moveTo>
                <a:lnTo>
                  <a:pt x="153045" y="0"/>
                </a:lnTo>
                <a:lnTo>
                  <a:pt x="153045" y="21600"/>
                </a:lnTo>
                <a:lnTo>
                  <a:pt x="0" y="21600"/>
                </a:lnTo>
                <a:close/>
              </a:path>
              <a:path fill="lightenLess" w="153045" h="21600">
                <a:moveTo>
                  <a:pt x="0" y="0"/>
                </a:moveTo>
                <a:lnTo>
                  <a:pt x="153045" y="0"/>
                </a:lnTo>
                <a:lnTo>
                  <a:pt x="151645" y="1400"/>
                </a:lnTo>
                <a:lnTo>
                  <a:pt x="1400" y="1400"/>
                </a:lnTo>
                <a:close/>
              </a:path>
              <a:path fill="darken" w="153045" h="21600">
                <a:moveTo>
                  <a:pt x="153045" y="0"/>
                </a:moveTo>
                <a:lnTo>
                  <a:pt x="153045" y="21600"/>
                </a:lnTo>
                <a:lnTo>
                  <a:pt x="151645" y="20200"/>
                </a:lnTo>
                <a:lnTo>
                  <a:pt x="151645" y="1400"/>
                </a:lnTo>
                <a:close/>
              </a:path>
              <a:path fill="darkenLess" w="153045" h="21600">
                <a:moveTo>
                  <a:pt x="153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645" y="20200"/>
                </a:lnTo>
                <a:close/>
              </a:path>
              <a:path fill="lighten" w="153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ес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5">
            <a:hlinkClick r:id="rId3" action="ppaction://hlinksldjump"/>
          </p:cNvPr>
          <p:cNvSpPr/>
          <p:nvPr/>
        </p:nvSpPr>
        <p:spPr>
          <a:xfrm>
            <a:off x="1332000" y="5805360"/>
            <a:ext cx="6121440" cy="863640"/>
          </a:xfrm>
          <a:custGeom>
            <a:avLst/>
            <a:gdLst>
              <a:gd name="textAreaLeft" fmla="*/ 55800 w 6121440"/>
              <a:gd name="textAreaRight" fmla="*/ 6065640 w 6121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53045" h="21600">
                <a:moveTo>
                  <a:pt x="0" y="0"/>
                </a:moveTo>
                <a:lnTo>
                  <a:pt x="153045" y="0"/>
                </a:lnTo>
                <a:lnTo>
                  <a:pt x="153045" y="21600"/>
                </a:lnTo>
                <a:lnTo>
                  <a:pt x="0" y="21600"/>
                </a:lnTo>
                <a:close/>
              </a:path>
              <a:path fill="lightenLess" w="153045" h="21600">
                <a:moveTo>
                  <a:pt x="0" y="0"/>
                </a:moveTo>
                <a:lnTo>
                  <a:pt x="153045" y="0"/>
                </a:lnTo>
                <a:lnTo>
                  <a:pt x="151645" y="1400"/>
                </a:lnTo>
                <a:lnTo>
                  <a:pt x="1400" y="1400"/>
                </a:lnTo>
                <a:close/>
              </a:path>
              <a:path fill="darken" w="153045" h="21600">
                <a:moveTo>
                  <a:pt x="153045" y="0"/>
                </a:moveTo>
                <a:lnTo>
                  <a:pt x="153045" y="21600"/>
                </a:lnTo>
                <a:lnTo>
                  <a:pt x="151645" y="20200"/>
                </a:lnTo>
                <a:lnTo>
                  <a:pt x="151645" y="1400"/>
                </a:lnTo>
                <a:close/>
              </a:path>
              <a:path fill="darkenLess" w="153045" h="21600">
                <a:moveTo>
                  <a:pt x="153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645" y="20200"/>
                </a:lnTo>
                <a:close/>
              </a:path>
              <a:path fill="lighten" w="153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395280" y="189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заведовал судами и был наместником провинц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олодец!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Ты на верном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>
            <a:hlinkClick r:id="rId1" action="ppaction://hlinksldjump"/>
          </p:cNvPr>
          <p:cNvSpPr/>
          <p:nvPr/>
        </p:nvSpPr>
        <p:spPr>
          <a:xfrm>
            <a:off x="179280" y="602136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3794"/>
                </a:moveTo>
                <a:lnTo>
                  <a:pt x="20218" y="10800"/>
                </a:lnTo>
                <a:lnTo>
                  <a:pt x="62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о римляне избирали в самых опасных случа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>
            <a:hlinkClick r:id="rId1" action="ppaction://hlinksldjump"/>
          </p:cNvPr>
          <p:cNvSpPr/>
          <p:nvPr/>
        </p:nvSpPr>
        <p:spPr>
          <a:xfrm>
            <a:off x="1332000" y="4626000"/>
            <a:ext cx="6121440" cy="863640"/>
          </a:xfrm>
          <a:custGeom>
            <a:avLst/>
            <a:gdLst>
              <a:gd name="textAreaLeft" fmla="*/ 55800 w 6121440"/>
              <a:gd name="textAreaRight" fmla="*/ 6065640 w 6121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53045" h="21600">
                <a:moveTo>
                  <a:pt x="0" y="0"/>
                </a:moveTo>
                <a:lnTo>
                  <a:pt x="153045" y="0"/>
                </a:lnTo>
                <a:lnTo>
                  <a:pt x="153045" y="21600"/>
                </a:lnTo>
                <a:lnTo>
                  <a:pt x="0" y="21600"/>
                </a:lnTo>
                <a:close/>
              </a:path>
              <a:path fill="lightenLess" w="153045" h="21600">
                <a:moveTo>
                  <a:pt x="0" y="0"/>
                </a:moveTo>
                <a:lnTo>
                  <a:pt x="153045" y="0"/>
                </a:lnTo>
                <a:lnTo>
                  <a:pt x="151645" y="1400"/>
                </a:lnTo>
                <a:lnTo>
                  <a:pt x="1400" y="1400"/>
                </a:lnTo>
                <a:close/>
              </a:path>
              <a:path fill="darken" w="153045" h="21600">
                <a:moveTo>
                  <a:pt x="153045" y="0"/>
                </a:moveTo>
                <a:lnTo>
                  <a:pt x="153045" y="21600"/>
                </a:lnTo>
                <a:lnTo>
                  <a:pt x="151645" y="20200"/>
                </a:lnTo>
                <a:lnTo>
                  <a:pt x="151645" y="1400"/>
                </a:lnTo>
                <a:close/>
              </a:path>
              <a:path fill="darkenLess" w="153045" h="21600">
                <a:moveTo>
                  <a:pt x="153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645" y="20200"/>
                </a:lnTo>
                <a:close/>
              </a:path>
              <a:path fill="lighten" w="153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б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>
            <a:hlinkClick r:id="rId2" action="ppaction://hlinksldjump"/>
          </p:cNvPr>
          <p:cNvSpPr/>
          <p:nvPr/>
        </p:nvSpPr>
        <p:spPr>
          <a:xfrm>
            <a:off x="1332000" y="3284640"/>
            <a:ext cx="6121440" cy="863640"/>
          </a:xfrm>
          <a:custGeom>
            <a:avLst/>
            <a:gdLst>
              <a:gd name="textAreaLeft" fmla="*/ 55800 w 6121440"/>
              <a:gd name="textAreaRight" fmla="*/ 6065640 w 6121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53045" h="21600">
                <a:moveTo>
                  <a:pt x="0" y="0"/>
                </a:moveTo>
                <a:lnTo>
                  <a:pt x="153045" y="0"/>
                </a:lnTo>
                <a:lnTo>
                  <a:pt x="153045" y="21600"/>
                </a:lnTo>
                <a:lnTo>
                  <a:pt x="0" y="21600"/>
                </a:lnTo>
                <a:close/>
              </a:path>
              <a:path fill="lightenLess" w="153045" h="21600">
                <a:moveTo>
                  <a:pt x="0" y="0"/>
                </a:moveTo>
                <a:lnTo>
                  <a:pt x="153045" y="0"/>
                </a:lnTo>
                <a:lnTo>
                  <a:pt x="151645" y="1400"/>
                </a:lnTo>
                <a:lnTo>
                  <a:pt x="1400" y="1400"/>
                </a:lnTo>
                <a:close/>
              </a:path>
              <a:path fill="darken" w="153045" h="21600">
                <a:moveTo>
                  <a:pt x="153045" y="0"/>
                </a:moveTo>
                <a:lnTo>
                  <a:pt x="153045" y="21600"/>
                </a:lnTo>
                <a:lnTo>
                  <a:pt x="151645" y="20200"/>
                </a:lnTo>
                <a:lnTo>
                  <a:pt x="151645" y="1400"/>
                </a:lnTo>
                <a:close/>
              </a:path>
              <a:path fill="darkenLess" w="153045" h="21600">
                <a:moveTo>
                  <a:pt x="153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645" y="20200"/>
                </a:lnTo>
                <a:close/>
              </a:path>
              <a:path fill="lighten" w="153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кт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>
            <a:hlinkClick r:id="rId3" action="ppaction://hlinksldjump"/>
          </p:cNvPr>
          <p:cNvSpPr/>
          <p:nvPr/>
        </p:nvSpPr>
        <p:spPr>
          <a:xfrm>
            <a:off x="1332000" y="5805360"/>
            <a:ext cx="6121440" cy="863640"/>
          </a:xfrm>
          <a:custGeom>
            <a:avLst/>
            <a:gdLst>
              <a:gd name="textAreaLeft" fmla="*/ 55800 w 6121440"/>
              <a:gd name="textAreaRight" fmla="*/ 6065640 w 6121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53045" h="21600">
                <a:moveTo>
                  <a:pt x="0" y="0"/>
                </a:moveTo>
                <a:lnTo>
                  <a:pt x="153045" y="0"/>
                </a:lnTo>
                <a:lnTo>
                  <a:pt x="153045" y="21600"/>
                </a:lnTo>
                <a:lnTo>
                  <a:pt x="0" y="21600"/>
                </a:lnTo>
                <a:close/>
              </a:path>
              <a:path fill="lightenLess" w="153045" h="21600">
                <a:moveTo>
                  <a:pt x="0" y="0"/>
                </a:moveTo>
                <a:lnTo>
                  <a:pt x="153045" y="0"/>
                </a:lnTo>
                <a:lnTo>
                  <a:pt x="151645" y="1400"/>
                </a:lnTo>
                <a:lnTo>
                  <a:pt x="1400" y="1400"/>
                </a:lnTo>
                <a:close/>
              </a:path>
              <a:path fill="darken" w="153045" h="21600">
                <a:moveTo>
                  <a:pt x="153045" y="0"/>
                </a:moveTo>
                <a:lnTo>
                  <a:pt x="153045" y="21600"/>
                </a:lnTo>
                <a:lnTo>
                  <a:pt x="151645" y="20200"/>
                </a:lnTo>
                <a:lnTo>
                  <a:pt x="151645" y="1400"/>
                </a:lnTo>
                <a:close/>
              </a:path>
              <a:path fill="darkenLess" w="153045" h="21600">
                <a:moveTo>
                  <a:pt x="153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645" y="20200"/>
                </a:lnTo>
                <a:close/>
              </a:path>
              <a:path fill="lighten" w="153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одное собр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Ты на верном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>
            <a:hlinkClick r:id="rId1" action="ppaction://hlinksldjump"/>
          </p:cNvPr>
          <p:cNvSpPr/>
          <p:nvPr/>
        </p:nvSpPr>
        <p:spPr>
          <a:xfrm>
            <a:off x="250920" y="5950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20212" y="10800"/>
                </a:lnTo>
                <a:lnTo>
                  <a:pt x="6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етвей власти разумно сочетал Рим ветви в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>
            <a:hlinkClick r:id="rId1" action="ppaction://hlinksldjump"/>
          </p:cNvPr>
          <p:cNvSpPr/>
          <p:nvPr/>
        </p:nvSpPr>
        <p:spPr>
          <a:xfrm>
            <a:off x="1332000" y="4626000"/>
            <a:ext cx="6121440" cy="863640"/>
          </a:xfrm>
          <a:custGeom>
            <a:avLst/>
            <a:gdLst>
              <a:gd name="textAreaLeft" fmla="*/ 55800 w 6121440"/>
              <a:gd name="textAreaRight" fmla="*/ 6065640 w 6121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53045" h="21600">
                <a:moveTo>
                  <a:pt x="0" y="0"/>
                </a:moveTo>
                <a:lnTo>
                  <a:pt x="153045" y="0"/>
                </a:lnTo>
                <a:lnTo>
                  <a:pt x="153045" y="21600"/>
                </a:lnTo>
                <a:lnTo>
                  <a:pt x="0" y="21600"/>
                </a:lnTo>
                <a:close/>
              </a:path>
              <a:path fill="lightenLess" w="153045" h="21600">
                <a:moveTo>
                  <a:pt x="0" y="0"/>
                </a:moveTo>
                <a:lnTo>
                  <a:pt x="153045" y="0"/>
                </a:lnTo>
                <a:lnTo>
                  <a:pt x="151645" y="1400"/>
                </a:lnTo>
                <a:lnTo>
                  <a:pt x="1400" y="1400"/>
                </a:lnTo>
                <a:close/>
              </a:path>
              <a:path fill="darken" w="153045" h="21600">
                <a:moveTo>
                  <a:pt x="153045" y="0"/>
                </a:moveTo>
                <a:lnTo>
                  <a:pt x="153045" y="21600"/>
                </a:lnTo>
                <a:lnTo>
                  <a:pt x="151645" y="20200"/>
                </a:lnTo>
                <a:lnTo>
                  <a:pt x="151645" y="1400"/>
                </a:lnTo>
                <a:close/>
              </a:path>
              <a:path fill="darkenLess" w="153045" h="21600">
                <a:moveTo>
                  <a:pt x="153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645" y="20200"/>
                </a:lnTo>
                <a:close/>
              </a:path>
              <a:path fill="lighten" w="153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>
            <a:hlinkClick r:id="rId2" action="ppaction://hlinksldjump"/>
          </p:cNvPr>
          <p:cNvSpPr/>
          <p:nvPr/>
        </p:nvSpPr>
        <p:spPr>
          <a:xfrm>
            <a:off x="1332000" y="3475080"/>
            <a:ext cx="6121440" cy="863640"/>
          </a:xfrm>
          <a:custGeom>
            <a:avLst/>
            <a:gdLst>
              <a:gd name="textAreaLeft" fmla="*/ 55800 w 6121440"/>
              <a:gd name="textAreaRight" fmla="*/ 6065640 w 6121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53045" h="21600">
                <a:moveTo>
                  <a:pt x="0" y="0"/>
                </a:moveTo>
                <a:lnTo>
                  <a:pt x="153045" y="0"/>
                </a:lnTo>
                <a:lnTo>
                  <a:pt x="153045" y="21600"/>
                </a:lnTo>
                <a:lnTo>
                  <a:pt x="0" y="21600"/>
                </a:lnTo>
                <a:close/>
              </a:path>
              <a:path fill="lightenLess" w="153045" h="21600">
                <a:moveTo>
                  <a:pt x="0" y="0"/>
                </a:moveTo>
                <a:lnTo>
                  <a:pt x="153045" y="0"/>
                </a:lnTo>
                <a:lnTo>
                  <a:pt x="151645" y="1400"/>
                </a:lnTo>
                <a:lnTo>
                  <a:pt x="1400" y="1400"/>
                </a:lnTo>
                <a:close/>
              </a:path>
              <a:path fill="darken" w="153045" h="21600">
                <a:moveTo>
                  <a:pt x="153045" y="0"/>
                </a:moveTo>
                <a:lnTo>
                  <a:pt x="153045" y="21600"/>
                </a:lnTo>
                <a:lnTo>
                  <a:pt x="151645" y="20200"/>
                </a:lnTo>
                <a:lnTo>
                  <a:pt x="151645" y="1400"/>
                </a:lnTo>
                <a:close/>
              </a:path>
              <a:path fill="darkenLess" w="153045" h="21600">
                <a:moveTo>
                  <a:pt x="153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645" y="20200"/>
                </a:lnTo>
                <a:close/>
              </a:path>
              <a:path fill="lighten" w="153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>
            <a:hlinkClick r:id="rId3" action="ppaction://hlinksldjump"/>
          </p:cNvPr>
          <p:cNvSpPr/>
          <p:nvPr/>
        </p:nvSpPr>
        <p:spPr>
          <a:xfrm>
            <a:off x="1332000" y="5805360"/>
            <a:ext cx="6121440" cy="863640"/>
          </a:xfrm>
          <a:custGeom>
            <a:avLst/>
            <a:gdLst>
              <a:gd name="textAreaLeft" fmla="*/ 55800 w 6121440"/>
              <a:gd name="textAreaRight" fmla="*/ 6065640 w 6121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53045" h="21600">
                <a:moveTo>
                  <a:pt x="0" y="0"/>
                </a:moveTo>
                <a:lnTo>
                  <a:pt x="153045" y="0"/>
                </a:lnTo>
                <a:lnTo>
                  <a:pt x="153045" y="21600"/>
                </a:lnTo>
                <a:lnTo>
                  <a:pt x="0" y="21600"/>
                </a:lnTo>
                <a:close/>
              </a:path>
              <a:path fill="lightenLess" w="153045" h="21600">
                <a:moveTo>
                  <a:pt x="0" y="0"/>
                </a:moveTo>
                <a:lnTo>
                  <a:pt x="153045" y="0"/>
                </a:lnTo>
                <a:lnTo>
                  <a:pt x="151645" y="1400"/>
                </a:lnTo>
                <a:lnTo>
                  <a:pt x="1400" y="1400"/>
                </a:lnTo>
                <a:close/>
              </a:path>
              <a:path fill="darken" w="153045" h="21600">
                <a:moveTo>
                  <a:pt x="153045" y="0"/>
                </a:moveTo>
                <a:lnTo>
                  <a:pt x="153045" y="21600"/>
                </a:lnTo>
                <a:lnTo>
                  <a:pt x="151645" y="20200"/>
                </a:lnTo>
                <a:lnTo>
                  <a:pt x="151645" y="1400"/>
                </a:lnTo>
                <a:close/>
              </a:path>
              <a:path fill="darkenLess" w="153045" h="21600">
                <a:moveTo>
                  <a:pt x="153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645" y="20200"/>
                </a:lnTo>
                <a:close/>
              </a:path>
              <a:path fill="lighten" w="153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олодец!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Ты на верном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>
            <a:hlinkClick r:id="rId1" action="ppaction://hlinksldjump"/>
          </p:cNvPr>
          <p:cNvSpPr/>
          <p:nvPr/>
        </p:nvSpPr>
        <p:spPr>
          <a:xfrm>
            <a:off x="179280" y="6021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1:43:50Z</dcterms:created>
  <dc:creator>pupil</dc:creator>
  <dc:description/>
  <dc:language>en-US</dc:language>
  <cp:lastModifiedBy>Учитель</cp:lastModifiedBy>
  <dcterms:modified xsi:type="dcterms:W3CDTF">2020-07-02T09:22:42Z</dcterms:modified>
  <cp:revision>6</cp:revision>
  <dc:subject/>
  <dc:title>Вопросы по Истории.</dc:title>
</cp:coreProperties>
</file>