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724-CCAB-455B-A3F1-7E414AD0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D46-4F41-404C-8306-2A818C27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9EE-8DE3-4401-A6DA-DE161F17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89B-C9C2-42C5-B502-CFCBC9D2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2D72-E119-48FE-92C6-C8A719B0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8B99-62F3-4D8D-9C94-A474CBD2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FA9A-087E-4F20-991E-D658963A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0A59-1282-4157-96BA-6EFC0FBC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9D51-B1D9-410E-BD6E-6D9F5994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4993-A542-45E9-B8BF-4A283839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F2C0-D87D-4747-878B-1BDC4E2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E60-C64B-417E-A99B-58FC80B8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7A79-8F2B-45DE-A7B6-1B1169AE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EC7E-15EA-4C44-8BB7-74D867B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E379-E2DE-4939-B060-D0A66283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BE41-CAF3-45BA-AA63-CC88E2DA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F616-0838-40AA-85C4-81C87EF9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7374-7493-46EB-A9E8-7A3C2120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4D82-6528-4E85-B438-4C3DAF0F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5F9F-07CE-4B8B-AB72-7CE24AE9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BD4B7-8C12-428E-BD05-1B23B2C6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9BF9-76D7-46CD-9158-4E69E414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D87-4E8D-4F62-A5EA-51046E85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986E-5453-4F21-A82C-18058136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C78F-40FB-429C-9A8C-A5B4330F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88E5-E7C5-4E67-ADED-FDEC5D6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C8EE-E051-4E9B-88F9-51658926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543E-C226-41FA-AC86-17FA043E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DC99-E6E6-49A8-A436-295378D5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FDC6-2223-4D9D-B07C-E86C44E4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03C7-34C8-45CE-A97D-1EFF13CA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78F0E-01D6-4D3C-A6F2-40530A7D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BD3A-7CA2-4E38-B91A-73DAA2BE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451-84F3-4172-9E82-049469AA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400E-0BE1-42C6-A905-3F3EEA47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3B6D8-C45A-4FBD-9CC2-332B150B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17C97-1C8B-44A9-9A3E-768C413E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0CE4-C78D-422A-96B4-9C40EC2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3C9CD-1A59-4193-AC32-B0244893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1A22-C7BE-4604-B1CB-5F0BE3D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02A15-3545-45BC-BB85-78EDC477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040F-99A1-4B55-80DA-659DFA8A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C0FD-8936-4BEE-B950-39734D78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E43F-E7A1-4048-B99A-4C552A2A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A54-5A14-4E1B-80BE-2B759DC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CE24-D2E8-4662-995C-77ED945B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59BCF-21D4-4722-A0AC-35D8669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170E-F615-4A3E-B4B9-C3C3D8F6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EC2EB-9624-4CD4-9FDD-2D9AEC5D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11CDE-E714-4C4F-AF10-75442A7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A9BF-62BD-4846-B579-D757449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5EFA-F676-4E9A-A8C8-7CC81410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D4CDA-1A5F-4E19-B7B4-C1499287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657D-A049-4E2D-9821-32314177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8F4E-56AC-44D0-B49A-B7E391B1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23E-EA23-4661-8BF3-BC777ADD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C80CE-5CA9-46A9-842B-B1C5FB43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6BD-533D-43C9-BCF7-8EAC5289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2A6-3A33-40F1-83B0-CD72961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46F-539B-4F9A-A645-E24FA4FE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BAEA-C0A0-4498-B947-E921C790C1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F65A-9D6B-4A53-85BC-2A1104257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EF91-4D14-40B8-B466-27E18082E8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3B9C-9C06-4BD5-826D-6C083B451E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15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19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2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C745-ED46-4CEA-A4AE-CBAC3661C20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50ds.ru/psiholog/490-vospitanie-sensornoy-kultury--osnova-umstvennogo-razvitiya-detey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Муниципальное бюджетное  дошкольное образовательное учреждение 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муниципального образовательного город Краснодар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«Детский сад комбинированного типа № 126»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Picture 4" descr="ДЕТ САД_1"/>
          <p:cNvPicPr/>
          <p:nvPr/>
        </p:nvPicPr>
        <p:blipFill>
          <a:blip r:embed="rId1"/>
          <a:stretch/>
        </p:blipFill>
        <p:spPr>
          <a:xfrm>
            <a:off x="2195640" y="1700280"/>
            <a:ext cx="4609800" cy="3017880"/>
          </a:xfrm>
          <a:prstGeom prst="rect">
            <a:avLst/>
          </a:prstGeom>
          <a:ln w="0">
            <a:noFill/>
          </a:ln>
        </p:spPr>
      </p:pic>
      <p:sp>
        <p:nvSpPr>
          <p:cNvPr id="294" name="WordArt 5"/>
          <p:cNvSpPr txBox="1"/>
          <p:nvPr/>
        </p:nvSpPr>
        <p:spPr>
          <a:xfrm>
            <a:off x="1476360" y="5234040"/>
            <a:ext cx="6153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утешествие в мир природы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8"/>
          <p:cNvSpPr txBox="1"/>
          <p:nvPr/>
        </p:nvSpPr>
        <p:spPr>
          <a:xfrm>
            <a:off x="3492360" y="6093000"/>
            <a:ext cx="455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тель Асланова Галина Викторо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784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3080" y="187200"/>
            <a:ext cx="89978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епесток №3. Кто живет на дереве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Воспитание у детей интереса к природе, закрепление знания о диких животных, живущих на дереве и под ним, запоминание материала, восприятие дерева, как целой экосистем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Задачи: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Учить детей мыслить логично, ставить вопросы, делать правильные умозаключения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Развивать у детей речевую активность, творческое воображение, наблюдательность, смекалк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Активировать словарь: гусеница, куница, лось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Инновационные технологии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Первый подражательно-исполнительный этап проектной деятельности, рассчитанный на работу с детьми 4 – 5 ле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Использованы методы ТРИЗ (теория решения изобретательских задач) и  РТВ (развитие творческого воображения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Игровые технолог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Предварительная работа: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рассматривание картинки с изображением диких животных, птиц, насекомых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Материал: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интерактивная игра "Кто на дереве живет?"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3080" y="187200"/>
            <a:ext cx="89978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епесток №4. Что растет на дереве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Воспитание у детей интереса к природе, закрепление знания о фруктах, овощах, ягодах, запоминание материала, восприятие дерева, как поставщика вкусных и полезных плод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Задачи: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Учить детей мыслить логично, ставить вопросы, делать правильные умозаключения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Развивать у детей речевую активность, творческое воображение, наблюдательность, смекалк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Активировать словарь: ананас, банан, перси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Инновационные технологии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Первый подражательно-исполнительный этап проектной деятельности, рассчитанный на работу с детьми 4 – 5 ле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Использованы методы ТРИЗ (теория решения изобретательских задач) и  РТВ (развитие творческого воображения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Игровые технолог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Предварительная работа: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рассматривание картинки с изображением фруктов, ягод, орех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Материал: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интерактивная игра "Что на дереве растет?"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3080" y="187200"/>
            <a:ext cx="89978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епесток №5. Времена года и дере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Воспитание у детей интереса к природе, закрепление знания о происходящих переменах в окружающем мире при смене времени года на примере деревье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Задачи: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Учить детей мыслить логично, ставить вопросы, делать правильные умозаключения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Развивать у детей речевую активность, творческое воображение, наблюдательность, смекалк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Активировать словарь: почки, листва, крон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Инновационные технологии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Первый подражательно-исполнительный этап проектной деятельности, рассчитанный на работу с детьми 4 – 5 ле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Использованы методы ТРИЗ (теория решения изобретательских задач) и  РТВ (развитие творческого воображения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Игровые технолог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Предварительная работа: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рассматривание картинки с изображением деревьев в разное время год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Материал: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интерактивная игра «Времена года и дерево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3080" y="187200"/>
            <a:ext cx="89978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епесток №6. Дерево: от корня до крон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Воспитание у детей интереса к природе, закрепление знания о структуре дере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Задачи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Учить детей мыслить логично, ставить вопросы, делать правильные умозаключения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Развивать у детей речевую активность, творческое воображение, наблюдательность, смекалк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Активировать словарь: почки, листва, крон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Инновационные технологии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Первый подражательно-исполнительный этап проектной деятельности, рассчитанный на работу с детьми 4 – 5 ле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Использованы методы ТРИЗ (теория решения изобретательских задач) и  РТВ (развитие творческого воображен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Игровые технолог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Предварительная работа: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рассматривание картинки с изображением деревьев , веток, корней, листв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Материал: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интерактивная игра «Собери дерево»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3080" y="187200"/>
            <a:ext cx="89978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116000" y="3719520"/>
            <a:ext cx="3168720" cy="2405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3166920" cy="237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5076720" y="773280"/>
            <a:ext cx="3057480" cy="23684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5076720" y="3716280"/>
            <a:ext cx="30974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епесток №7. Наш лес: деревья и кустарни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Воспитание у детей интереса к природе, закрепление знания о деревьях, кустарнике, лесе, саде, парк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Задачи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Учить детей мыслить логично, ставить вопросы, делать правильные умозаключения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Развивать у детей речевую активность, творческое воображение, наблюдательность, смекалк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Активировать словарь: куст, дерево, подлесо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Инновационные технологии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Первый подражательно-исполнительный этап проектной деятельности, рассчитанный на работу с детьми 4 – 5 ле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Использованы методы ТРИЗ (теория решения изобретательских задач) и  РТВ (развитие творческого воображен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Игровые технолог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Предварительная работа: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рассматривание картинки с изображением деревьев , веток, корней, листв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Материал: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интерактивная игра «Какие деревья растут в нашем лесу»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3080" y="187200"/>
            <a:ext cx="89978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епесток №8. Подземное царство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Воспитание у детей интереса к природе, закрепление знания о структуре земли, почв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Задачи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Учить детей мыслить логично, ставить вопросы, делать правильные умозаключения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Развивать у детей речевую активность, творческое воображение, наблюдательность, смекалк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Активировать словарь: почва, трава, песок, дерн, щебен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Инновационные технологии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Первый подражательно-исполнительный этап проектной деятельности, рассчитанный на работу с детьми 4 – 5 ле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Использованы методы ТРИЗ (теория решения изобретательских задач) и  РТВ (развитие творческого воображен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Игровые технолог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Предварительная работа: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рассматривание картинки с изображением деревьев , веток, корней, листв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Материал: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интерактивная игра «Подземное царство»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3080" y="187200"/>
            <a:ext cx="89978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зраст детей: 4-5л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аправленность 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развития детей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, в рамках которого проводится работа по проекту: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омплексное (разные виды детской деятельности: познавательно-речевая, изобразительная, театрализованная, лепка, ручной труд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Участники проекта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дети, воспитатель группы, родител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Тип проекта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смешанный; группово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Форма проведения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занятия (фронтальные, подгрупповые, индивидуальные), самостоятельная деятельность дет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родолжительность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долгосрочны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Цель –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заключается в общем ознакомлении детей с окружающим миром. Устройством природы и ее законов. Расширением кругозора и развитием способности к самостоятельному, логическому мышлению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Результат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 Дети легче усваивают понятия «окружающий мир», «живая» и «неживая» природа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остигают механику природных явлений на примере животных, деревьев, лесов, поле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быстрее возникает понимание взаимосвязанности и целостности экосистемы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ловарный запас активно пополняется, термины используются уместно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Цветок"/>
          <p:cNvPicPr/>
          <p:nvPr/>
        </p:nvPicPr>
        <p:blipFill>
          <a:blip r:embed="rId1"/>
          <a:stretch/>
        </p:blipFill>
        <p:spPr>
          <a:xfrm>
            <a:off x="4284720" y="2852640"/>
            <a:ext cx="4859280" cy="3264120"/>
          </a:xfrm>
          <a:prstGeom prst="rect">
            <a:avLst/>
          </a:prstGeom>
          <a:ln w="0">
            <a:noFill/>
          </a:ln>
        </p:spPr>
      </p:pic>
      <p:sp>
        <p:nvSpPr>
          <p:cNvPr id="303" name="WordArt 7"/>
          <p:cNvSpPr txBox="1"/>
          <p:nvPr/>
        </p:nvSpPr>
        <p:spPr>
          <a:xfrm>
            <a:off x="395280" y="1989000"/>
            <a:ext cx="29527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ЛШЕБНЫЙ ЦВЕТОК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276720" y="189000"/>
            <a:ext cx="5759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ограмма из девяти НОД, предназначенная для детей от 4 до 5 ле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Цель: Изучение природы, понятия «живая» и «неживая» природа, воспитание у детей интереса к природе, закрепление знания о диких  животных, растениях, деревьях, временах го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397080" y="14119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овая форм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755640" y="3124440"/>
            <a:ext cx="4967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Каждый из лепестков соответствует определенной тем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НОД №1 : «Введение. Живая и неживая природа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Лепесток №1. Царство пти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Лепесток №2. Как звери к зиме готовятс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Лепесток №3. Кто живет на дерев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Лепесток №4. Что растет на дерев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Лепесток №5. Времена года и дерев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Лепесток №6. Дерево: от корня до крон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Лепесток №7. Наш лес: деревья и кустарни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Лепесток №8. Подземное царств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ведение: живая и неживая прир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Цель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ознание окружающего мира, знакомство с понятием "живая" и "неживая" при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сновные аспекты, рассматриваемые и освящаемые на НОД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Что относится к живой природе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ети делятся своими наблюдениями, приводят пример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Что относится к неживой природе?  Акцент на искусственные объекты, созданные руками человека, обсуждение с деть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ведение понятия «волшебный цветок» (игровой момент). Каждой последующей встрече соответствует один лепесто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Лепесток №1. Царство птиц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Научить детей отличать птиц от других живых объектов, закрепление знания об общих принципах строения птиц, различия между перелетными и зимующими птицами, между сухопутными и водоплавающими птиц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редварительная работа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беседы на прогулке об окружающем мире, природе, наблюдение за природными явлени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Материал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картинки  с изображением различных птиц, а также картинки с изображением живой и неживой приро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1068876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епесток №2. Как звери к зиме готовят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Воспитание у детей интереса к природе, закрепление знания о диких животных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66"/>
                </a:solidFill>
                <a:latin typeface="Arial"/>
              </a:rPr>
              <a:t>Задачи: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Учить детей мыслить логично, ставить вопросы, делать правильные умозаключения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Развивать у детей речевую активность, творческое воображение, наблюдательность, смекалк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Активировать словарь: медвежья берлога, мнемотаблица, мох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3366"/>
                </a:solidFill>
                <a:latin typeface="Arial"/>
              </a:rPr>
              <a:t>Инновационные технологии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Первый подражательно-исполнительный этап проектной деятельности, рассчитанный на работу с детьми 4 – 5 ле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Использованы методы ТРИЗ (теория решения изобретательских задач) и  РТВ (развитие творческого воображения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Игровые технолог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Arial"/>
              </a:rPr>
              <a:t>Предварительная работа: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рассматривание картин с изображением диких животных, летнего леса; чтение рассказов В. Бианки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Мышонок Пик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», «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Готовятся к зиме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»» «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Запасы овощей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»;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дети учились составлять загадки, пользоваться мнемотабл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Arial"/>
              </a:rPr>
              <a:t>Материал: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картинки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Белки осенью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», «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Медведи в осеннем лесу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», «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Медвежья берлога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»;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мнемотаблица; картинки с изображением различных предм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3:33:35Z</dcterms:created>
  <dc:creator>Александр</dc:creator>
  <dc:description/>
  <dc:language>en-US</dc:language>
  <cp:lastModifiedBy>Александр</cp:lastModifiedBy>
  <dcterms:modified xsi:type="dcterms:W3CDTF">2020-07-03T05:13:05Z</dcterms:modified>
  <cp:revision>51</cp:revision>
  <dc:subject/>
  <dc:title>Слайд 1</dc:title>
</cp:coreProperties>
</file>