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6576B-3BF8-4136-B163-A418933C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AA91D-CC3C-4A21-9509-C8805284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69317-89FC-42CE-8BFD-7C9F42B8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AF89F-D5E1-4395-AC1E-B8466A7F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66C1-CC5F-4305-9019-DBCDAD2B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F5FB-2493-408D-9823-0479C8B8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619C-868E-43AD-A03B-0DEAEEBF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3BD4-BAD8-4778-B999-13549424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5D30-C73E-49F4-A8ED-03E2C15F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5E5B-C78C-416E-B58E-993962A6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B761-0D1B-4FFA-A54F-992BC606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6B0E5-1319-4FB6-BD14-E925EF4F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90AD-A3A7-447C-B3E2-2126E6F6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396E-D6EF-4F60-84D8-51C34998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1C12-32FF-43F1-B2FA-6F829C44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17AC-F409-4119-9FFE-C4F49010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0B27-53F2-42A9-8319-EA318760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37269-D76A-4E6C-9571-9ECA8E5C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B9186-907E-451F-99B0-7ACC974F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5F2C5-0C20-410F-98F3-EAD55B4D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3BA6B-A9C7-40AA-9042-CA331B85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2792D-BB7A-4091-8595-6295954B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BFF71-B766-4F5E-8AE4-985A562A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A995E-88BD-41E5-A368-AF8A3B80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D184-5BA8-4334-8D57-7A9C5BA491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0000"/>
                  </a:gs>
                  <a:gs pos="100000">
                    <a:srgbClr val="8c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8c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0000"/>
                  </a:gs>
                  <a:gs pos="100000">
                    <a:srgbClr val="8c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8c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5662-6552-498C-A170-1A2F13A871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Начало войны" descr=""/>
          <p:cNvPicPr/>
          <p:nvPr/>
        </p:nvPicPr>
        <p:blipFill>
          <a:blip r:embed="rId1"/>
          <a:stretch/>
        </p:blipFill>
        <p:spPr>
          <a:xfrm>
            <a:off x="3924360" y="2421000"/>
            <a:ext cx="1816200" cy="181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епкина" descr=""/>
          <p:cNvPicPr/>
          <p:nvPr/>
        </p:nvPicPr>
        <p:blipFill>
          <a:blip r:embed="rId1"/>
          <a:stretch/>
        </p:blipFill>
        <p:spPr>
          <a:xfrm>
            <a:off x="-144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cc"/>
                </a:solidFill>
                <a:latin typeface="Arial Narrow"/>
              </a:rPr>
              <a:t>Я понял(а)…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cc"/>
                </a:solidFill>
                <a:latin typeface="Arial Narrow"/>
              </a:rPr>
              <a:t>Я горжусь …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cc"/>
                </a:solidFill>
                <a:latin typeface="Arial Narrow"/>
              </a:rPr>
              <a:t>Я узнал(а) …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2:35:01Z</dcterms:created>
  <dc:creator>Сергей Павлович:-)</dc:creator>
  <dc:description/>
  <dc:language>en-US</dc:language>
  <cp:lastModifiedBy>Виктор</cp:lastModifiedBy>
  <dcterms:modified xsi:type="dcterms:W3CDTF">2020-02-18T14:39:18Z</dcterms:modified>
  <cp:revision>89</cp:revision>
  <dc:subject/>
  <dc:title>Слайд 1</dc:title>
</cp:coreProperties>
</file>