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7B81-7D32-4959-BB96-9AFC530E3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03C2-169D-4567-85FB-0014F63D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C6A1-9879-4D5A-A96C-2E02E48F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F749-FA9E-4CDF-BBB6-004DC974E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4109-2090-4CE6-9A12-94B70ED8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6CA4-C4D9-497E-A288-ED504388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9AA1-0109-4C1E-A614-D47204E4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9A31-A29D-4A15-ABCE-B241E07C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511D-03C5-413C-8A09-12CC7605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97E3-0093-4CB7-BEAA-ACBFACDA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A528-6CC9-483D-AC57-6DF99CAD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8FB2-61F9-4E31-940E-74040BEF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D25F-DA66-4AC3-9D7D-772DCE3BB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0" y="2133720"/>
            <a:ext cx="495288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Использование инновационных технологий в работе с детьми в подготовительной к школе групп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3520" y="1066680"/>
            <a:ext cx="3771720" cy="5029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419720" y="1752480"/>
            <a:ext cx="4419360" cy="33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495680" y="3181320"/>
            <a:ext cx="4346640" cy="3260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09480" y="228600"/>
            <a:ext cx="465480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5800" y="1143000"/>
            <a:ext cx="3600360" cy="4800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343400" y="1676520"/>
            <a:ext cx="449424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295280" y="838080"/>
            <a:ext cx="72392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формационно – коммуникационные технолог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Цели использования ИК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делать образование современн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близить ОД к мировосприятию современного ребе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становить отношение взаимопонимания, взаимопомощи между педагогом и воспитанник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мочь педагогу в возможности эмоционально и образно подать материа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кономить время как педагога, так и ребе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пользование ИКТ позволяет воспроизводить информацию одновременно в вид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кста, графического изображения, звука, речи, виде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73915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133720" y="1447920"/>
            <a:ext cx="5410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хнология «Лэпбу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и: расширение кругозора об окружающем мире;развитие познавательной активности, наблюдательности, творческого мыш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ание интереса к окружающему миру, формирование самостоятельности в самообуч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838080" y="3505320"/>
            <a:ext cx="3810240" cy="2857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952880" y="1143000"/>
            <a:ext cx="3543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09480" y="228600"/>
            <a:ext cx="3714840" cy="4952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438800" y="914400"/>
            <a:ext cx="4171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85800" y="228600"/>
            <a:ext cx="3886200" cy="5181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762440" y="1066680"/>
            <a:ext cx="40575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057400" y="1600200"/>
            <a:ext cx="556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хнология проблем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Цель технологии проблемного обучения в детском саду – это воспиты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особность самостоятельно анализировать проблемную ситуаци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амостоятельно находить правиль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66680" y="609480"/>
            <a:ext cx="777240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Инновация - это процесс, в котором хорошая идея развивается, улучшается и внедря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Иннова́ция, нововведе́ние — это внедрённое новшество, является конечным результатом интеллектуальной деятельности человека, его фантазии, творческого процесса, открытий, изобретений и рационализ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Инновационная деятельность – процесс, который развивается по определенным этапам и позволяет учреждению перейти на более качественную ступень развития при создании, разработке, освоении, использованию и распространению новшеств (новых методов, методики, технологии, программы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2286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114800" y="297180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828800" y="2209680"/>
            <a:ext cx="5638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371600" y="8380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76520" y="1143000"/>
            <a:ext cx="6324480" cy="50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новационные педагогические техн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доровьесберегающие технолог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и проектной деятель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 исследовательской деятельности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формационно-коммуникационные технолог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 «лэпбу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 проблем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371600" y="1295280"/>
            <a:ext cx="64771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доровьесберегающие технологии в образовательном процесс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ь: формировать у дошкольников представление о значимости физического и психического здоровья человека; воспитывать умение беречь и укреплять своё здоров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029200" y="1600200"/>
            <a:ext cx="3543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3772080" cy="5029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724280" y="1371600"/>
            <a:ext cx="3886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00200" y="1828800"/>
            <a:ext cx="609588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хнология проектной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ектная деятельность – это целенаправленная деятельность, с определенной целью, по определенному плану для решения поисковых, исследовательских, практических задач по любому направлению содержания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3813120" cy="2860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800600" y="380880"/>
            <a:ext cx="3736800" cy="2803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2133720" y="3809880"/>
            <a:ext cx="46479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676520" y="1905120"/>
            <a:ext cx="6095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хнология исследовательской 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Цель исследовательской деятельности в детском саду - сформировать у дошкольников основные ключевые компетенции, способность к исследовательскому типу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0-07-05T09:40:2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