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E0DC4-1F99-40A2-8866-BA644CA4F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AF79B-104E-48C4-81F9-6DD17BBD0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940EC-8578-4BCD-9CD8-F7BF8A7CC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09B70-2B63-4F36-9C92-50BD28153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876A5-350B-4FE5-A731-90B5AA4DD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38400-0652-4E77-A59A-FB8C6C11B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C1B44-63B3-4F3D-8082-F7D7C304E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DD786-159A-404E-A21E-33157916D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40052-3202-4794-92F9-4B27AEFD5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92476-00D2-4B93-B069-49F17418F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291E4-97F0-4021-944A-D21886489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10618-4CAC-44D5-BF83-7421F5011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20271-7A10-4DD4-8E85-959FE58BB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CC4FF-C0E9-497F-BC14-CBED39920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94B22-DAD6-4BBC-802C-DE1DCA3AB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4A3ED-3BCB-4E6D-BE9F-EF695AA3F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024BC-9AC1-4F0D-952F-3E8D848C4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CDF5F-39F4-4B17-BC25-0DA931B7E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7BE00-D76D-495D-B5F2-8F2C3539B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10366-67B2-4D8B-822D-8A16537B5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1B4CC-2627-4D54-AF28-16FF4E72C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41E5C-FF33-40FF-A2F3-291B96FEA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6F60A-C028-4F91-A139-726DD7222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58920-F43E-49AA-A2EB-3FCE59243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33ED8-4A01-4752-960A-EC3A68D6A4E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99E2F-F6F4-48A7-8A5C-2B61B19040A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229600" cy="58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воробей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коробок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ворона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поросёнок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соловей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4038480" cy="55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живо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0000"/>
                </a:solidFill>
                <a:latin typeface="Arial"/>
              </a:rPr>
              <a:t>(одушевлённый)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2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воробей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2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ворон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2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поросёнок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2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соловей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648320" y="475920"/>
            <a:ext cx="4038480" cy="56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неживой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0000"/>
                </a:solidFill>
                <a:latin typeface="Arial"/>
              </a:rPr>
              <a:t>(неодушевлённый)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коробок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4038480" cy="572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м. р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3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воробей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3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коробок поросёнок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3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соловей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648320" y="404640"/>
            <a:ext cx="4038480" cy="572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ж. р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3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ворон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4038480" cy="572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-оро-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3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воробей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3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ворон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3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поросёнок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3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коробок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648320" y="404640"/>
            <a:ext cx="4038480" cy="572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-оло-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соловей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4038480" cy="56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о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3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воробей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3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коробок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3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поросёнок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3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соловей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3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648320" y="404640"/>
            <a:ext cx="4038480" cy="572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ворон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Line 4"/>
          <p:cNvSpPr/>
          <p:nvPr/>
        </p:nvSpPr>
        <p:spPr>
          <a:xfrm>
            <a:off x="6300720" y="620640"/>
            <a:ext cx="0" cy="504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Line 5"/>
          <p:cNvSpPr/>
          <p:nvPr/>
        </p:nvSpPr>
        <p:spPr>
          <a:xfrm>
            <a:off x="6300720" y="1125360"/>
            <a:ext cx="71928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Line 7"/>
          <p:cNvSpPr/>
          <p:nvPr/>
        </p:nvSpPr>
        <p:spPr>
          <a:xfrm>
            <a:off x="2340000" y="692280"/>
            <a:ext cx="0" cy="504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Line 10"/>
          <p:cNvSpPr/>
          <p:nvPr/>
        </p:nvSpPr>
        <p:spPr>
          <a:xfrm>
            <a:off x="2340000" y="1197000"/>
            <a:ext cx="5763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Line 12"/>
          <p:cNvSpPr/>
          <p:nvPr/>
        </p:nvSpPr>
        <p:spPr>
          <a:xfrm>
            <a:off x="2484360" y="692280"/>
            <a:ext cx="287280" cy="4316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6000" spc="-1" strike="noStrike">
                <a:solidFill>
                  <a:srgbClr val="ff0000"/>
                </a:solidFill>
                <a:latin typeface="Arial"/>
              </a:rPr>
              <a:t>Зимой</a:t>
            </a:r>
            <a:r>
              <a:rPr b="0" lang="ru-RU" sz="6000" spc="-1" strike="noStrike">
                <a:solidFill>
                  <a:srgbClr val="ffffff"/>
                </a:solidFill>
                <a:latin typeface="Arial"/>
              </a:rPr>
              <a:t> схватил их Змей и посадил в темницу –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6000" spc="-1" strike="noStrike">
                <a:solidFill>
                  <a:srgbClr val="ffffff"/>
                </a:solidFill>
                <a:latin typeface="Arial"/>
              </a:rPr>
              <a:t>подрастут, мол, до весны, тогда и съем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09T07:52:35Z</dcterms:created>
  <dc:creator>Пользователь</dc:creator>
  <dc:description/>
  <dc:language>en-US</dc:language>
  <cp:lastModifiedBy>Ирина</cp:lastModifiedBy>
  <dcterms:modified xsi:type="dcterms:W3CDTF">2020-07-02T18:34:59Z</dcterms:modified>
  <cp:revision>38</cp:revision>
  <dc:subject/>
  <dc:title>Муниципальное общеобразовательное учреждение- гимназия города Мценска Орловской области  представляет  участника областного конкурса «Учитель года - 2005» учителя истории  Рыкшину Елену Викторовну</dc:title>
</cp:coreProperties>
</file>