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A7DB-71AF-4BE5-A1A6-D14F7FA38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A0CE-BA1A-4AD3-B460-CFC77EC3D6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98B3-FF35-4BA0-BBFA-DA3C0CB930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853-80E9-4E21-BA37-2232708E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EEA4-F598-4160-9998-E0FAEF72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586-60FC-4560-A091-EC52AC86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1B0-9B78-4105-A2EE-2AD8FD0D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DD3-8B35-4F47-983D-54B238C4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4AA-B1E7-4EA5-B0EB-66FD68D9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D7D-E1A6-4FA4-8A77-9EAE0F06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444-7CF1-4A08-AEFA-8CEF8D15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656-C794-4D2D-AED1-3E8C6220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2F1-0CFD-4760-9811-B899A0FC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1C2-4D1D-454B-8708-267D2B60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419-39BC-4DC6-878F-BE92EE41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FE39-9AD2-4F37-B963-BDEAB040A5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bee1e4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мя Беринга на карте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rcRect l="45358" t="9031" r="6784" b="29240"/>
          <a:stretch/>
        </p:blipFill>
        <p:spPr>
          <a:xfrm>
            <a:off x="395280" y="1773360"/>
            <a:ext cx="7561440" cy="4365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3348000" y="2708280"/>
            <a:ext cx="23763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250920" y="3284640"/>
            <a:ext cx="5329080" cy="3097080"/>
          </a:xfrm>
          <a:custGeom>
            <a:avLst/>
            <a:gdLst/>
            <a:ahLst/>
            <a:rect l="l" t="t" r="r" b="b"/>
            <a:pathLst>
              <a:path w="3357" h="1951">
                <a:moveTo>
                  <a:pt x="60" y="94"/>
                </a:moveTo>
                <a:cubicBezTo>
                  <a:pt x="150" y="112"/>
                  <a:pt x="175" y="120"/>
                  <a:pt x="290" y="120"/>
                </a:cubicBezTo>
                <a:cubicBezTo>
                  <a:pt x="316" y="120"/>
                  <a:pt x="341" y="107"/>
                  <a:pt x="367" y="107"/>
                </a:cubicBezTo>
                <a:lnTo>
                  <a:pt x="635" y="0"/>
                </a:lnTo>
                <a:lnTo>
                  <a:pt x="908" y="91"/>
                </a:lnTo>
                <a:lnTo>
                  <a:pt x="1225" y="136"/>
                </a:lnTo>
                <a:lnTo>
                  <a:pt x="1361" y="272"/>
                </a:lnTo>
                <a:lnTo>
                  <a:pt x="1407" y="499"/>
                </a:lnTo>
                <a:lnTo>
                  <a:pt x="1452" y="726"/>
                </a:lnTo>
                <a:lnTo>
                  <a:pt x="1588" y="862"/>
                </a:lnTo>
                <a:lnTo>
                  <a:pt x="1679" y="953"/>
                </a:lnTo>
                <a:lnTo>
                  <a:pt x="1860" y="953"/>
                </a:lnTo>
                <a:lnTo>
                  <a:pt x="2087" y="1180"/>
                </a:lnTo>
                <a:cubicBezTo>
                  <a:pt x="2163" y="1210"/>
                  <a:pt x="2236" y="1247"/>
                  <a:pt x="2314" y="1270"/>
                </a:cubicBezTo>
                <a:cubicBezTo>
                  <a:pt x="2326" y="1274"/>
                  <a:pt x="2338" y="1257"/>
                  <a:pt x="2351" y="1259"/>
                </a:cubicBezTo>
                <a:cubicBezTo>
                  <a:pt x="2569" y="1288"/>
                  <a:pt x="2360" y="1285"/>
                  <a:pt x="2453" y="1285"/>
                </a:cubicBezTo>
                <a:lnTo>
                  <a:pt x="2677" y="1406"/>
                </a:lnTo>
                <a:lnTo>
                  <a:pt x="3085" y="1452"/>
                </a:lnTo>
                <a:lnTo>
                  <a:pt x="3312" y="1543"/>
                </a:lnTo>
                <a:lnTo>
                  <a:pt x="3357" y="1724"/>
                </a:lnTo>
                <a:lnTo>
                  <a:pt x="3221" y="1951"/>
                </a:lnTo>
                <a:lnTo>
                  <a:pt x="0" y="1815"/>
                </a:lnTo>
                <a:lnTo>
                  <a:pt x="0" y="1724"/>
                </a:lnTo>
                <a:lnTo>
                  <a:pt x="60" y="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H="1" flipV="1">
            <a:off x="7524720" y="2637000"/>
            <a:ext cx="28728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7442640" y="2276640"/>
            <a:ext cx="14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Беринг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7667280" y="1773360"/>
            <a:ext cx="144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7741440" y="1197000"/>
            <a:ext cx="13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инг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л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7598880" y="3213000"/>
            <a:ext cx="11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bee1e4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Ромбики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824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0" name="Text Box 5"/>
          <p:cNvSpPr/>
          <p:nvPr/>
        </p:nvSpPr>
        <p:spPr>
          <a:xfrm>
            <a:off x="1547640" y="404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та материков и оке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96712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796000" y="2276640"/>
            <a:ext cx="144000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7667640" y="5084640"/>
            <a:ext cx="86508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451640" y="5013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2340000" y="4292640"/>
            <a:ext cx="863640" cy="519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3995640" y="3213000"/>
            <a:ext cx="125748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1116000" y="2205000"/>
            <a:ext cx="100656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5580000" y="4149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3419640" y="4437000"/>
            <a:ext cx="100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0" y="4653000"/>
            <a:ext cx="201780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2843280" y="1197000"/>
            <a:ext cx="367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Ромбики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824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3" name="Text Box 3"/>
          <p:cNvSpPr/>
          <p:nvPr/>
        </p:nvSpPr>
        <p:spPr>
          <a:xfrm>
            <a:off x="1547640" y="404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та материков и оке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6712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796000" y="2276640"/>
            <a:ext cx="144000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7667640" y="5084640"/>
            <a:ext cx="86508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451640" y="5013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е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340000" y="4292640"/>
            <a:ext cx="863640" cy="519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854520" y="3213000"/>
            <a:ext cx="140904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116000" y="2205000"/>
            <a:ext cx="100656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900000" y="2133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2190240" y="4221000"/>
            <a:ext cx="10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ж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5580000" y="4149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точный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3419640" y="4437000"/>
            <a:ext cx="1008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х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0" y="4653000"/>
            <a:ext cx="2017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лан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2843280" y="1197000"/>
            <a:ext cx="367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7236000" y="5157720"/>
            <a:ext cx="1657080" cy="7164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7434000" y="464832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Австра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7020000" y="21337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3851280" y="3357720"/>
            <a:ext cx="1657440" cy="7128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4141080" y="282744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Аф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755640" y="2565360"/>
            <a:ext cx="1657440" cy="7164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971640" y="263700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Аме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1908000" y="4653000"/>
            <a:ext cx="1657440" cy="7128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2124000" y="47242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Аме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6"/>
          <p:cNvSpPr/>
          <p:nvPr/>
        </p:nvSpPr>
        <p:spPr>
          <a:xfrm>
            <a:off x="3276720" y="4869000"/>
            <a:ext cx="107928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7"/>
          <p:cNvSpPr/>
          <p:nvPr/>
        </p:nvSpPr>
        <p:spPr>
          <a:xfrm rot="2428800">
            <a:off x="2555280" y="3933360"/>
            <a:ext cx="22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Атлан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8"/>
          <p:cNvSpPr/>
          <p:nvPr/>
        </p:nvSpPr>
        <p:spPr>
          <a:xfrm>
            <a:off x="5435640" y="4365720"/>
            <a:ext cx="165564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5509800" y="386064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Инд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6372360" y="10526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1"/>
          <p:cNvSpPr/>
          <p:nvPr/>
        </p:nvSpPr>
        <p:spPr>
          <a:xfrm>
            <a:off x="0" y="4797360"/>
            <a:ext cx="1909800" cy="7164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397080" y="43657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Тих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bee1e4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4176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итус  Бер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беринг"/>
          <p:cNvPicPr/>
          <p:nvPr/>
        </p:nvPicPr>
        <p:blipFill>
          <a:blip r:embed="rId1"/>
          <a:stretch/>
        </p:blipFill>
        <p:spPr>
          <a:xfrm>
            <a:off x="2411280" y="1773360"/>
            <a:ext cx="4140360" cy="4824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900000" y="1052640"/>
            <a:ext cx="73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Arial"/>
              </a:rPr>
              <a:t>мореплаватель и исследовател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302160" y="4046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ния Витуса Бе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45358" t="9031" r="6784" b="29240"/>
          <a:stretch/>
        </p:blipFill>
        <p:spPr>
          <a:xfrm>
            <a:off x="395280" y="1773360"/>
            <a:ext cx="7561440" cy="4365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348000" y="2708280"/>
            <a:ext cx="23763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8"/>
          <p:cNvSpPr/>
          <p:nvPr/>
        </p:nvSpPr>
        <p:spPr>
          <a:xfrm>
            <a:off x="250920" y="3284640"/>
            <a:ext cx="5329080" cy="3097080"/>
          </a:xfrm>
          <a:custGeom>
            <a:avLst/>
            <a:gdLst/>
            <a:ahLst/>
            <a:rect l="l" t="t" r="r" b="b"/>
            <a:pathLst>
              <a:path w="3357" h="1951">
                <a:moveTo>
                  <a:pt x="60" y="94"/>
                </a:moveTo>
                <a:cubicBezTo>
                  <a:pt x="150" y="112"/>
                  <a:pt x="175" y="120"/>
                  <a:pt x="290" y="120"/>
                </a:cubicBezTo>
                <a:cubicBezTo>
                  <a:pt x="316" y="120"/>
                  <a:pt x="341" y="107"/>
                  <a:pt x="367" y="107"/>
                </a:cubicBezTo>
                <a:lnTo>
                  <a:pt x="635" y="0"/>
                </a:lnTo>
                <a:lnTo>
                  <a:pt x="908" y="91"/>
                </a:lnTo>
                <a:lnTo>
                  <a:pt x="1225" y="136"/>
                </a:lnTo>
                <a:lnTo>
                  <a:pt x="1361" y="272"/>
                </a:lnTo>
                <a:lnTo>
                  <a:pt x="1407" y="499"/>
                </a:lnTo>
                <a:lnTo>
                  <a:pt x="1452" y="726"/>
                </a:lnTo>
                <a:lnTo>
                  <a:pt x="1588" y="862"/>
                </a:lnTo>
                <a:lnTo>
                  <a:pt x="1679" y="953"/>
                </a:lnTo>
                <a:lnTo>
                  <a:pt x="1860" y="953"/>
                </a:lnTo>
                <a:lnTo>
                  <a:pt x="2087" y="1180"/>
                </a:lnTo>
                <a:cubicBezTo>
                  <a:pt x="2163" y="1210"/>
                  <a:pt x="2236" y="1247"/>
                  <a:pt x="2314" y="1270"/>
                </a:cubicBezTo>
                <a:cubicBezTo>
                  <a:pt x="2326" y="1274"/>
                  <a:pt x="2338" y="1257"/>
                  <a:pt x="2351" y="1259"/>
                </a:cubicBezTo>
                <a:cubicBezTo>
                  <a:pt x="2569" y="1288"/>
                  <a:pt x="2360" y="1285"/>
                  <a:pt x="2453" y="1285"/>
                </a:cubicBezTo>
                <a:lnTo>
                  <a:pt x="2677" y="1406"/>
                </a:lnTo>
                <a:lnTo>
                  <a:pt x="3085" y="1452"/>
                </a:lnTo>
                <a:lnTo>
                  <a:pt x="3312" y="1543"/>
                </a:lnTo>
                <a:lnTo>
                  <a:pt x="3357" y="1724"/>
                </a:lnTo>
                <a:lnTo>
                  <a:pt x="3221" y="1951"/>
                </a:lnTo>
                <a:lnTo>
                  <a:pt x="0" y="1815"/>
                </a:lnTo>
                <a:lnTo>
                  <a:pt x="0" y="1724"/>
                </a:lnTo>
                <a:lnTo>
                  <a:pt x="60" y="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6659640" y="1773360"/>
            <a:ext cx="1511280" cy="129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 flipH="1" flipV="1">
            <a:off x="7380360" y="2708280"/>
            <a:ext cx="10080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7353360" y="321300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-ов Камч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мя Беринга на карте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rcRect l="45358" t="9031" r="6784" b="29240"/>
          <a:stretch/>
        </p:blipFill>
        <p:spPr>
          <a:xfrm>
            <a:off x="395280" y="1773360"/>
            <a:ext cx="756144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348000" y="2708280"/>
            <a:ext cx="23763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5"/>
          <p:cNvSpPr/>
          <p:nvPr/>
        </p:nvSpPr>
        <p:spPr>
          <a:xfrm>
            <a:off x="250920" y="3284640"/>
            <a:ext cx="5329080" cy="3097080"/>
          </a:xfrm>
          <a:custGeom>
            <a:avLst/>
            <a:gdLst/>
            <a:ahLst/>
            <a:rect l="l" t="t" r="r" b="b"/>
            <a:pathLst>
              <a:path w="3357" h="1951">
                <a:moveTo>
                  <a:pt x="60" y="94"/>
                </a:moveTo>
                <a:cubicBezTo>
                  <a:pt x="150" y="112"/>
                  <a:pt x="175" y="120"/>
                  <a:pt x="290" y="120"/>
                </a:cubicBezTo>
                <a:cubicBezTo>
                  <a:pt x="316" y="120"/>
                  <a:pt x="341" y="107"/>
                  <a:pt x="367" y="107"/>
                </a:cubicBezTo>
                <a:lnTo>
                  <a:pt x="635" y="0"/>
                </a:lnTo>
                <a:lnTo>
                  <a:pt x="908" y="91"/>
                </a:lnTo>
                <a:lnTo>
                  <a:pt x="1225" y="136"/>
                </a:lnTo>
                <a:lnTo>
                  <a:pt x="1361" y="272"/>
                </a:lnTo>
                <a:lnTo>
                  <a:pt x="1407" y="499"/>
                </a:lnTo>
                <a:lnTo>
                  <a:pt x="1452" y="726"/>
                </a:lnTo>
                <a:lnTo>
                  <a:pt x="1588" y="862"/>
                </a:lnTo>
                <a:lnTo>
                  <a:pt x="1679" y="953"/>
                </a:lnTo>
                <a:lnTo>
                  <a:pt x="1860" y="953"/>
                </a:lnTo>
                <a:lnTo>
                  <a:pt x="2087" y="1180"/>
                </a:lnTo>
                <a:cubicBezTo>
                  <a:pt x="2163" y="1210"/>
                  <a:pt x="2236" y="1247"/>
                  <a:pt x="2314" y="1270"/>
                </a:cubicBezTo>
                <a:cubicBezTo>
                  <a:pt x="2326" y="1274"/>
                  <a:pt x="2338" y="1257"/>
                  <a:pt x="2351" y="1259"/>
                </a:cubicBezTo>
                <a:cubicBezTo>
                  <a:pt x="2569" y="1288"/>
                  <a:pt x="2360" y="1285"/>
                  <a:pt x="2453" y="1285"/>
                </a:cubicBezTo>
                <a:lnTo>
                  <a:pt x="2677" y="1406"/>
                </a:lnTo>
                <a:lnTo>
                  <a:pt x="3085" y="1452"/>
                </a:lnTo>
                <a:lnTo>
                  <a:pt x="3312" y="1543"/>
                </a:lnTo>
                <a:lnTo>
                  <a:pt x="3357" y="1724"/>
                </a:lnTo>
                <a:lnTo>
                  <a:pt x="3221" y="1951"/>
                </a:lnTo>
                <a:lnTo>
                  <a:pt x="0" y="1815"/>
                </a:lnTo>
                <a:lnTo>
                  <a:pt x="0" y="1724"/>
                </a:lnTo>
                <a:lnTo>
                  <a:pt x="60" y="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H="1" flipV="1">
            <a:off x="7524720" y="2637000"/>
            <a:ext cx="28728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7442640" y="2276640"/>
            <a:ext cx="14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Беринг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H="1">
            <a:off x="7667280" y="1773360"/>
            <a:ext cx="144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7741440" y="1197000"/>
            <a:ext cx="13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инг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л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598880" y="3213000"/>
            <a:ext cx="11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bee1e4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189000"/>
            <a:ext cx="8351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ен был путь создания карты мира. Каждая извилина на ней, каждый штрих и точка — результат огромного многолетнего труда, совершенного землепроходцами, отважными путешественниками и исследователям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составители карт в погоне за славой показывали на карте то, чего не было в действительности. Дорого обходились людям такие карты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русский мореплаватель Витус Беринг погиб из-за неправильно составленной карты. Ему показали карту, на которой к югу от Камчатки была изображена несуществующая земля. Беринг изменил курс в поисках фантастической земли. Никакой земли он не нашёл, только напрасно потратил три недели драгоценного времени. Вот этих-то недель и не хватило командору для успешного завершения экспедиции. На обратном пути начались осенние штормы, продовольствие было на исходе и люди совершенно обессилели. Почти неуправляемый корабль был выброшен на необитаемый остров. Здесь во время вынужденной зимовки скончался великий команд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232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bee1e4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934920" y="620640"/>
            <a:ext cx="72741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Тема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Ошибки на кар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и их последств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bee1e4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24000" y="189000"/>
            <a:ext cx="8351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ен был путь создания карты мира. Каждая извилина на ней, каждый штрих и точка — результат огромного многолетнего труда, совершенного землепроходцами, отважными путешественниками и исследователям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составители карт в погоне за славой показывали на карте то, чего не было в действительности. Дорого обходились людям такие карты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русский мореплаватель Витус Беринг погиб из-за неправильно составленной карты. Ему показали карту, на которой к югу от Камчатки была изображена несуществующая земля. Беринг изменил курс в поисках фантастической земли. Никакой земли он не нашёл, только напрасно потратил три недели драгоценного времени. Вот этих-то недель и не хватило командору для успешного завершения экспедиции. На обратном пути начались осенние штормы, продовольствие было на исходе и люди совершенно обессилели. Почти неуправляемый корабль был выброшен на необитаемый остров. Здесь во время вынужденной зимовки скончался великий команд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44:18Z</dcterms:created>
  <dc:creator>Zero</dc:creator>
  <dc:description/>
  <dc:language>en-US</dc:language>
  <cp:lastModifiedBy>Ирина</cp:lastModifiedBy>
  <dcterms:modified xsi:type="dcterms:W3CDTF">2020-03-17T09:58:02Z</dcterms:modified>
  <cp:revision>30</cp:revision>
  <dc:subject/>
  <dc:title>пгадд</dc:title>
</cp:coreProperties>
</file>