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8A8-C305-4B63-87A3-F715BFDE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0B9-8CE0-4121-A193-FA89F67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677-6B24-4492-95C3-4F61EC27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E57-EF4E-4476-A33F-59168513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5D6-C62B-4CA9-8E61-B5E7141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894-D276-455D-9E8C-4023789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614-2804-4099-8747-53077D34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1D8-3971-425C-9A44-B9DBC0D7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0C6-809C-4E9A-8D7C-5F833C2B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3F0-5DDD-440B-80ED-71C8EAE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984-BDCC-42C4-8E45-9AD2D690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B34-02E2-413D-B182-CF7ACC6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318-59B8-4E94-B2D2-D4BE9D84B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ф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508360" y="6165360"/>
            <a:ext cx="341604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  <a:ea typeface="Arial"/>
              </a:rPr>
              <a:t>МБДОУ ДС №61 «Семицветик» Воспитатель Овод С.Ф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1773360"/>
            <a:ext cx="6078600" cy="120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Sveta\Desktop\игры с шашками\2123.970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2421000"/>
            <a:ext cx="3273480" cy="39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676440" y="79200"/>
            <a:ext cx="7864200" cy="762120"/>
          </a:xfrm>
          <a:prstGeom prst="rect">
            <a:avLst/>
          </a:prstGeom>
          <a:ln w="0">
            <a:noFill/>
          </a:ln>
        </p:spPr>
      </p:pic>
      <p:sp>
        <p:nvSpPr>
          <p:cNvPr id="46" name="Пятиугольник 6">
            <a:hlinkClick r:id="rId2" action="ppaction://hlinksldjump"/>
          </p:cNvPr>
          <p:cNvSpPr/>
          <p:nvPr/>
        </p:nvSpPr>
        <p:spPr>
          <a:xfrm>
            <a:off x="179280" y="1197000"/>
            <a:ext cx="3672000" cy="50328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Волк и овц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ятиугольник 7">
            <a:hlinkClick r:id="rId3" action="ppaction://hlinksldjump"/>
          </p:cNvPr>
          <p:cNvSpPr/>
          <p:nvPr/>
        </p:nvSpPr>
        <p:spPr>
          <a:xfrm>
            <a:off x="4643280" y="6021360"/>
            <a:ext cx="3673800" cy="503280"/>
          </a:xfrm>
          <a:custGeom>
            <a:avLst/>
            <a:gdLst>
              <a:gd name="textAreaLeft" fmla="*/ 0 w 3673800"/>
              <a:gd name="textAreaRight" fmla="*/ 3674160 w 3673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Поддав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ятиугольник 8">
            <a:hlinkClick r:id="rId4" action="ppaction://hlinksldjump"/>
          </p:cNvPr>
          <p:cNvSpPr/>
          <p:nvPr/>
        </p:nvSpPr>
        <p:spPr>
          <a:xfrm>
            <a:off x="900000" y="1916280"/>
            <a:ext cx="3672000" cy="5047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Угол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ятиугольник 9">
            <a:hlinkClick r:id="rId5" action="ppaction://hlinksldjump"/>
          </p:cNvPr>
          <p:cNvSpPr/>
          <p:nvPr/>
        </p:nvSpPr>
        <p:spPr>
          <a:xfrm>
            <a:off x="1547640" y="2708280"/>
            <a:ext cx="3672000" cy="5047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Го-мок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ятиугольник 10">
            <a:hlinkClick r:id="rId6" action="ppaction://hlinksldjump"/>
          </p:cNvPr>
          <p:cNvSpPr/>
          <p:nvPr/>
        </p:nvSpPr>
        <p:spPr>
          <a:xfrm>
            <a:off x="2340000" y="3573360"/>
            <a:ext cx="3672000" cy="50328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Так-тил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ятиугольник 11">
            <a:hlinkClick r:id="rId7" action="ppaction://hlinksldjump"/>
          </p:cNvPr>
          <p:cNvSpPr/>
          <p:nvPr/>
        </p:nvSpPr>
        <p:spPr>
          <a:xfrm>
            <a:off x="3059280" y="4365720"/>
            <a:ext cx="3673440" cy="503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Чапае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ятиугольник 12">
            <a:hlinkClick r:id="rId8" action="ppaction://hlinksldjump"/>
          </p:cNvPr>
          <p:cNvSpPr/>
          <p:nvPr/>
        </p:nvSpPr>
        <p:spPr>
          <a:xfrm>
            <a:off x="3780000" y="5229360"/>
            <a:ext cx="3671640" cy="503280"/>
          </a:xfrm>
          <a:custGeom>
            <a:avLst/>
            <a:gdLst>
              <a:gd name="textAreaLeft" fmla="*/ 0 w 3671640"/>
              <a:gd name="textAreaRight" fmla="*/ 3672000 w 3671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Каза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Sveta\Desktop\игры с шашками\2123.970.png"/>
          <p:cNvPicPr/>
          <p:nvPr/>
        </p:nvPicPr>
        <p:blipFill>
          <a:blip r:embed="rId9"/>
          <a:stretch/>
        </p:blipFill>
        <p:spPr>
          <a:xfrm>
            <a:off x="468360" y="3860640"/>
            <a:ext cx="19051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10"/>
          <a:stretch/>
        </p:blipFill>
        <p:spPr>
          <a:xfrm>
            <a:off x="6804000" y="1341360"/>
            <a:ext cx="1940040" cy="19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627280" y="260280"/>
            <a:ext cx="388944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Волк и овц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Sveta\Desktop\игры с шашками\1 — копия.jpg"/>
          <p:cNvPicPr/>
          <p:nvPr/>
        </p:nvPicPr>
        <p:blipFill>
          <a:blip r:embed="rId1"/>
          <a:stretch/>
        </p:blipFill>
        <p:spPr>
          <a:xfrm>
            <a:off x="1403280" y="1041480"/>
            <a:ext cx="6408720" cy="541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2"/>
          <a:stretch/>
        </p:blipFill>
        <p:spPr>
          <a:xfrm>
            <a:off x="7888320" y="189000"/>
            <a:ext cx="1255680" cy="126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Выгнутая вниз стрелка 4">
            <a:hlinkClick r:id="rId3" action="ppaction://hlinksldjump"/>
          </p:cNvPr>
          <p:cNvSpPr/>
          <p:nvPr/>
        </p:nvSpPr>
        <p:spPr>
          <a:xfrm>
            <a:off x="179280" y="6165720"/>
            <a:ext cx="863640" cy="432000"/>
          </a:xfrm>
          <a:custGeom>
            <a:avLst/>
            <a:gdLst>
              <a:gd name="textAreaLeft" fmla="*/ 175320 w 863640"/>
              <a:gd name="textAreaRight" fmla="*/ 63432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44000" y="638172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6" h="21600">
                <a:moveTo>
                  <a:pt x="25411" y="3794"/>
                </a:moveTo>
                <a:lnTo>
                  <a:pt x="39424" y="10800"/>
                </a:lnTo>
                <a:lnTo>
                  <a:pt x="25411" y="17806"/>
                </a:lnTo>
                <a:close/>
              </a:path>
            </a:pathLst>
          </a:custGeom>
          <a:solidFill>
            <a:srgbClr val="e46c0a">
              <a:alpha val="6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987640" y="189000"/>
            <a:ext cx="295272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Угол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1"/>
          <a:stretch/>
        </p:blipFill>
        <p:spPr>
          <a:xfrm>
            <a:off x="7888320" y="189000"/>
            <a:ext cx="1255680" cy="126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Выгнутая вниз стрелка 4">
            <a:hlinkClick r:id="rId2" action="ppaction://hlinksldjump"/>
          </p:cNvPr>
          <p:cNvSpPr/>
          <p:nvPr/>
        </p:nvSpPr>
        <p:spPr>
          <a:xfrm>
            <a:off x="179280" y="6165720"/>
            <a:ext cx="863640" cy="432000"/>
          </a:xfrm>
          <a:custGeom>
            <a:avLst/>
            <a:gdLst>
              <a:gd name="textAreaLeft" fmla="*/ 175320 w 863640"/>
              <a:gd name="textAreaRight" fmla="*/ 63432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44000" y="638172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6" h="21600">
                <a:moveTo>
                  <a:pt x="25411" y="3794"/>
                </a:moveTo>
                <a:lnTo>
                  <a:pt x="39424" y="10800"/>
                </a:lnTo>
                <a:lnTo>
                  <a:pt x="25411" y="17806"/>
                </a:lnTo>
                <a:close/>
              </a:path>
            </a:pathLst>
          </a:custGeom>
          <a:solidFill>
            <a:srgbClr val="e46c0a">
              <a:alpha val="6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Sveta\Desktop\игры с шашками\2 — копия.jpg"/>
          <p:cNvPicPr/>
          <p:nvPr/>
        </p:nvPicPr>
        <p:blipFill>
          <a:blip r:embed="rId3"/>
          <a:stretch/>
        </p:blipFill>
        <p:spPr>
          <a:xfrm>
            <a:off x="1258920" y="947880"/>
            <a:ext cx="6481800" cy="53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1"/>
          <a:stretch/>
        </p:blipFill>
        <p:spPr>
          <a:xfrm>
            <a:off x="7888320" y="189000"/>
            <a:ext cx="1255680" cy="126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Прямоугольник 2"/>
          <p:cNvSpPr/>
          <p:nvPr/>
        </p:nvSpPr>
        <p:spPr>
          <a:xfrm>
            <a:off x="2916360" y="260280"/>
            <a:ext cx="3240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Го-мо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Выгнутая вниз стрелка 3">
            <a:hlinkClick r:id="rId2" action="ppaction://hlinksldjump"/>
          </p:cNvPr>
          <p:cNvSpPr/>
          <p:nvPr/>
        </p:nvSpPr>
        <p:spPr>
          <a:xfrm>
            <a:off x="179280" y="6165720"/>
            <a:ext cx="863640" cy="432000"/>
          </a:xfrm>
          <a:custGeom>
            <a:avLst/>
            <a:gdLst>
              <a:gd name="textAreaLeft" fmla="*/ 175320 w 863640"/>
              <a:gd name="textAreaRight" fmla="*/ 63432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44000" y="638172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6" h="21600">
                <a:moveTo>
                  <a:pt x="25411" y="3794"/>
                </a:moveTo>
                <a:lnTo>
                  <a:pt x="39424" y="10800"/>
                </a:lnTo>
                <a:lnTo>
                  <a:pt x="25411" y="17806"/>
                </a:lnTo>
                <a:close/>
              </a:path>
            </a:pathLst>
          </a:custGeom>
          <a:solidFill>
            <a:srgbClr val="e46c0a">
              <a:alpha val="6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Sveta\Desktop\игры с шашками\3 — копия.jpg"/>
          <p:cNvPicPr/>
          <p:nvPr/>
        </p:nvPicPr>
        <p:blipFill>
          <a:blip r:embed="rId3"/>
          <a:stretch/>
        </p:blipFill>
        <p:spPr>
          <a:xfrm>
            <a:off x="1511280" y="1052640"/>
            <a:ext cx="6202440" cy="5448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1"/>
          <a:stretch/>
        </p:blipFill>
        <p:spPr>
          <a:xfrm>
            <a:off x="7888320" y="189000"/>
            <a:ext cx="1255680" cy="126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Прямоугольник 2"/>
          <p:cNvSpPr/>
          <p:nvPr/>
        </p:nvSpPr>
        <p:spPr>
          <a:xfrm>
            <a:off x="2771640" y="260280"/>
            <a:ext cx="35290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Так-ти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Выгнутая вниз стрелка 3">
            <a:hlinkClick r:id="rId2" action="ppaction://hlinksldjump"/>
          </p:cNvPr>
          <p:cNvSpPr/>
          <p:nvPr/>
        </p:nvSpPr>
        <p:spPr>
          <a:xfrm>
            <a:off x="179280" y="6165720"/>
            <a:ext cx="863640" cy="432000"/>
          </a:xfrm>
          <a:custGeom>
            <a:avLst/>
            <a:gdLst>
              <a:gd name="textAreaLeft" fmla="*/ 175320 w 863640"/>
              <a:gd name="textAreaRight" fmla="*/ 63432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44000" y="638172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6" h="21600">
                <a:moveTo>
                  <a:pt x="25411" y="3794"/>
                </a:moveTo>
                <a:lnTo>
                  <a:pt x="39424" y="10800"/>
                </a:lnTo>
                <a:lnTo>
                  <a:pt x="25411" y="17806"/>
                </a:lnTo>
                <a:close/>
              </a:path>
            </a:pathLst>
          </a:custGeom>
          <a:solidFill>
            <a:srgbClr val="e46c0a">
              <a:alpha val="6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Sveta\Desktop\игры с шашками\4 — копия.jpg"/>
          <p:cNvPicPr/>
          <p:nvPr/>
        </p:nvPicPr>
        <p:blipFill>
          <a:blip r:embed="rId3"/>
          <a:stretch/>
        </p:blipFill>
        <p:spPr>
          <a:xfrm>
            <a:off x="1389240" y="981000"/>
            <a:ext cx="6365520" cy="550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1"/>
          <a:stretch/>
        </p:blipFill>
        <p:spPr>
          <a:xfrm>
            <a:off x="7888320" y="189000"/>
            <a:ext cx="1255680" cy="126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Прямоугольник 2"/>
          <p:cNvSpPr/>
          <p:nvPr/>
        </p:nvSpPr>
        <p:spPr>
          <a:xfrm>
            <a:off x="2340000" y="260280"/>
            <a:ext cx="47530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Чапае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Выгнутая вниз стрелка 3"/>
          <p:cNvSpPr/>
          <p:nvPr/>
        </p:nvSpPr>
        <p:spPr>
          <a:xfrm>
            <a:off x="179280" y="6165720"/>
            <a:ext cx="863640" cy="432000"/>
          </a:xfrm>
          <a:custGeom>
            <a:avLst/>
            <a:gdLst>
              <a:gd name="textAreaLeft" fmla="*/ 175320 w 863640"/>
              <a:gd name="textAreaRight" fmla="*/ 63432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44000" y="638172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6" h="21600">
                <a:moveTo>
                  <a:pt x="25411" y="3794"/>
                </a:moveTo>
                <a:lnTo>
                  <a:pt x="39424" y="10800"/>
                </a:lnTo>
                <a:lnTo>
                  <a:pt x="25411" y="17806"/>
                </a:lnTo>
                <a:close/>
              </a:path>
            </a:pathLst>
          </a:custGeom>
          <a:solidFill>
            <a:srgbClr val="e46c0a">
              <a:alpha val="6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Sveta\Desktop\игры с шашками\5.jpg"/>
          <p:cNvPicPr/>
          <p:nvPr/>
        </p:nvPicPr>
        <p:blipFill>
          <a:blip r:embed="rId2"/>
          <a:stretch/>
        </p:blipFill>
        <p:spPr>
          <a:xfrm>
            <a:off x="1438200" y="1123920"/>
            <a:ext cx="6267600" cy="546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1"/>
          <a:stretch/>
        </p:blipFill>
        <p:spPr>
          <a:xfrm>
            <a:off x="7888320" y="189000"/>
            <a:ext cx="1255680" cy="126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Прямоугольник 2"/>
          <p:cNvSpPr/>
          <p:nvPr/>
        </p:nvSpPr>
        <p:spPr>
          <a:xfrm>
            <a:off x="2195640" y="260280"/>
            <a:ext cx="4680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Каза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Выгнутая вниз стрелка 3"/>
          <p:cNvSpPr/>
          <p:nvPr/>
        </p:nvSpPr>
        <p:spPr>
          <a:xfrm>
            <a:off x="179280" y="6165720"/>
            <a:ext cx="863640" cy="432000"/>
          </a:xfrm>
          <a:custGeom>
            <a:avLst/>
            <a:gdLst>
              <a:gd name="textAreaLeft" fmla="*/ 175320 w 863640"/>
              <a:gd name="textAreaRight" fmla="*/ 63432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44000" y="638172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6" h="21600">
                <a:moveTo>
                  <a:pt x="25411" y="3794"/>
                </a:moveTo>
                <a:lnTo>
                  <a:pt x="39424" y="10800"/>
                </a:lnTo>
                <a:lnTo>
                  <a:pt x="25411" y="17806"/>
                </a:lnTo>
                <a:close/>
              </a:path>
            </a:pathLst>
          </a:custGeom>
          <a:solidFill>
            <a:srgbClr val="e46c0a">
              <a:alpha val="6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Sveta\Desktop\игры с шашками\6.jpg"/>
          <p:cNvPicPr/>
          <p:nvPr/>
        </p:nvPicPr>
        <p:blipFill>
          <a:blip r:embed="rId2"/>
          <a:stretch/>
        </p:blipFill>
        <p:spPr>
          <a:xfrm>
            <a:off x="1468440" y="981000"/>
            <a:ext cx="6207120" cy="5494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:\Документы для переработки\новости и на сайт\для игры на сайт доу\герои\30.png"/>
          <p:cNvPicPr/>
          <p:nvPr/>
        </p:nvPicPr>
        <p:blipFill>
          <a:blip r:embed="rId1"/>
          <a:stretch/>
        </p:blipFill>
        <p:spPr>
          <a:xfrm>
            <a:off x="7888320" y="189000"/>
            <a:ext cx="1255680" cy="126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Прямоугольник 2"/>
          <p:cNvSpPr/>
          <p:nvPr/>
        </p:nvSpPr>
        <p:spPr>
          <a:xfrm>
            <a:off x="2340000" y="260280"/>
            <a:ext cx="439272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Поддав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Выгнутая вниз стрелка 3"/>
          <p:cNvSpPr/>
          <p:nvPr/>
        </p:nvSpPr>
        <p:spPr>
          <a:xfrm>
            <a:off x="179280" y="6165720"/>
            <a:ext cx="863640" cy="432000"/>
          </a:xfrm>
          <a:custGeom>
            <a:avLst/>
            <a:gdLst>
              <a:gd name="textAreaLeft" fmla="*/ 175320 w 863640"/>
              <a:gd name="textAreaRight" fmla="*/ 63432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46c0a">
              <a:alpha val="4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Sveta\Desktop\игры с шашками\7.jpg"/>
          <p:cNvPicPr/>
          <p:nvPr/>
        </p:nvPicPr>
        <p:blipFill>
          <a:blip r:embed="rId2"/>
          <a:stretch/>
        </p:blipFill>
        <p:spPr>
          <a:xfrm>
            <a:off x="1397160" y="1123920"/>
            <a:ext cx="6349680" cy="554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7T16:24:27Z</dcterms:created>
  <dc:creator>Sveta</dc:creator>
  <dc:description/>
  <dc:language>en-US</dc:language>
  <cp:lastModifiedBy>Sveta</cp:lastModifiedBy>
  <dcterms:modified xsi:type="dcterms:W3CDTF">2020-05-27T17:33:34Z</dcterms:modified>
  <cp:revision>7</cp:revision>
  <dc:subject/>
  <dc:title>Слайд 1</dc:title>
</cp:coreProperties>
</file>