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9FB-4051-42AA-9B57-24AAB8F1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348-9C41-449A-8FBB-55516DA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224-AAE1-428F-8F6D-200FB341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151-7619-4D86-8CDF-8C2269F5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8AA-BE82-4262-9AD4-19BED10B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32A-E46D-4148-AB84-3051574A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110-324A-477C-A15B-206EDCDF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B2D-821A-4FA7-8989-0FBA7BF7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466-08CC-4BE9-8330-E68DB337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66C-8C4D-4255-BD10-62C96F8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2B5-6A0E-4E67-8D1E-D8B91E3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9BC-2968-4FF7-A227-AF01093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CC26-405F-4ED8-9F17-D27FDF487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918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Понятие об иммунитете, экстренной и специфической профилак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В каких случаях проводится экстренная профилактика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792000" cy="639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07920"/>
            <a:ext cx="777384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Прививка против возбудителей проводится в порядке экстренной профилактики по эпидемиологическим показаниям – при внезапных вспышках инфекционных болезней (сибирская язва, холера, чума и т.д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85800" cy="62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Вопросы для закрепл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то такое иммунитет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ие виды иммунитета вы знае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ля чего проводятся привив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7850160" cy="6308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5960" y="981000"/>
            <a:ext cx="458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060640"/>
            <a:ext cx="51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осмотреть в своей детской медицинской карте, какие прививки вам ставилис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Выписать данные в тетрад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ить понятие об иммуните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ратить внимание на экстренную 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ецифическую профилакти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649080" cy="6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8360" cy="44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43344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9200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Определение понят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« иммунитет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Виды иммунит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.Экстренная и специфическая профилак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Что такое иммунитет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Иммунитет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munis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– избавленный, свободный от чего-либо) – то есть, невосприимчивость организма к заразным болезням, к возбудителям (бактериям), к токсинам, выделяемым им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ммунит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447920" y="1143000"/>
            <a:ext cx="7543800" cy="4572000"/>
            <a:chOff x="1447920" y="1143000"/>
            <a:chExt cx="7543800" cy="4572000"/>
          </a:xfrm>
        </p:grpSpPr>
        <p:sp>
          <p:nvSpPr>
            <p:cNvPr id="54" name=""/>
            <p:cNvSpPr/>
            <p:nvPr/>
          </p:nvSpPr>
          <p:spPr>
            <a:xfrm>
              <a:off x="1447920" y="1828800"/>
              <a:ext cx="1828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57800" y="1752480"/>
              <a:ext cx="1752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05720" y="3657600"/>
              <a:ext cx="9903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48720" y="3657600"/>
              <a:ext cx="11430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819160" y="121932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52880" y="11430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29718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172200" y="29718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53080" y="2590920"/>
              <a:ext cx="12956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2590920"/>
              <a:ext cx="16002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4343400"/>
              <a:ext cx="1371600" cy="1371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4343400"/>
              <a:ext cx="914400" cy="1371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720" y="4343400"/>
              <a:ext cx="1143000" cy="1371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028840" y="22860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22860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292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059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heel spokes="2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304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Иммунит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00200" y="762120"/>
            <a:ext cx="7391520" cy="4647960"/>
            <a:chOff x="1600200" y="762120"/>
            <a:chExt cx="7391520" cy="4647960"/>
          </a:xfrm>
        </p:grpSpPr>
        <p:sp>
          <p:nvSpPr>
            <p:cNvPr id="76" name=""/>
            <p:cNvSpPr/>
            <p:nvPr/>
          </p:nvSpPr>
          <p:spPr>
            <a:xfrm flipH="1">
              <a:off x="33526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7621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0200" y="1066680"/>
              <a:ext cx="2057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рожденный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полученный от матери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1066680"/>
              <a:ext cx="2057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риобретенный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4120" y="3962520"/>
              <a:ext cx="1143000" cy="144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браз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антител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рганизмо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 результат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акцин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962520"/>
              <a:ext cx="99036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водится 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рганиз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ммунна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ывор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48720" y="3962520"/>
              <a:ext cx="1143000" cy="144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нача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водитс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ммунна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ыворотка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те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антиге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01000" y="274320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86600" y="2743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866920" y="2666880"/>
              <a:ext cx="381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1981080"/>
              <a:ext cx="20574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рабатывается сами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рганизмом в процесс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орьбы с инфекцие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1981080"/>
              <a:ext cx="25146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рабатывается искусствен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 помощью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иммуниз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4120" y="3276720"/>
              <a:ext cx="114300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актив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53080" y="3276720"/>
              <a:ext cx="1219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ассив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3276720"/>
              <a:ext cx="114300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552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22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29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59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В каких случаях проводится специфическая профилактика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64764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Прививка против возбудителей наиболее распространенных инфекционных заболеваний осуществляется планово (дифтерия, туберкулез, корь, столбняк и т.д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863640" cy="861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8:05:21Z</dcterms:created>
  <dc:creator>boss</dc:creator>
  <dc:description/>
  <dc:language>en-US</dc:language>
  <cp:lastModifiedBy>Ольга Викторовна</cp:lastModifiedBy>
  <dcterms:modified xsi:type="dcterms:W3CDTF">2006-12-12T16:49:40Z</dcterms:modified>
  <cp:revision>22</cp:revision>
  <dc:subject/>
  <dc:title>Тема: Понятие об иммунитете, экстренной и специфической профилактике</dc:title>
</cp:coreProperties>
</file>