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855-F648-4D99-9ED9-7967398C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745-5B8F-4402-82D5-0C4CF69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3EA-18E1-440C-BCE3-6C309CE1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900-3CA3-44B6-B8EE-1C73311D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7B31-0A4C-43D1-962D-4C4E470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457-3AA6-4CCD-920A-13D0632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DBA0-1E37-4716-BAA4-40E97AC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2EE2-1510-4160-8F2A-F902B476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CD2-C85E-470B-B1C6-11A9052B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72C4-CF26-4624-8F1F-9DCDB9C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25A-82E7-4B1C-9E69-4D2D35B2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BC2-5D7C-4471-B230-2A9C4C2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C984-EB40-48A9-94FB-7167C4C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A1CA-4620-4021-985F-A7D8363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5A42-FA9E-4FB3-9DDF-7511F2A9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009F-7A98-463D-AAA3-A3F7F4AF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9B4-EE46-410E-8F50-5EFB3CF3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55F0-D940-4F0E-BBD1-DAE632C7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AC6B-DCBF-411B-805F-94F20D8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E8D2-6338-4DDB-A715-0DC5284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CD9A-9D6C-4F95-AC8B-2B1C21C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DAFA-BFFE-48BB-B0EA-C2428FC1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15C-68A5-4B03-B054-C35442C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0870-D7BE-48CB-931B-33E5377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D1F4-DF1B-40B9-A60E-1C33B11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3F1D-B05E-451E-BD60-CD93FD0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C04A-40E0-4D7C-B18F-1DA73E7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07F5-17AD-46D3-B4CB-FAE077C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7693-A79A-4808-9328-6D61B05D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0893-A801-461C-8890-475F100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32B2-3E20-46F9-9C35-58EA42A5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13A5-D673-4DD0-A3E2-AA8C1D96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6AA5-4EAA-4FCD-86AB-982055EA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0B1-B90C-4884-B3A2-0CD3A3C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0EF3-D556-4DA5-825B-29B78C4E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16F0-D1F8-4A67-8F8C-EF5C97FC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AACB-3B51-4999-9B00-5DB2B350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1490-019B-43B7-93D2-9406E7B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1A06-804D-42C1-B2ED-47EA85C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ABD1-2D6C-4A7C-86E3-B0DBC59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DD13-BD55-4C53-9B15-BA0C5CB2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2CA1-D6E8-40D7-888E-6B60D4FC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ED37-1AA6-4814-B3ED-D6DAF6DA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8C6A-690B-4957-AA02-C323F6F3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95D-7FF1-49FF-A11C-2F08F93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070C-5225-4C53-8CB9-C71627A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4EED-5A4F-4DB3-A4D9-691175FB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9139-EB0E-40A5-9600-9B50ACE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C0FE-DC1F-474B-8100-8B48EF19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711C6-A382-4A22-9F72-16E2385A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DB39-F53E-4C29-AE3A-4A1A1C1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DAAB-A4B5-429E-ADF0-F26CD38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0AA7-4C91-474D-8EE3-BBB0EDF2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6A50-5A3C-48A7-91E1-47755D2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726F-610A-4237-B19D-F2B1100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63C-3C56-420D-A4DA-C693B832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7478-7FAC-437E-9D7D-5FF7336E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7782-26E8-4989-91D6-F6DAF12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50FC-3E37-4D1B-84DE-A8874029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0EC0-F9CB-40BD-8BD0-301E8DE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424B-B396-420A-8EE7-9A22765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AC14-EDB0-467C-972D-57BAC83E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E0304-EF61-4153-AE25-E6F80DBA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94DB-54BC-491B-94D2-E20B925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28BC-8DD1-4019-A2EF-4474B48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B8CF4-4019-4651-85CB-DD783F7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203-4BE9-44B5-923F-0532926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DEAD-644C-487D-BAFE-9753278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D3E42-3035-4A78-AB86-DEC29ABF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DBB3-8051-491A-A8B7-22B4DCB5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F9D1-398F-4D2E-86E4-29FEEE6C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6CB4-599F-436A-A36F-431E976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8ADC-F199-43BB-B6AD-3FF148D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216F-CDA2-4F06-ABA7-82CA841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443E6-3638-46BE-B828-1A08458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D8C3-0E25-4478-92C0-8C6F94D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B6EA-CAF6-4413-8916-C0351C3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22E-BDCD-485B-87C9-CE24558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791DD-F2C4-4B8E-86A2-4F6193A2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400D-2C0A-4226-BA55-56B4335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42F5-A844-4269-8A47-880F1371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E9C84-5086-4A4A-A9D9-7C000460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8914-B5A3-4027-B51A-92D7680F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831-4FC5-450B-99C1-EDB05B9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152-DF5B-42C5-964E-352F05EF40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554B-C2D0-458A-95FC-95944D86B0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996-A39C-43E9-A22D-73DB711C30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0D1F-A5F8-4BF7-95DB-F173F46D89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36E-194C-4157-A3A2-F6E82DEEFD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F1E1-9680-4587-83DF-14ADB804BCC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94B-3772-4850-B133-EBED1C0067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тратегия развития воспитания в Российской Федерации на период до 2025 год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142880"/>
            <a:ext cx="64008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споряжение Правительства Российской Федерации от 29 мая 2015 г. N 996-р г. Моск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ыполнила: Килина Е.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утверждение в детской среде позитивных моделей поведения как нормы, развитие эмпатии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снижение уровня негативных социальных явлений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азвитие и поддержку социально значимых детских, семейных и родительских инициатив, деятельности детских общественных объединений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повышение качества научных исследований в области воспитания детей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повышение уровня информационной безопасности детей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снижение уровня антиобщественных проявлений со стороны детей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формирование системы мониторинга показателей, отражающих эффективность системы воспитания в Российской Федера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ени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оритетов государственной политики в области воспитания и социализации детей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сновных направлений и механизмов развития институтов воспитания, формирования общественно-государственной системы воспитания детей в Российской Федер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Цель Стратег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здание условий для консолидации усилий социальных институт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беспечение поддержки семейного воспит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вышение эффективности воспитательной деятельности и уровня психолого-педагогической поддержки социализации дете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здание условий для повышения ресурсного, организационного, методического обеспечения воспитательной деятельности и ответственности за ее результат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формирование социокультурной инфраструктур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здание условий для повышения эффективности воспитательной деятельности в сельских поселения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вышение эффективности комплексной поддержки уязвимых категорий дете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беспечение условий для повышения социальной, коммуникативной и педагогической компетентности родител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дачи Стратег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здание условий для воспитания здоровой, счастливой, свободной, ориентированной на труд личности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формирование у детей высокого уровня духовно-нравственного развития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держка единства и целостности, преемственности и непрерывности воспитания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держка общественных институтов, которые являются носителями духовных ценностей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формирование уважения к русскому языку как государственному языку РФ,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обеспечение защиты прав и соблюдение законных интересов каждого ребенка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формирование внутренней позиции личности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развитие на основе признания определяющей роли семьи и соблюдения прав родителей кооперации и сотрудничества субъектов системы воспитания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оритетами государственной политики в области воспитания являются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360" y="234900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емейное воспитан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спитание в системе образова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спитательные возможности информационных ресурс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щественные объединения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ndara"/>
              </a:rPr>
              <a:t>Основные направления развития воспитания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57168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Развитие социальных институтов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28760" y="20001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ражданское воспитан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атриотическое воспитание и формирование российской идентичност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уховное и нравственное воспитан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общение детей к культурному наслед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пуляризация научных зна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рудовое воспитание и профессиональное самоопределен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кологическое воспита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ndara"/>
              </a:rPr>
              <a:t>2. Обновление воспитательного процесса с учетом современных достижений науки и на основе отечественных традиций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Заголовок 1"/>
          <p:cNvSpPr/>
          <p:nvPr/>
        </p:nvSpPr>
        <p:spPr>
          <a:xfrm>
            <a:off x="64296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Основные направления развития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авовы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ационно-управленческ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дровы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учно-методическ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инансово-экономически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формационны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Механизмы реализации Стратег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укрепление общественного согласия, солидарности в вопросах воспитания дет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овышение престижа семьи, отцовства и материнства, сохранение и укрепление традиционных семейных ценност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создание атмосферы уважения к родителям и родительскому вкладу в воспитание дет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развитие общественно-государственной системы воспитания, основанной на межведомственной и межрегиональной координации и консолидации усилий общественных и гражданских институтов, современной развитой инфраструктуре, правовом регулировании и эффективных механизмах управления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овышение роли системы общего и дополнительного образования в воспитании детей, а также повышение эффективности деятельности организаций сферы физической культуры и спорта, культуры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овышение общественного авторитета и статуса педагогических и других работников, принимающих активное участие в воспитании дет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укрепление и развитие кадрового потенциала системы воспитания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оступность для всех категорий детей возможностей для удовлетворения их индивидуальных потребностей, способностей и интересов в разных видах деятельности независимо от места проживания, материального положения семьи и состояния здоровья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создание условий для поддержки детской одаренности, развития способностей детей в сферах образования, науки, культуры и спорта, в том числе путем реализации государственных, федеральных, региональных и муниципальных целевых программ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9T04:21:44Z</dcterms:created>
  <dc:creator>irooo</dc:creator>
  <dc:description/>
  <dc:language>en-US</dc:language>
  <cp:lastModifiedBy>Екатерина</cp:lastModifiedBy>
  <dcterms:modified xsi:type="dcterms:W3CDTF">2020-05-18T11:09:21Z</dcterms:modified>
  <cp:revision>10</cp:revision>
  <dc:subject/>
  <dc:title>Слайд 1</dc:title>
</cp:coreProperties>
</file>