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diagrams/colors1.xml><?xml version="1.0" encoding="utf-8"?>
<dgm:colorsDef xmlns:a="http://schemas.openxmlformats.org/drawingml/2006/main" xmlns:dgm="http://schemas.openxmlformats.org/drawingml/2006/diagram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a="http://schemas.openxmlformats.org/drawingml/2006/main" xmlns:dgm="http://schemas.openxmlformats.org/drawingml/2006/diagram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a="http://schemas.openxmlformats.org/drawingml/2006/main" xmlns:r="http://schemas.openxmlformats.org/officeDocument/2006/relationships" xmlns:dgm="http://schemas.openxmlformats.org/drawingml/2006/diagram">
  <dgm:ptLst>
    <dgm:pt modelId="{FBCE6BF1-CF8B-4437-8F47-44DE5F15721F}" type="doc">
      <dgm:prSet loTypeId="urn:microsoft.com/office/officeart/2005/8/layout/vList5" loCatId="list" qsTypeId="urn:microsoft.com/office/officeart/2005/8/quickstyle/3d2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087C4B1F-FC32-40B1-A815-BCB392BF8964}" type="parTrans" cxnId="{3A144055-D6DE-472D-940A-A37A34A4952B}">
      <dgm:prSet/>
      <dgm:spPr/>
      <dgm:t>
        <a:bodyPr/>
        <a:lstStyle/>
        <a:p>
          <a:endParaRPr lang="ru-RU"/>
        </a:p>
      </dgm:t>
    </dgm:pt>
    <dgm:pt modelId="{92CA2681-CE6E-4B13-B223-AFBB3D8F34B4}">
      <dgm:prSet phldrT="[Текст]" custT="1"/>
      <dgm:spPr>
        <a:solidFill>
          <a:srgbClr val="FFC000"/>
        </a:solidFill>
      </dgm:spPr>
      <dgm:t>
        <a:bodyPr/>
        <a:lstStyle/>
        <a:p>
          <a:pPr>
            <a:lnSpc>
              <a:spcPct val="90000"/>
            </a:lnSpc>
          </a:pPr>
          <a:r>
            <a:rPr lang="ru-RU" sz="1600" u="none" smtClean="0">
              <a:solidFill>
                <a:srgbClr val="004200"/>
              </a:solidFill>
              <a:latin typeface="Times New Roman" pitchFamily="18" charset="0"/>
              <a:cs typeface="Times New Roman" pitchFamily="18" charset="0"/>
            </a:rPr>
            <a:t>Задачи использования</a:t>
          </a:r>
        </a:p>
        <a:p>
          <a:pPr>
            <a:lnSpc>
              <a:spcPct val="100000"/>
            </a:lnSpc>
          </a:pPr>
          <a:r>
            <a:rPr lang="ru-RU" sz="1600" u="none" err="1" smtClean="0">
              <a:solidFill>
                <a:srgbClr val="004200"/>
              </a:solidFill>
              <a:latin typeface="Times New Roman" pitchFamily="18" charset="0"/>
              <a:cs typeface="Times New Roman" pitchFamily="18" charset="0"/>
            </a:rPr>
            <a:t>социоигровых  </a:t>
          </a:r>
        </a:p>
        <a:p>
          <a:pPr>
            <a:lnSpc>
              <a:spcPct val="90000"/>
            </a:lnSpc>
          </a:pPr>
          <a:r>
            <a:rPr lang="ru-RU" sz="1600" u="none" smtClean="0">
              <a:solidFill>
                <a:srgbClr val="004200"/>
              </a:solidFill>
              <a:latin typeface="Times New Roman" pitchFamily="18" charset="0"/>
              <a:cs typeface="Times New Roman" pitchFamily="18" charset="0"/>
            </a:rPr>
            <a:t>технологий </a:t>
          </a:r>
          <a:r>
            <a:rPr lang="ru-RU" sz="1600" smtClean="0">
              <a:solidFill>
                <a:srgbClr val="004200"/>
              </a:solidFill>
              <a:latin typeface="Times New Roman" pitchFamily="18" charset="0"/>
              <a:cs typeface="Times New Roman" pitchFamily="18" charset="0"/>
            </a:rPr>
            <a:t>в развитии детей дошкольного возраста</a:t>
          </a:r>
          <a:r>
            <a:rPr lang="ru-RU" sz="1600" b="1" smtClean="0">
              <a:solidFill>
                <a:srgbClr val="004200"/>
              </a:solidFill>
              <a:latin typeface="Times New Roman" pitchFamily="18" charset="0"/>
              <a:cs typeface="Times New Roman" pitchFamily="18" charset="0"/>
            </a:rPr>
            <a:t>:</a:t>
          </a:r>
          <a:endParaRPr lang="ru-RU" sz="1600">
            <a:solidFill>
              <a:srgbClr val="0042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5138AC50-6370-4488-994E-76C4B48D1990}" type="parTrans" cxnId="{F115EA1F-C63F-4579-92CD-B6D38B4CD171}">
      <dgm:prSet/>
      <dgm:spPr/>
      <dgm:t>
        <a:bodyPr/>
        <a:lstStyle/>
        <a:p>
          <a:endParaRPr lang="ru-RU"/>
        </a:p>
      </dgm:t>
    </dgm:pt>
    <dgm:pt modelId="{599BA59C-E337-4BB5-8DBC-008D5AA02BA5}">
      <dgm:prSet phldrT="[Текст]" custT="1"/>
      <dgm:spPr>
        <a:solidFill>
          <a:srgbClr val="FFE697">
            <a:alpha val="89804"/>
          </a:srgbClr>
        </a:solidFill>
      </dgm:spPr>
      <dgm:t>
        <a:bodyPr/>
        <a:lstStyle/>
        <a:p>
          <a:r>
            <a:rPr lang="ru-RU" sz="1600" smtClean="0"/>
            <a:t>Формирование у дошкольников навыков дружеского коммуникативного взаимодействия с использованием грамматически правильной связной речи.</a:t>
          </a:r>
          <a:endParaRPr lang="ru-RU" sz="1600"/>
        </a:p>
      </dgm:t>
    </dgm:pt>
    <dgm:pt modelId="{73F971E0-69ED-4920-BE6E-862DED16A61A}" type="sibTrans" cxnId="{F115EA1F-C63F-4579-92CD-B6D38B4CD171}">
      <dgm:prSet/>
      <dgm:spPr/>
      <dgm:t>
        <a:bodyPr/>
        <a:lstStyle/>
        <a:p>
          <a:endParaRPr lang="ru-RU"/>
        </a:p>
      </dgm:t>
    </dgm:pt>
    <dgm:pt modelId="{4D73BC38-9D2B-4FEC-BB44-75D1F3030B7A}" type="parTrans" cxnId="{33906F8D-C190-48F9-8741-48AD6E0D807C}">
      <dgm:prSet/>
      <dgm:spPr/>
      <dgm:t>
        <a:bodyPr/>
        <a:lstStyle/>
        <a:p>
          <a:endParaRPr lang="ru-RU"/>
        </a:p>
      </dgm:t>
    </dgm:pt>
    <dgm:pt modelId="{DF8D453E-676C-4F2A-912E-31F63F1EB243}">
      <dgm:prSet phldrT="[Текст]" custT="1"/>
      <dgm:spPr>
        <a:solidFill>
          <a:srgbClr val="FFE697">
            <a:alpha val="89804"/>
          </a:srgbClr>
        </a:solidFill>
      </dgm:spPr>
      <dgm:t>
        <a:bodyPr/>
        <a:lstStyle/>
        <a:p>
          <a:r>
            <a:rPr lang="ru-RU" sz="1600" smtClean="0"/>
            <a:t>Развитие у детей навыков полноценного межличностного общения, помогающего понять самого себя.</a:t>
          </a:r>
          <a:endParaRPr lang="ru-RU" sz="1600"/>
        </a:p>
      </dgm:t>
    </dgm:pt>
    <dgm:pt modelId="{FD8C7478-8FEA-46D4-96C4-8468EE7653CF}" type="sibTrans" cxnId="{33906F8D-C190-48F9-8741-48AD6E0D807C}">
      <dgm:prSet/>
      <dgm:spPr/>
      <dgm:t>
        <a:bodyPr/>
        <a:lstStyle/>
        <a:p>
          <a:endParaRPr lang="ru-RU"/>
        </a:p>
      </dgm:t>
    </dgm:pt>
    <dgm:pt modelId="{1B4BF736-438A-4A4C-9BEA-324AEDF03899}" type="parTrans" cxnId="{F7C84E0D-7506-4213-8301-6D873EDC0B39}">
      <dgm:prSet/>
      <dgm:spPr/>
      <dgm:t>
        <a:bodyPr/>
        <a:lstStyle/>
        <a:p>
          <a:endParaRPr lang="ru-RU"/>
        </a:p>
      </dgm:t>
    </dgm:pt>
    <dgm:pt modelId="{BB4AC7F9-D4A5-4FA7-81A7-A30A82849AD3}">
      <dgm:prSet phldrT="[Текст]" custT="1"/>
      <dgm:spPr>
        <a:solidFill>
          <a:srgbClr val="FFE697">
            <a:alpha val="89804"/>
          </a:srgbClr>
        </a:solidFill>
      </dgm:spPr>
      <dgm:t>
        <a:bodyPr/>
        <a:lstStyle/>
        <a:p>
          <a:r>
            <a:rPr lang="ru-RU" sz="1600" smtClean="0"/>
            <a:t>Развитие взаимодействия ребёнок-ребёнок, ребёнок-взрослый, ребёнок-родитель для обеспечения душевного благополучия.</a:t>
          </a:r>
          <a:endParaRPr lang="ru-RU" sz="1600"/>
        </a:p>
      </dgm:t>
    </dgm:pt>
    <dgm:pt modelId="{CA52D0AD-8684-43C7-B1CD-18E84BD70E80}" type="sibTrans" cxnId="{F7C84E0D-7506-4213-8301-6D873EDC0B39}">
      <dgm:prSet/>
      <dgm:spPr/>
      <dgm:t>
        <a:bodyPr/>
        <a:lstStyle/>
        <a:p>
          <a:endParaRPr lang="ru-RU"/>
        </a:p>
      </dgm:t>
    </dgm:pt>
    <dgm:pt modelId="{F39EDE75-755C-4DB1-AF6A-1C40509E34D5}" type="parTrans" cxnId="{7F63F554-90F5-4B07-9025-8DC3EBBFE3CF}">
      <dgm:prSet/>
      <dgm:spPr/>
      <dgm:t>
        <a:bodyPr/>
        <a:lstStyle/>
        <a:p>
          <a:endParaRPr lang="ru-RU"/>
        </a:p>
      </dgm:t>
    </dgm:pt>
    <dgm:pt modelId="{3A279F64-9EE0-4DDD-BD2A-D93E4BFD7788}">
      <dgm:prSet phldrT="[Текст]" custT="1"/>
      <dgm:spPr>
        <a:solidFill>
          <a:srgbClr val="FFE697">
            <a:alpha val="89804"/>
          </a:srgbClr>
        </a:solidFill>
      </dgm:spPr>
      <dgm:t>
        <a:bodyPr/>
        <a:lstStyle/>
        <a:p>
          <a:r>
            <a:rPr lang="ru-RU" sz="1600" smtClean="0"/>
            <a:t>Развитие  у  детей с   умения элементарного самоконтроля речевого высказывания и саморегуляции своих действий, взаимоотношений с окружающими, снятие страха и зажима перед деятельностью.</a:t>
          </a:r>
          <a:endParaRPr lang="ru-RU" sz="1600"/>
        </a:p>
      </dgm:t>
    </dgm:pt>
    <dgm:pt modelId="{9F562BD3-AD21-4C71-8C11-C5F355ACF869}" type="sibTrans" cxnId="{7F63F554-90F5-4B07-9025-8DC3EBBFE3CF}">
      <dgm:prSet/>
      <dgm:spPr/>
      <dgm:t>
        <a:bodyPr/>
        <a:lstStyle/>
        <a:p>
          <a:endParaRPr lang="ru-RU"/>
        </a:p>
      </dgm:t>
    </dgm:pt>
    <dgm:pt modelId="{E92DC277-11D2-49A1-8AD3-0CD7D3AF2F9E}" type="parTrans" cxnId="{6FE89E21-CEA9-470D-9C8D-000BAB61144C}">
      <dgm:prSet/>
      <dgm:spPr/>
      <dgm:t>
        <a:bodyPr/>
        <a:lstStyle/>
        <a:p>
          <a:endParaRPr lang="ru-RU"/>
        </a:p>
      </dgm:t>
    </dgm:pt>
    <dgm:pt modelId="{3E8E20CB-C512-42A1-B399-7722EA450083}">
      <dgm:prSet phldrT="[Текст]" custT="1"/>
      <dgm:spPr>
        <a:solidFill>
          <a:srgbClr val="FFE697">
            <a:alpha val="89804"/>
          </a:srgbClr>
        </a:solidFill>
      </dgm:spPr>
      <dgm:t>
        <a:bodyPr/>
        <a:lstStyle/>
        <a:p>
          <a:r>
            <a:rPr lang="ru-RU" sz="1600" smtClean="0"/>
            <a:t>Создание условий для развития личностных качеств и способностей всех субъектов открытого образовательного пространства.</a:t>
          </a:r>
          <a:endParaRPr lang="ru-RU" sz="1600"/>
        </a:p>
      </dgm:t>
    </dgm:pt>
    <dgm:pt modelId="{E5B408F2-A4EA-47BD-98E4-5AA22513EC89}" type="sibTrans" cxnId="{6FE89E21-CEA9-470D-9C8D-000BAB61144C}">
      <dgm:prSet/>
      <dgm:spPr/>
      <dgm:t>
        <a:bodyPr/>
        <a:lstStyle/>
        <a:p>
          <a:endParaRPr lang="ru-RU"/>
        </a:p>
      </dgm:t>
    </dgm:pt>
    <dgm:pt modelId="{D7E2CA39-8619-44F3-B17C-28321B4787D6}" type="sibTrans" cxnId="{3A144055-D6DE-472D-940A-A37A34A4952B}">
      <dgm:prSet/>
      <dgm:spPr/>
      <dgm:t>
        <a:bodyPr/>
        <a:lstStyle/>
        <a:p>
          <a:endParaRPr lang="ru-RU"/>
        </a:p>
      </dgm:t>
    </dgm:pt>
    <dgm:pt modelId="{94D4B288-4096-48FB-A22B-F75EC4A09B2E}" type="pres">
      <dgm:prSet presAssocID="{FBCE6BF1-CF8B-4437-8F47-44DE5F15721F}" presName="Name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3082106-B6F1-449E-B903-AA91D24B207E}" type="pres">
      <dgm:prSet presAssocID="{92CA2681-CE6E-4B13-B223-AFBB3D8F34B4}" presName="linNode"/>
      <dgm:spPr/>
      <dgm:t>
        <a:bodyPr/>
        <a:lstStyle/>
        <a:p/>
      </dgm:t>
    </dgm:pt>
    <dgm:pt modelId="{5B8CF5C4-B097-4FAF-988B-28413F81A759}" type="pres">
      <dgm:prSet presAssocID="{92CA2681-CE6E-4B13-B223-AFBB3D8F34B4}" presName="parentText" presStyleLbl="node1" presStyleCnt="1" custScaleX="84277" custLinFactNeighborX="-1761" custLinFactNeighborY="-49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0A34688-C64B-4A06-9BFD-CF59D984F8FB}" type="pres">
      <dgm:prSet presAssocID="{92CA2681-CE6E-4B13-B223-AFBB3D8F34B4}" presName="descendantText" presStyleLbl="alignAccFollowNode1" presStyleCnt="1" custScaleX="102987" custScaleY="12512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A144055-D6DE-472D-940A-A37A34A4952B}" srcId="{FBCE6BF1-CF8B-4437-8F47-44DE5F15721F}" destId="{92CA2681-CE6E-4B13-B223-AFBB3D8F34B4}" srcOrd="0" destOrd="0" parTransId="{087C4B1F-FC32-40B1-A815-BCB392BF8964}" sibTransId="{D7E2CA39-8619-44F3-B17C-28321B4787D6}"/>
    <dgm:cxn modelId="{F115EA1F-C63F-4579-92CD-B6D38B4CD171}" srcId="{92CA2681-CE6E-4B13-B223-AFBB3D8F34B4}" destId="{599BA59C-E337-4BB5-8DBC-008D5AA02BA5}" srcOrd="0" destOrd="0" parTransId="{5138AC50-6370-4488-994E-76C4B48D1990}" sibTransId="{73F971E0-69ED-4920-BE6E-862DED16A61A}"/>
    <dgm:cxn modelId="{33906F8D-C190-48F9-8741-48AD6E0D807C}" srcId="{92CA2681-CE6E-4B13-B223-AFBB3D8F34B4}" destId="{DF8D453E-676C-4F2A-912E-31F63F1EB243}" srcOrd="1" destOrd="0" parTransId="{4D73BC38-9D2B-4FEC-BB44-75D1F3030B7A}" sibTransId="{FD8C7478-8FEA-46D4-96C4-8468EE7653CF}"/>
    <dgm:cxn modelId="{F7C84E0D-7506-4213-8301-6D873EDC0B39}" srcId="{92CA2681-CE6E-4B13-B223-AFBB3D8F34B4}" destId="{BB4AC7F9-D4A5-4FA7-81A7-A30A82849AD3}" srcOrd="2" destOrd="0" parTransId="{1B4BF736-438A-4A4C-9BEA-324AEDF03899}" sibTransId="{CA52D0AD-8684-43C7-B1CD-18E84BD70E80}"/>
    <dgm:cxn modelId="{7F63F554-90F5-4B07-9025-8DC3EBBFE3CF}" srcId="{92CA2681-CE6E-4B13-B223-AFBB3D8F34B4}" destId="{3A279F64-9EE0-4DDD-BD2A-D93E4BFD7788}" srcOrd="3" destOrd="0" parTransId="{F39EDE75-755C-4DB1-AF6A-1C40509E34D5}" sibTransId="{9F562BD3-AD21-4C71-8C11-C5F355ACF869}"/>
    <dgm:cxn modelId="{6FE89E21-CEA9-470D-9C8D-000BAB61144C}" srcId="{92CA2681-CE6E-4B13-B223-AFBB3D8F34B4}" destId="{3E8E20CB-C512-42A1-B399-7722EA450083}" srcOrd="4" destOrd="0" parTransId="{E92DC277-11D2-49A1-8AD3-0CD7D3AF2F9E}" sibTransId="{E5B408F2-A4EA-47BD-98E4-5AA22513EC89}"/>
    <dgm:cxn modelId="{27E6C6E9-8DEF-4FA3-B3F8-5FB23920EE32}" type="presOf" srcId="{FBCE6BF1-CF8B-4437-8F47-44DE5F15721F}" destId="{94D4B288-4096-48FB-A22B-F75EC4A09B2E}" srcOrd="0" destOrd="0" presId="urn:microsoft.com/office/officeart/2005/8/layout/vList5"/>
    <dgm:cxn modelId="{50F3ED56-D802-4990-B906-8B2A77FE9039}" type="presParOf" srcId="{94D4B288-4096-48FB-A22B-F75EC4A09B2E}" destId="{43082106-B6F1-449E-B903-AA91D24B207E}" srcOrd="0" destOrd="0" presId="urn:microsoft.com/office/officeart/2005/8/layout/vList5"/>
    <dgm:cxn modelId="{D6476EEE-3C0F-4A02-818E-235A5387F10C}" type="presParOf" srcId="{43082106-B6F1-449E-B903-AA91D24B207E}" destId="{5B8CF5C4-B097-4FAF-988B-28413F81A759}" srcOrd="0" destOrd="0" presId="urn:microsoft.com/office/officeart/2005/8/layout/vList5"/>
    <dgm:cxn modelId="{79EE3D03-C398-43B2-90F8-07461197308F}" type="presOf" srcId="{92CA2681-CE6E-4B13-B223-AFBB3D8F34B4}" destId="{5B8CF5C4-B097-4FAF-988B-28413F81A759}" srcOrd="0" destOrd="0" presId="urn:microsoft.com/office/officeart/2005/8/layout/vList5"/>
    <dgm:cxn modelId="{B37DBC4F-4BB9-48CE-8A9A-450046D093EB}" type="presParOf" srcId="{43082106-B6F1-449E-B903-AA91D24B207E}" destId="{E0A34688-C64B-4A06-9BFD-CF59D984F8FB}" srcOrd="1" destOrd="0" presId="urn:microsoft.com/office/officeart/2005/8/layout/vList5"/>
    <dgm:cxn modelId="{464F92BA-7CFF-45D9-ACBF-8C6A975BAA63}" type="presOf" srcId="{599BA59C-E337-4BB5-8DBC-008D5AA02BA5}" destId="{E0A34688-C64B-4A06-9BFD-CF59D984F8FB}" srcOrd="0" destOrd="0" presId="urn:microsoft.com/office/officeart/2005/8/layout/vList5"/>
    <dgm:cxn modelId="{311344B1-AA84-4DA2-9954-AAB677459159}" type="presOf" srcId="{DF8D453E-676C-4F2A-912E-31F63F1EB243}" destId="{E0A34688-C64B-4A06-9BFD-CF59D984F8FB}" srcOrd="0" destOrd="1" presId="urn:microsoft.com/office/officeart/2005/8/layout/vList5"/>
    <dgm:cxn modelId="{7F27D7AD-538D-445F-A60E-38FD48E81DB8}" type="presOf" srcId="{BB4AC7F9-D4A5-4FA7-81A7-A30A82849AD3}" destId="{E0A34688-C64B-4A06-9BFD-CF59D984F8FB}" srcOrd="0" destOrd="2" presId="urn:microsoft.com/office/officeart/2005/8/layout/vList5"/>
    <dgm:cxn modelId="{7FC9777F-B0CD-48DC-B174-87A956925B2D}" type="presOf" srcId="{3A279F64-9EE0-4DDD-BD2A-D93E4BFD7788}" destId="{E0A34688-C64B-4A06-9BFD-CF59D984F8FB}" srcOrd="0" destOrd="3" presId="urn:microsoft.com/office/officeart/2005/8/layout/vList5"/>
    <dgm:cxn modelId="{32B92AAE-3994-4D16-8949-A93FD99E6F61}" type="presOf" srcId="{3E8E20CB-C512-42A1-B399-7722EA450083}" destId="{E0A34688-C64B-4A06-9BFD-CF59D984F8FB}" srcOrd="0" destOrd="4" presId="urn:microsoft.com/office/officeart/2005/8/layout/vList5"/>
  </dgm:cxnLst>
  <dgm:bg/>
  <dgm:whole/>
</dgm:dataModel>
</file>

<file path=ppt/diagrams/data2.xml><?xml version="1.0" encoding="utf-8"?>
<dgm:dataModel xmlns:a="http://schemas.openxmlformats.org/drawingml/2006/main" xmlns:r="http://schemas.openxmlformats.org/officeDocument/2006/relationships" xmlns:dgm="http://schemas.openxmlformats.org/drawingml/2006/diagram">
  <dgm:ptLst>
    <dgm:pt modelId="{4CAF0F9F-26C7-414B-B880-5680B8E78EB2}" type="doc">
      <dgm:prSet loTypeId="urn:microsoft.com/office/officeart/2005/8/layout/cycle2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17D0139C-AB10-4708-94AD-B11C0B2A4749}" type="parTrans" cxnId="{62C8F173-FB86-4E77-9FF6-DD4D923ACC40}">
      <dgm:prSet/>
      <dgm:spPr/>
      <dgm:t>
        <a:bodyPr/>
        <a:lstStyle/>
        <a:p>
          <a:endParaRPr lang="ru-RU"/>
        </a:p>
      </dgm:t>
    </dgm:pt>
    <dgm:pt modelId="{094880BE-21B8-4192-AD98-FE45F7713FE7}">
      <dgm:prSet phldrT="[Текст]" custT="1"/>
      <dgm:spPr>
        <a:solidFill>
          <a:srgbClr val="00B0F0"/>
        </a:solidFill>
        <a:ln>
          <a:solidFill>
            <a:srgbClr val="FFFF00"/>
          </a:solidFill>
        </a:ln>
      </dgm:spPr>
      <dgm:t>
        <a:bodyPr/>
        <a:lstStyle/>
        <a:p>
          <a:r>
            <a:rPr lang="ru-RU" sz="1800" b="1" smtClean="0">
              <a:solidFill>
                <a:schemeClr val="tx1"/>
              </a:solidFill>
            </a:rPr>
            <a:t>Деление на подгруппы по предметам, объединённым одним названием (признаком) </a:t>
          </a:r>
          <a:endParaRPr lang="ru-RU" sz="1800" b="1">
            <a:solidFill>
              <a:schemeClr val="tx1"/>
            </a:solidFill>
          </a:endParaRPr>
        </a:p>
      </dgm:t>
    </dgm:pt>
    <dgm:pt modelId="{F5462D74-86D4-4AFC-9E32-FD6EF6D09912}" type="sibTrans" cxnId="{62C8F173-FB86-4E77-9FF6-DD4D923ACC40}">
      <dgm:prSet/>
      <dgm:spPr>
        <a:noFill/>
      </dgm:spPr>
      <dgm:t>
        <a:bodyPr/>
        <a:lstStyle/>
        <a:p>
          <a:endParaRPr lang="ru-RU"/>
        </a:p>
      </dgm:t>
    </dgm:pt>
    <dgm:pt modelId="{1E7FE8EE-47FB-4CB9-8C27-EB15CF8062A2}" type="parTrans" cxnId="{8F89D0E9-746B-4BF7-AA2D-B83C09C659D1}">
      <dgm:prSet/>
      <dgm:spPr/>
      <dgm:t>
        <a:bodyPr/>
        <a:lstStyle/>
        <a:p>
          <a:endParaRPr lang="ru-RU"/>
        </a:p>
      </dgm:t>
    </dgm:pt>
    <dgm:pt modelId="{F5ADAD37-B9A1-4D5A-88BB-4DDF7E1CCC06}">
      <dgm:prSet custT="1"/>
      <dgm:spPr>
        <a:solidFill>
          <a:srgbClr val="FFFF00"/>
        </a:solidFill>
        <a:ln>
          <a:solidFill>
            <a:srgbClr val="FFFF00"/>
          </a:solidFill>
        </a:ln>
      </dgm:spPr>
      <dgm:t>
        <a:bodyPr/>
        <a:lstStyle/>
        <a:p>
          <a:r>
            <a:rPr lang="ru-RU" sz="1800" b="1" smtClean="0">
              <a:solidFill>
                <a:schemeClr val="tx1"/>
              </a:solidFill>
            </a:rPr>
            <a:t>Деление на подгруппы по разрезному материалу</a:t>
          </a:r>
          <a:endParaRPr lang="ru-RU" sz="1800" b="1">
            <a:solidFill>
              <a:schemeClr val="tx1"/>
            </a:solidFill>
          </a:endParaRPr>
        </a:p>
      </dgm:t>
    </dgm:pt>
    <dgm:pt modelId="{F35C3FD2-7815-4375-AB7E-44837FE63848}" type="sibTrans" cxnId="{8F89D0E9-746B-4BF7-AA2D-B83C09C659D1}">
      <dgm:prSet/>
      <dgm:spPr>
        <a:noFill/>
      </dgm:spPr>
      <dgm:t>
        <a:bodyPr/>
        <a:lstStyle/>
        <a:p>
          <a:endParaRPr lang="ru-RU"/>
        </a:p>
      </dgm:t>
    </dgm:pt>
    <dgm:pt modelId="{7F7D0D6A-B55A-4A94-AA95-0253B0E6AE2D}" type="parTrans" cxnId="{C67B7FA6-0AB6-411B-AB58-8428291774DD}">
      <dgm:prSet/>
      <dgm:spPr/>
      <dgm:t>
        <a:bodyPr/>
        <a:lstStyle/>
        <a:p>
          <a:endParaRPr lang="ru-RU"/>
        </a:p>
      </dgm:t>
    </dgm:pt>
    <dgm:pt modelId="{1926F2DC-FC7C-4804-BFD9-F1260B37532F}">
      <dgm:prSet custT="1"/>
      <dgm:spPr>
        <a:solidFill>
          <a:srgbClr val="7030A0"/>
        </a:solidFill>
        <a:ln>
          <a:solidFill>
            <a:srgbClr val="FFFF00"/>
          </a:solidFill>
        </a:ln>
      </dgm:spPr>
      <dgm:t>
        <a:bodyPr/>
        <a:lstStyle/>
        <a:p>
          <a:r>
            <a:rPr lang="ru-RU" sz="1800" b="1" smtClean="0">
              <a:solidFill>
                <a:schemeClr val="tx1"/>
              </a:solidFill>
            </a:rPr>
            <a:t>Деление на подгруппы по слову, движению, действию</a:t>
          </a:r>
          <a:endParaRPr lang="ru-RU" sz="1800" b="1">
            <a:solidFill>
              <a:schemeClr val="tx1"/>
            </a:solidFill>
          </a:endParaRPr>
        </a:p>
      </dgm:t>
    </dgm:pt>
    <dgm:pt modelId="{B39C0553-F34E-403D-A3E4-FF8F84EF7507}" type="sibTrans" cxnId="{C67B7FA6-0AB6-411B-AB58-8428291774DD}">
      <dgm:prSet/>
      <dgm:spPr>
        <a:noFill/>
      </dgm:spPr>
      <dgm:t>
        <a:bodyPr/>
        <a:lstStyle/>
        <a:p>
          <a:endParaRPr lang="ru-RU"/>
        </a:p>
      </dgm:t>
    </dgm:pt>
    <dgm:pt modelId="{7B759B2D-73D8-4D68-B89B-805093B0B81C}" type="parTrans" cxnId="{7C28EE35-8102-49B6-8EE2-5E9DF73DE4B1}">
      <dgm:prSet/>
      <dgm:spPr/>
      <dgm:t>
        <a:bodyPr/>
        <a:lstStyle/>
        <a:p>
          <a:endParaRPr lang="ru-RU"/>
        </a:p>
      </dgm:t>
    </dgm:pt>
    <dgm:pt modelId="{C6E6DC16-F9D1-4B8E-BC4C-7B83AA6FF0F4}">
      <dgm:prSet phldrT="[Текст]" custT="1"/>
      <dgm:spPr>
        <a:solidFill>
          <a:srgbClr val="FF0066"/>
        </a:solidFill>
        <a:ln>
          <a:solidFill>
            <a:srgbClr val="FFFF00"/>
          </a:solidFill>
        </a:ln>
      </dgm:spPr>
      <dgm:t>
        <a:bodyPr/>
        <a:lstStyle/>
        <a:p>
          <a:r>
            <a:rPr lang="ru-RU" sz="1800" b="1" smtClean="0">
              <a:solidFill>
                <a:schemeClr val="tx1"/>
              </a:solidFill>
            </a:rPr>
            <a:t>Объединение путём образования пар (троек, четвёрок, шестёрок) </a:t>
          </a:r>
          <a:endParaRPr lang="ru-RU" sz="1800" b="1">
            <a:solidFill>
              <a:schemeClr val="tx1"/>
            </a:solidFill>
          </a:endParaRPr>
        </a:p>
      </dgm:t>
    </dgm:pt>
    <dgm:pt modelId="{551770B4-801D-4DD1-A7C8-447C956506D2}" type="sibTrans" cxnId="{7C28EE35-8102-49B6-8EE2-5E9DF73DE4B1}">
      <dgm:prSet/>
      <dgm:spPr>
        <a:noFill/>
      </dgm:spPr>
      <dgm:t>
        <a:bodyPr/>
        <a:lstStyle/>
        <a:p>
          <a:endParaRPr lang="ru-RU"/>
        </a:p>
      </dgm:t>
    </dgm:pt>
    <dgm:pt modelId="{F795C481-1C3F-4B26-9EB4-DDEFFB6E7F7F}" type="parTrans" cxnId="{D336CCBE-8F5E-4740-B698-9D2B616A48E2}">
      <dgm:prSet/>
      <dgm:spPr/>
      <dgm:t>
        <a:bodyPr/>
        <a:lstStyle/>
        <a:p>
          <a:endParaRPr lang="ru-RU"/>
        </a:p>
      </dgm:t>
    </dgm:pt>
    <dgm:pt modelId="{CB6E4264-B1A6-4DE4-9A0E-38703EE06840}">
      <dgm:prSet custT="1"/>
      <dgm:spPr>
        <a:solidFill>
          <a:srgbClr val="A7FBA3"/>
        </a:solidFill>
        <a:ln>
          <a:solidFill>
            <a:srgbClr val="FFFF00"/>
          </a:solidFill>
        </a:ln>
      </dgm:spPr>
      <dgm:t>
        <a:bodyPr/>
        <a:lstStyle/>
        <a:p>
          <a:r>
            <a:rPr lang="ru-RU" sz="1800" b="1" i="0" smtClean="0">
              <a:solidFill>
                <a:schemeClr val="tx1"/>
              </a:solidFill>
            </a:rPr>
            <a:t>Деление группы по их желанию, сходству или жизненным ситуациям осуществляют по следующим принципам</a:t>
          </a:r>
          <a:endParaRPr lang="ru-RU" sz="1800" b="1" i="0">
            <a:solidFill>
              <a:schemeClr val="tx1"/>
            </a:solidFill>
          </a:endParaRPr>
        </a:p>
      </dgm:t>
    </dgm:pt>
    <dgm:pt modelId="{F6B5648B-2F24-45DE-819B-20F78BEB5032}" type="sibTrans" cxnId="{D336CCBE-8F5E-4740-B698-9D2B616A48E2}">
      <dgm:prSet/>
      <dgm:spPr>
        <a:noFill/>
      </dgm:spPr>
      <dgm:t>
        <a:bodyPr/>
        <a:lstStyle/>
        <a:p>
          <a:endParaRPr lang="ru-RU"/>
        </a:p>
      </dgm:t>
    </dgm:pt>
    <dgm:pt modelId="{A1F7C59E-CACD-4DD6-9B30-0CD6B3B6BFBB}" type="pres">
      <dgm:prSet presAssocID="{4CAF0F9F-26C7-414B-B880-5680B8E78EB2}" presName="cycle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8902AEF-40E5-4E84-9E69-F27657321436}" type="pres">
      <dgm:prSet presAssocID="{094880BE-21B8-4192-AD98-FE45F7713FE7}" presName="node" presStyleLbl="node1" presStyleCnt="5" custScaleX="179424" custScaleY="127381" custRadScaleRad="146407" custRadScaleInc="16322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83E291A-6751-42DE-82EE-EA5087635737}" type="pres">
      <dgm:prSet presAssocID="{F5462D74-86D4-4AFC-9E32-FD6EF6D09912}" presName="sibTrans" presStyleLbl="sibTrans2D1" presStyleCnt="5" custFlipVert="1" custFlipHor="1" custScaleX="16230" custScaleY="15111"/>
      <dgm:spPr/>
      <dgm:t>
        <a:bodyPr/>
        <a:lstStyle/>
        <a:p>
          <a:endParaRPr lang="ru-RU"/>
        </a:p>
      </dgm:t>
    </dgm:pt>
    <dgm:pt modelId="{92F687F6-B7B7-461C-ACE9-3C63B59D50AD}" type="pres">
      <dgm:prSet presAssocID="{F5462D74-86D4-4AFC-9E32-FD6EF6D09912}" presName="connectorText" presStyleLbl="sibTrans2D1" presStyleCnt="5"/>
      <dgm:spPr/>
      <dgm:t>
        <a:bodyPr/>
        <a:lstStyle/>
        <a:p>
          <a:endParaRPr lang="ru-RU"/>
        </a:p>
      </dgm:t>
    </dgm:pt>
    <dgm:pt modelId="{E211A9E0-870B-4294-8E32-028631D56915}" type="pres">
      <dgm:prSet presAssocID="{F5ADAD37-B9A1-4D5A-88BB-4DDF7E1CCC06}" presName="node" presStyleLbl="node1" presStyleIdx="1" presStyleCnt="5" custScaleX="155610" custScaleY="139242" custRadScaleRad="8280" custRadScaleInc="-32991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8D0A4C6-25EF-4B51-A1C1-F96113D620E3}" type="pres">
      <dgm:prSet presAssocID="{F35C3FD2-7815-4375-AB7E-44837FE63848}" presName="sibTrans" presStyleLbl="sibTrans2D1" presStyleIdx="1" presStyleCnt="5" custFlipVert="0" custFlipHor="1" custScaleX="29263" custScaleY="69764" custLinFactX="1200000" custLinFactY="183789" custLinFactNeighborX="1216177" custLinFactNeighborY="200000"/>
      <dgm:spPr/>
      <dgm:t>
        <a:bodyPr/>
        <a:lstStyle/>
        <a:p>
          <a:endParaRPr lang="ru-RU"/>
        </a:p>
      </dgm:t>
    </dgm:pt>
    <dgm:pt modelId="{80780F4C-8E92-467D-9AA9-1EEB70510180}" type="pres">
      <dgm:prSet presAssocID="{F35C3FD2-7815-4375-AB7E-44837FE63848}" presName="connectorText" presStyleLbl="sibTrans2D1" presStyleIdx="1" presStyleCnt="5"/>
      <dgm:spPr/>
      <dgm:t>
        <a:bodyPr/>
        <a:lstStyle/>
        <a:p>
          <a:endParaRPr lang="ru-RU"/>
        </a:p>
      </dgm:t>
    </dgm:pt>
    <dgm:pt modelId="{19560AA5-97DD-45C0-9B25-F9042E1716B3}" type="pres">
      <dgm:prSet presAssocID="{1926F2DC-FC7C-4804-BFD9-F1260B37532F}" presName="node" presStyleLbl="node1" presStyleIdx="2" presStyleCnt="5" custScaleX="173254" custScaleY="142309" custRadScaleRad="130217" custRadScaleInc="-7426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9826D3A-CA10-45EA-B70F-0EF4D8426C2F}" type="pres">
      <dgm:prSet presAssocID="{B39C0553-F34E-403D-A3E4-FF8F84EF7507}" presName="sibTrans" presStyleLbl="sibTrans2D1" presStyleIdx="2" presStyleCnt="5" custFlipVert="1" custFlipHor="0" custScaleX="27143" custScaleY="8417" custLinFactX="200000" custLinFactY="100000" custLinFactNeighborX="229234" custLinFactNeighborY="154100"/>
      <dgm:spPr/>
      <dgm:t>
        <a:bodyPr/>
        <a:lstStyle/>
        <a:p>
          <a:endParaRPr lang="ru-RU"/>
        </a:p>
      </dgm:t>
    </dgm:pt>
    <dgm:pt modelId="{5932D286-C8BC-4610-B187-8D6F6394E398}" type="pres">
      <dgm:prSet presAssocID="{B39C0553-F34E-403D-A3E4-FF8F84EF7507}" presName="connectorText" presStyleLbl="sibTrans2D1" presStyleIdx="2" presStyleCnt="5"/>
      <dgm:spPr/>
      <dgm:t>
        <a:bodyPr/>
        <a:lstStyle/>
        <a:p>
          <a:endParaRPr lang="ru-RU"/>
        </a:p>
      </dgm:t>
    </dgm:pt>
    <dgm:pt modelId="{11815935-1DA7-4A1B-865E-53F579B8C0DA}" type="pres">
      <dgm:prSet presAssocID="{C6E6DC16-F9D1-4B8E-BC4C-7B83AA6FF0F4}" presName="node" presStyleLbl="node1" presStyleIdx="3" presStyleCnt="5" custScaleX="174351" custScaleY="142164" custRadScaleRad="141463" custRadScaleInc="7197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F10F14F-3E50-46E8-9C41-D100CB432873}" type="pres">
      <dgm:prSet presAssocID="{551770B4-801D-4DD1-A7C8-447C956506D2}" presName="sibTrans" presStyleLbl="sibTrans2D1" presStyleIdx="3" presStyleCnt="5" custFlipVert="1" custFlipHor="0" custScaleX="18762" custScaleY="12377" custLinFactX="-400000" custLinFactNeighborX="-407965" custLinFactNeighborY="41642"/>
      <dgm:spPr/>
      <dgm:t>
        <a:bodyPr/>
        <a:lstStyle/>
        <a:p>
          <a:endParaRPr lang="ru-RU"/>
        </a:p>
      </dgm:t>
    </dgm:pt>
    <dgm:pt modelId="{5914288A-FCDB-42AD-9B1F-97D52B05C62E}" type="pres">
      <dgm:prSet presAssocID="{551770B4-801D-4DD1-A7C8-447C956506D2}" presName="connectorText" presStyleLbl="sibTrans2D1" presStyleIdx="3" presStyleCnt="5"/>
      <dgm:spPr/>
      <dgm:t>
        <a:bodyPr/>
        <a:lstStyle/>
        <a:p>
          <a:endParaRPr lang="ru-RU"/>
        </a:p>
      </dgm:t>
    </dgm:pt>
    <dgm:pt modelId="{85CCD0B4-CDFF-415F-975C-E1B936191358}" type="pres">
      <dgm:prSet presAssocID="{CB6E4264-B1A6-4DE4-9A0E-38703EE06840}" presName="node" presStyleLbl="node1" presStyleIdx="4" presStyleCnt="5" custScaleX="181829" custScaleY="138891" custRadScaleRad="152782" custRadScaleInc="3468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461076-EB0C-458D-B092-EB86F37AD32E}" type="pres">
      <dgm:prSet presAssocID="{F6B5648B-2F24-45DE-819B-20F78BEB5032}" presName="sibTrans" presStyleLbl="sibTrans2D1" presStyleIdx="4" presStyleCnt="5" custFlipVert="0" custFlipHor="0" custScaleX="3640" custScaleY="8417" custLinFactNeighborX="17115" custLinFactNeighborY="3779"/>
      <dgm:spPr/>
      <dgm:t>
        <a:bodyPr/>
        <a:lstStyle/>
        <a:p>
          <a:endParaRPr lang="ru-RU"/>
        </a:p>
      </dgm:t>
    </dgm:pt>
    <dgm:pt modelId="{BE8D73EF-F714-4D54-B052-BF397C2F99D2}" type="pres">
      <dgm:prSet presAssocID="{F6B5648B-2F24-45DE-819B-20F78BEB5032}" presName="connectorText" presStyleLbl="sibTrans2D1" presStyleIdx="4" presStyleCnt="5"/>
      <dgm:spPr/>
      <dgm:t>
        <a:bodyPr/>
        <a:lstStyle/>
        <a:p>
          <a:endParaRPr lang="ru-RU"/>
        </a:p>
      </dgm:t>
    </dgm:pt>
  </dgm:ptLst>
  <dgm:cxnLst>
    <dgm:cxn modelId="{62C8F173-FB86-4E77-9FF6-DD4D923ACC40}" srcId="{4CAF0F9F-26C7-414B-B880-5680B8E78EB2}" destId="{094880BE-21B8-4192-AD98-FE45F7713FE7}" srcOrd="0" destOrd="0" parTransId="{17D0139C-AB10-4708-94AD-B11C0B2A4749}" sibTransId="{F5462D74-86D4-4AFC-9E32-FD6EF6D09912}"/>
    <dgm:cxn modelId="{8F89D0E9-746B-4BF7-AA2D-B83C09C659D1}" srcId="{4CAF0F9F-26C7-414B-B880-5680B8E78EB2}" destId="{F5ADAD37-B9A1-4D5A-88BB-4DDF7E1CCC06}" srcOrd="1" destOrd="0" parTransId="{1E7FE8EE-47FB-4CB9-8C27-EB15CF8062A2}" sibTransId="{F35C3FD2-7815-4375-AB7E-44837FE63848}"/>
    <dgm:cxn modelId="{C67B7FA6-0AB6-411B-AB58-8428291774DD}" srcId="{4CAF0F9F-26C7-414B-B880-5680B8E78EB2}" destId="{1926F2DC-FC7C-4804-BFD9-F1260B37532F}" srcOrd="2" destOrd="0" parTransId="{7F7D0D6A-B55A-4A94-AA95-0253B0E6AE2D}" sibTransId="{B39C0553-F34E-403D-A3E4-FF8F84EF7507}"/>
    <dgm:cxn modelId="{7C28EE35-8102-49B6-8EE2-5E9DF73DE4B1}" srcId="{4CAF0F9F-26C7-414B-B880-5680B8E78EB2}" destId="{C6E6DC16-F9D1-4B8E-BC4C-7B83AA6FF0F4}" srcOrd="3" destOrd="0" parTransId="{7B759B2D-73D8-4D68-B89B-805093B0B81C}" sibTransId="{551770B4-801D-4DD1-A7C8-447C956506D2}"/>
    <dgm:cxn modelId="{D336CCBE-8F5E-4740-B698-9D2B616A48E2}" srcId="{4CAF0F9F-26C7-414B-B880-5680B8E78EB2}" destId="{CB6E4264-B1A6-4DE4-9A0E-38703EE06840}" srcOrd="4" destOrd="0" parTransId="{F795C481-1C3F-4B26-9EB4-DDEFFB6E7F7F}" sibTransId="{F6B5648B-2F24-45DE-819B-20F78BEB5032}"/>
    <dgm:cxn modelId="{5B69591E-19C6-48CD-A58F-358E7FA91D57}" type="presOf" srcId="{4CAF0F9F-26C7-414B-B880-5680B8E78EB2}" destId="{A1F7C59E-CACD-4DD6-9B30-0CD6B3B6BFBB}" srcOrd="0" destOrd="0" presId="urn:microsoft.com/office/officeart/2005/8/layout/cycle2"/>
    <dgm:cxn modelId="{91F48F6B-EE88-47AF-A915-1A955E967F1F}" type="presParOf" srcId="{A1F7C59E-CACD-4DD6-9B30-0CD6B3B6BFBB}" destId="{F8902AEF-40E5-4E84-9E69-F27657321436}" srcOrd="0" destOrd="0" presId="urn:microsoft.com/office/officeart/2005/8/layout/cycle2"/>
    <dgm:cxn modelId="{E6DA6C96-490F-4DBF-9583-3BA39D0957E0}" type="presOf" srcId="{094880BE-21B8-4192-AD98-FE45F7713FE7}" destId="{F8902AEF-40E5-4E84-9E69-F27657321436}" srcOrd="0" destOrd="0" presId="urn:microsoft.com/office/officeart/2005/8/layout/cycle2"/>
    <dgm:cxn modelId="{33685783-CA0A-4B85-8CB9-1722AA15D0CE}" type="presParOf" srcId="{A1F7C59E-CACD-4DD6-9B30-0CD6B3B6BFBB}" destId="{383E291A-6751-42DE-82EE-EA5087635737}" srcOrd="1" destOrd="0" presId="urn:microsoft.com/office/officeart/2005/8/layout/cycle2"/>
    <dgm:cxn modelId="{D4EA5740-C740-452F-9389-22D1CA5EB1D4}" type="presOf" srcId="{F5462D74-86D4-4AFC-9E32-FD6EF6D09912}" destId="{383E291A-6751-42DE-82EE-EA5087635737}" srcOrd="0" destOrd="0" presId="urn:microsoft.com/office/officeart/2005/8/layout/cycle2"/>
    <dgm:cxn modelId="{07223D01-39A0-456D-9476-A6B9EE7F55D7}" type="presParOf" srcId="{383E291A-6751-42DE-82EE-EA5087635737}" destId="{92F687F6-B7B7-461C-ACE9-3C63B59D50AD}" srcOrd="0" destOrd="0" presId="urn:microsoft.com/office/officeart/2005/8/layout/cycle2"/>
    <dgm:cxn modelId="{788E4D01-AE3B-435F-A5B2-6E7DDCAD9A2E}" type="presOf" srcId="{F5462D74-86D4-4AFC-9E32-FD6EF6D09912}" destId="{92F687F6-B7B7-461C-ACE9-3C63B59D50AD}" srcOrd="1" destOrd="0" presId="urn:microsoft.com/office/officeart/2005/8/layout/cycle2"/>
    <dgm:cxn modelId="{A71B37B9-E151-423C-A331-1C312E901F00}" type="presParOf" srcId="{A1F7C59E-CACD-4DD6-9B30-0CD6B3B6BFBB}" destId="{E211A9E0-870B-4294-8E32-028631D56915}" srcOrd="2" destOrd="0" presId="urn:microsoft.com/office/officeart/2005/8/layout/cycle2"/>
    <dgm:cxn modelId="{954756E6-A8F3-42C7-9E26-9C9F8E698656}" type="presOf" srcId="{F5ADAD37-B9A1-4D5A-88BB-4DDF7E1CCC06}" destId="{E211A9E0-870B-4294-8E32-028631D56915}" srcOrd="0" destOrd="0" presId="urn:microsoft.com/office/officeart/2005/8/layout/cycle2"/>
    <dgm:cxn modelId="{986103D5-114B-4CDC-B93B-35E7F9024F67}" type="presParOf" srcId="{A1F7C59E-CACD-4DD6-9B30-0CD6B3B6BFBB}" destId="{F8D0A4C6-25EF-4B51-A1C1-F96113D620E3}" srcOrd="3" destOrd="0" presId="urn:microsoft.com/office/officeart/2005/8/layout/cycle2"/>
    <dgm:cxn modelId="{520E46B3-62A5-407E-9D3F-309F3B865FE2}" type="presOf" srcId="{F35C3FD2-7815-4375-AB7E-44837FE63848}" destId="{F8D0A4C6-25EF-4B51-A1C1-F96113D620E3}" srcOrd="0" destOrd="0" presId="urn:microsoft.com/office/officeart/2005/8/layout/cycle2"/>
    <dgm:cxn modelId="{81384B79-33BB-4C72-9C34-2B7243A7DFE1}" type="presParOf" srcId="{F8D0A4C6-25EF-4B51-A1C1-F96113D620E3}" destId="{80780F4C-8E92-467D-9AA9-1EEB70510180}" srcOrd="0" destOrd="0" presId="urn:microsoft.com/office/officeart/2005/8/layout/cycle2"/>
    <dgm:cxn modelId="{0974AF96-68C8-40F2-BF69-E3F7A2DFF5CC}" type="presOf" srcId="{F35C3FD2-7815-4375-AB7E-44837FE63848}" destId="{80780F4C-8E92-467D-9AA9-1EEB70510180}" srcOrd="1" destOrd="0" presId="urn:microsoft.com/office/officeart/2005/8/layout/cycle2"/>
    <dgm:cxn modelId="{693BCF71-7F86-4BDD-9A64-A1FF0BEBEED9}" type="presParOf" srcId="{A1F7C59E-CACD-4DD6-9B30-0CD6B3B6BFBB}" destId="{19560AA5-97DD-45C0-9B25-F9042E1716B3}" srcOrd="4" destOrd="0" presId="urn:microsoft.com/office/officeart/2005/8/layout/cycle2"/>
    <dgm:cxn modelId="{F3985F35-6DB2-41D0-8309-38FC13A802A7}" type="presOf" srcId="{1926F2DC-FC7C-4804-BFD9-F1260B37532F}" destId="{19560AA5-97DD-45C0-9B25-F9042E1716B3}" srcOrd="0" destOrd="0" presId="urn:microsoft.com/office/officeart/2005/8/layout/cycle2"/>
    <dgm:cxn modelId="{59749A1C-AE85-45E6-AE06-82F7C4C27725}" type="presParOf" srcId="{A1F7C59E-CACD-4DD6-9B30-0CD6B3B6BFBB}" destId="{39826D3A-CA10-45EA-B70F-0EF4D8426C2F}" srcOrd="5" destOrd="0" presId="urn:microsoft.com/office/officeart/2005/8/layout/cycle2"/>
    <dgm:cxn modelId="{052DA8D3-C099-44DE-8646-48CFF2A2E15C}" type="presOf" srcId="{B39C0553-F34E-403D-A3E4-FF8F84EF7507}" destId="{39826D3A-CA10-45EA-B70F-0EF4D8426C2F}" srcOrd="0" destOrd="0" presId="urn:microsoft.com/office/officeart/2005/8/layout/cycle2"/>
    <dgm:cxn modelId="{01161366-BAE4-453C-8CB4-F0C39EB7E65A}" type="presParOf" srcId="{39826D3A-CA10-45EA-B70F-0EF4D8426C2F}" destId="{5932D286-C8BC-4610-B187-8D6F6394E398}" srcOrd="0" destOrd="0" presId="urn:microsoft.com/office/officeart/2005/8/layout/cycle2"/>
    <dgm:cxn modelId="{7F9F471D-723A-40FC-A972-D0CEC642F31C}" type="presOf" srcId="{B39C0553-F34E-403D-A3E4-FF8F84EF7507}" destId="{5932D286-C8BC-4610-B187-8D6F6394E398}" srcOrd="1" destOrd="0" presId="urn:microsoft.com/office/officeart/2005/8/layout/cycle2"/>
    <dgm:cxn modelId="{B66C8041-2E8D-47A4-A8BF-D271539AC2C5}" type="presParOf" srcId="{A1F7C59E-CACD-4DD6-9B30-0CD6B3B6BFBB}" destId="{11815935-1DA7-4A1B-865E-53F579B8C0DA}" srcOrd="6" destOrd="0" presId="urn:microsoft.com/office/officeart/2005/8/layout/cycle2"/>
    <dgm:cxn modelId="{C5508C56-F578-4619-AEA9-4E94474CC4FA}" type="presOf" srcId="{C6E6DC16-F9D1-4B8E-BC4C-7B83AA6FF0F4}" destId="{11815935-1DA7-4A1B-865E-53F579B8C0DA}" srcOrd="0" destOrd="0" presId="urn:microsoft.com/office/officeart/2005/8/layout/cycle2"/>
    <dgm:cxn modelId="{3BC96FE4-896A-4A2B-9E28-DD9F886C284C}" type="presParOf" srcId="{A1F7C59E-CACD-4DD6-9B30-0CD6B3B6BFBB}" destId="{7F10F14F-3E50-46E8-9C41-D100CB432873}" srcOrd="7" destOrd="0" presId="urn:microsoft.com/office/officeart/2005/8/layout/cycle2"/>
    <dgm:cxn modelId="{6E221B25-B9AA-4819-96DD-14613DDAA730}" type="presOf" srcId="{551770B4-801D-4DD1-A7C8-447C956506D2}" destId="{7F10F14F-3E50-46E8-9C41-D100CB432873}" srcOrd="0" destOrd="0" presId="urn:microsoft.com/office/officeart/2005/8/layout/cycle2"/>
    <dgm:cxn modelId="{A4569FA3-6C77-4E94-A14E-EFD470008793}" type="presParOf" srcId="{7F10F14F-3E50-46E8-9C41-D100CB432873}" destId="{5914288A-FCDB-42AD-9B1F-97D52B05C62E}" srcOrd="0" destOrd="0" presId="urn:microsoft.com/office/officeart/2005/8/layout/cycle2"/>
    <dgm:cxn modelId="{849BAF85-3E4B-4A44-A475-A24DD91E5517}" type="presOf" srcId="{551770B4-801D-4DD1-A7C8-447C956506D2}" destId="{5914288A-FCDB-42AD-9B1F-97D52B05C62E}" srcOrd="1" destOrd="0" presId="urn:microsoft.com/office/officeart/2005/8/layout/cycle2"/>
    <dgm:cxn modelId="{D5627782-8F1E-417A-92C7-8EB7FB2228BE}" type="presParOf" srcId="{A1F7C59E-CACD-4DD6-9B30-0CD6B3B6BFBB}" destId="{85CCD0B4-CDFF-415F-975C-E1B936191358}" srcOrd="8" destOrd="0" presId="urn:microsoft.com/office/officeart/2005/8/layout/cycle2"/>
    <dgm:cxn modelId="{55D0A2C4-312B-424B-B6F1-3D5A5F7D6D58}" type="presOf" srcId="{CB6E4264-B1A6-4DE4-9A0E-38703EE06840}" destId="{85CCD0B4-CDFF-415F-975C-E1B936191358}" srcOrd="0" destOrd="0" presId="urn:microsoft.com/office/officeart/2005/8/layout/cycle2"/>
    <dgm:cxn modelId="{1F953AB8-6B0B-40B4-89DA-BC6853D6448F}" type="presParOf" srcId="{A1F7C59E-CACD-4DD6-9B30-0CD6B3B6BFBB}" destId="{5F461076-EB0C-458D-B092-EB86F37AD32E}" srcOrd="9" destOrd="0" presId="urn:microsoft.com/office/officeart/2005/8/layout/cycle2"/>
    <dgm:cxn modelId="{4537CB0C-239E-4B2F-AB94-C9B7ECF4521C}" type="presOf" srcId="{F6B5648B-2F24-45DE-819B-20F78BEB5032}" destId="{5F461076-EB0C-458D-B092-EB86F37AD32E}" srcOrd="0" destOrd="0" presId="urn:microsoft.com/office/officeart/2005/8/layout/cycle2"/>
    <dgm:cxn modelId="{C1674687-AF95-49D2-8908-86D97EBD607A}" type="presParOf" srcId="{5F461076-EB0C-458D-B092-EB86F37AD32E}" destId="{BE8D73EF-F714-4D54-B052-BF397C2F99D2}" srcOrd="0" destOrd="0" presId="urn:microsoft.com/office/officeart/2005/8/layout/cycle2"/>
    <dgm:cxn modelId="{34CE5B37-0B31-4A90-89E0-80BD38EFB8BB}" type="presOf" srcId="{F6B5648B-2F24-45DE-819B-20F78BEB5032}" destId="{BE8D73EF-F714-4D54-B052-BF397C2F99D2}" srcOrd="1" destOrd="0" presId="urn:microsoft.com/office/officeart/2005/8/layout/cycle2"/>
  </dgm:cxnLst>
  <dgm:bg>
    <a:noFill/>
  </dgm:bg>
  <dgm:whole/>
</dgm:dataModel>
</file>

<file path=ppt/diagrams/layout1.xml><?xml version="1.0" encoding="utf-8"?>
<dgm:layoutDef xmlns:a="http://schemas.openxmlformats.org/drawingml/2006/main" xmlns:r="http://schemas.openxmlformats.org/officeDocument/2006/relationships" xmlns:dgm="http://schemas.openxmlformats.org/drawingml/2006/diagram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rot="90" type="round2SameRect" r:blip="">
                    <dgm:adjLst/>
                  </dgm:shape>
                </dgm:if>
                <dgm:else name="Name12">
                  <dgm:shape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a="http://schemas.openxmlformats.org/drawingml/2006/main" xmlns:r="http://schemas.openxmlformats.org/officeDocument/2006/relationships" xmlns:dgm="http://schemas.openxmlformats.org/drawingml/2006/diagram" uniqueId="urn:microsoft.com/office/officeart/2005/8/layout/cycle2">
  <dgm:title val=""/>
  <dgm:desc val=""/>
  <dgm:catLst>
    <dgm:cat type="cycle" pri="1000"/>
    <dgm:cat type="convert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r:blip="">
      <dgm:adjLst/>
    </dgm:shape>
    <dgm:presOf/>
    <dgm:constrLst>
      <dgm:constr type="w" for="ch" ptType="node" refType="w"/>
      <dgm:constr type="w" for="ch" ptType="sibTrans" refType="w" refFor="ch" refPtType="node" op="equ" fact="0.25"/>
      <dgm:constr type="sibSp" refType="w" refFor="ch" refPtType="node" fact="0.5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type="ellipse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/>
        </dgm:ruleLst>
      </dgm:layoutNode>
      <dgm:choose name="Name9">
        <dgm:if name="Name10" axis="par ch" ptType="doc node" func="cnt" op="gt" val="1">
          <dgm:forEach name="sibTransForEach" axis="followSib" ptType="sibTrans" hideLastTrans="0" cnt="1">
            <dgm:layoutNode name="sibTrans">
              <dgm:choose name="Name11">
                <dgm:if name="Name12" axis="par ch" ptType="doc node" func="cnt" op="lt" val="3">
                  <dgm:alg type="conn">
                    <dgm:param type="begPts" val="radial"/>
                    <dgm:param type="endPts" val="radial"/>
                  </dgm:alg>
                </dgm:if>
                <dgm:else name="Name13">
                  <dgm:alg type="conn">
                    <dgm:param type="begPts" val="auto"/>
                    <dgm:param type="endPts" val="auto"/>
                  </dgm:alg>
                </dgm:else>
              </dgm:choose>
              <dgm:shape type="conn" r:blip="">
                <dgm:adjLst/>
              </dgm:shape>
              <dgm:presOf axis="self"/>
              <dgm:constrLst>
                <dgm:constr type="h" refType="w" fact="1.35"/>
                <dgm:constr type="connDist"/>
                <dgm:constr type="w" for="ch" refType="connDist" fact="0.45"/>
                <dgm:constr type="h" for="ch" refType="h"/>
              </dgm:constrLst>
              <dgm:ruleLst/>
              <dgm:layoutNode name="connectorText">
                <dgm:alg type="tx">
                  <dgm:param type="autoTxRot" val="grav"/>
                </dgm:alg>
                <dgm:shape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/>
                </dgm:ruleLst>
              </dgm:layoutNode>
            </dgm:layoutNode>
          </dgm:forEach>
        </dgm:if>
        <dgm:else name="Name14"/>
      </dgm:choose>
    </dgm:forEach>
  </dgm:layoutNode>
</dgm:layoutDef>
</file>

<file path=ppt/diagrams/quickStyle1.xml><?xml version="1.0" encoding="utf-8"?>
<dgm:styleDef xmlns:a="http://schemas.openxmlformats.org/drawingml/2006/main" xmlns:dgm="http://schemas.openxmlformats.org/drawingml/2006/diagram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a="http://schemas.openxmlformats.org/drawingml/2006/main" xmlns:dgm="http://schemas.openxmlformats.org/drawingml/2006/diagram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diagramData" Target="../diagrams/data2.xml"/><Relationship Id="rId3" Type="http://schemas.openxmlformats.org/officeDocument/2006/relationships/diagramLayout" Target="../diagrams/layout2.xml"/><Relationship Id="rId4" Type="http://schemas.openxmlformats.org/officeDocument/2006/relationships/diagramQuickStyle" Target="../diagrams/quickStyle2.xml"/><Relationship Id="rId5" Type="http://schemas.openxmlformats.org/officeDocument/2006/relationships/diagramColors" Target="../diagrams/colors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https://lh4.googleusercontent.com/dXClMwaMAuNifsj_7ad2pdVp9Tfg1870hCUrgzEpo_KCPtMEpPu0gyL9FN1G5h1uCChrWmVyx5TnV6x8qrnFENyIVNEctLo3MwrywsOnnj_VxpCvCLBhonsycK_ecamSvI-MAK5u5563MvaVxw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071960" y="4857840"/>
            <a:ext cx="4571640" cy="13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тарший воспитател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.Ю. Малюк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Выноска-облако 9"/>
          <p:cNvSpPr/>
          <p:nvPr/>
        </p:nvSpPr>
        <p:spPr>
          <a:xfrm>
            <a:off x="1000080" y="1000080"/>
            <a:ext cx="7571880" cy="3499920"/>
          </a:xfrm>
          <a:prstGeom prst="cloudCallout">
            <a:avLst>
              <a:gd name="adj1" fmla="val -29750"/>
              <a:gd name="adj2" fmla="val 65715"/>
            </a:avLst>
          </a:prstGeom>
          <a:solidFill>
            <a:srgbClr val="a7fba3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Социоигровая технология как средство обучения дошкольников эффективному взаимодействию в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285840" y="361080"/>
            <a:ext cx="8484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№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чок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ниципального образования Абин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ttps://avatanplus.com/files/resources/original/57726b7c3dcea15596f3dd5d.png"/>
          <p:cNvPicPr/>
          <p:nvPr/>
        </p:nvPicPr>
        <p:blipFill>
          <a:blip r:embed="rId2"/>
          <a:stretch/>
        </p:blipFill>
        <p:spPr>
          <a:xfrm>
            <a:off x="0" y="3786120"/>
            <a:ext cx="24285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diamond/>
      </p:transition>
    </mc:Choice>
    <mc:Fallback>
      <p:transition spd="med">
        <p:diamond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https://lh4.googleusercontent.com/dXClMwaMAuNifsj_7ad2pdVp9Tfg1870hCUrgzEpo_KCPtMEpPu0gyL9FN1G5h1uCChrWmVyx5TnV6x8qrnFENyIVNEctLo3MwrywsOnnj_VxpCvCLBhonsycK_ecamSvI-MAK5u5563MvaVxw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User\Desktop\ПЕД, ДЕБЮТ\мастер класс\b371bfa150c3c5e9e67e47818a3952a436ccf1fbr1-407-77_hq.gif"/>
          <p:cNvPicPr/>
          <p:nvPr/>
        </p:nvPicPr>
        <p:blipFill>
          <a:blip r:embed="rId2"/>
          <a:stretch/>
        </p:blipFill>
        <p:spPr>
          <a:xfrm>
            <a:off x="3214800" y="2071800"/>
            <a:ext cx="5408280" cy="1714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s://i.pinimg.com/736x/f9/da/04/f9da041569c6c7416bc8aaa6471642da.jpg"/>
          <p:cNvPicPr/>
          <p:nvPr/>
        </p:nvPicPr>
        <p:blipFill>
          <a:blip r:embed="rId3"/>
          <a:stretch/>
        </p:blipFill>
        <p:spPr>
          <a:xfrm>
            <a:off x="0" y="0"/>
            <a:ext cx="271440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s://lh4.googleusercontent.com/dXClMwaMAuNifsj_7ad2pdVp9Tfg1870hCUrgzEpo_KCPtMEpPu0gyL9FN1G5h1uCChrWmVyx5TnV6x8qrnFENyIVNEctLo3MwrywsOnnj_VxpCvCLBhonsycK_ecamSvI-MAK5u5563MvaVxw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353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  <a:ea typeface="Arial"/>
              </a:rPr>
              <a:t>   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  <a:ea typeface="Arial"/>
              </a:rPr>
              <a:t>Цель применения социоигровых  технологий в развитии детей дошкольного возраста - организация собственной деятельности детей в атмосфере взаимопонимания.</a:t>
            </a:r>
            <a:br>
              <a:rPr sz="1800"/>
            </a:br>
            <a:endParaRPr b="0" lang="ru-RU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949781251"/>
              </p:ext>
            </p:extLst>
          </p:nvPr>
        </p:nvGraphicFramePr>
        <p:xfrm>
          <a:off x="0" y="1428840"/>
          <a:ext cx="9143640" cy="5214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>
    <p:pull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s://lh4.googleusercontent.com/dXClMwaMAuNifsj_7ad2pdVp9Tfg1870hCUrgzEpo_KCPtMEpPu0gyL9FN1G5h1uCChrWmVyx5TnV6x8qrnFENyIVNEctLo3MwrywsOnnj_VxpCvCLBhonsycK_ecamSvI-MAK5u5563MvaVxw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564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оигровые подход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ваются на формировании и использовании детьми и педагогами умения свободно и с интересом обсуждать разные вопросы, умения следить за ходом общего разговора и дела, умения оказывать друг другу помощь и принимать её, когда это нужно; а т. к. работа идёт в малых группах, дети уча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аться между собой.</a:t>
            </a:r>
            <a:br>
              <a:rPr sz="2400"/>
            </a:b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3257640"/>
            <a:ext cx="543852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оигровая технолог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шая на сопряжении премудростей театральной педагогики, детских фольклорных игр и замечательных идей,  позволяет реализовать личностно-ориентированное обучение, ребёнок выступает здесь как субъект деятельност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https://gtrk-saratov.ru/wp-content/uploads/2019/05/936396_2-1024x768.jpeg"/>
          <p:cNvPicPr/>
          <p:nvPr/>
        </p:nvPicPr>
        <p:blipFill>
          <a:blip r:embed="rId2"/>
          <a:stretch/>
        </p:blipFill>
        <p:spPr>
          <a:xfrm>
            <a:off x="5367240" y="3357720"/>
            <a:ext cx="3776400" cy="3214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https://lh4.googleusercontent.com/dXClMwaMAuNifsj_7ad2pdVp9Tfg1870hCUrgzEpo_KCPtMEpPu0gyL9FN1G5h1uCChrWmVyx5TnV6x8qrnFENyIVNEctLo3MwrywsOnnj_VxpCvCLBhonsycK_ecamSvI-MAK5u5563MvaVxw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0" y="3786120"/>
            <a:ext cx="3455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Главная забота воспитателей – не обучение, не развлечение, даже не развитие, а столь недидактическая вещь как дружба» Е.Е.Шулеш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ShuleshkoEE.jpg"/>
          <p:cNvPicPr/>
          <p:nvPr/>
        </p:nvPicPr>
        <p:blipFill>
          <a:blip r:embed="rId2"/>
          <a:stretch/>
        </p:blipFill>
        <p:spPr>
          <a:xfrm>
            <a:off x="428760" y="357120"/>
            <a:ext cx="2499840" cy="328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mosdrama.ru/upload/information_items_1180989211.jpg"/>
          <p:cNvPicPr/>
          <p:nvPr/>
        </p:nvPicPr>
        <p:blipFill>
          <a:blip r:embed="rId3"/>
          <a:stretch/>
        </p:blipFill>
        <p:spPr>
          <a:xfrm>
            <a:off x="3429000" y="1214280"/>
            <a:ext cx="2314080" cy="3384360"/>
          </a:xfrm>
          <a:prstGeom prst="rect">
            <a:avLst/>
          </a:prstGeom>
          <a:ln w="50800">
            <a:noFill/>
          </a:ln>
        </p:spPr>
      </p:pic>
      <p:sp>
        <p:nvSpPr>
          <p:cNvPr id="53" name="Прямоугольник 8"/>
          <p:cNvSpPr/>
          <p:nvPr/>
        </p:nvSpPr>
        <p:spPr>
          <a:xfrm>
            <a:off x="3643200" y="4857840"/>
            <a:ext cx="1785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.М. Бук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www.mosdrama.ru/upload/information_items_1180989152.jpg"/>
          <p:cNvPicPr/>
          <p:nvPr/>
        </p:nvPicPr>
        <p:blipFill>
          <a:blip r:embed="rId4"/>
          <a:stretch/>
        </p:blipFill>
        <p:spPr>
          <a:xfrm>
            <a:off x="6286680" y="2357280"/>
            <a:ext cx="2334960" cy="3384360"/>
          </a:xfrm>
          <a:prstGeom prst="rect">
            <a:avLst/>
          </a:prstGeom>
          <a:ln w="50800">
            <a:noFill/>
          </a:ln>
        </p:spPr>
      </p:pic>
      <p:sp>
        <p:nvSpPr>
          <p:cNvPr id="55" name="Прямоугольник 10"/>
          <p:cNvSpPr/>
          <p:nvPr/>
        </p:nvSpPr>
        <p:spPr>
          <a:xfrm>
            <a:off x="6863760" y="6000840"/>
            <a:ext cx="1667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А.П. Ерш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s://lh4.googleusercontent.com/dXClMwaMAuNifsj_7ad2pdVp9Tfg1870hCUrgzEpo_KCPtMEpPu0gyL9FN1G5h1uCChrWmVyx5TnV6x8qrnFENyIVNEctLo3MwrywsOnnj_VxpCvCLBhonsycK_ecamSvI-MAK5u5563MvaVxw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14200" y="260280"/>
            <a:ext cx="8929440" cy="1552680"/>
          </a:xfrm>
          <a:prstGeom prst="rect">
            <a:avLst/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личают следующие формы организации социоигровой технологии  в развитии детей  дошкольного возраста, приёмы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иально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аправленные на создание  ситуации успешности, комфортности и коррекции речевых нару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8"/>
          <p:cNvSpPr/>
          <p:nvPr/>
        </p:nvSpPr>
        <p:spPr>
          <a:xfrm>
            <a:off x="1785960" y="1785960"/>
            <a:ext cx="649080" cy="50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  <a:ea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4319280" cy="42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правилам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-соревнования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-драматизаци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ссёрские игр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ы, социально-направленные на создание ситуации успеха и комфортност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езентация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4572000" y="2349360"/>
            <a:ext cx="457164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-ролев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отерап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создания проблемных ситуаций с элементами само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1"/>
          <p:cNvSpPr/>
          <p:nvPr/>
        </p:nvSpPr>
        <p:spPr>
          <a:xfrm>
            <a:off x="6286680" y="1785960"/>
            <a:ext cx="647280" cy="50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  <a:ea typeface="Times New Roman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3700440" y="4138560"/>
            <a:ext cx="4966920" cy="24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5"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with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25"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with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25"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https://lh4.googleusercontent.com/dXClMwaMAuNifsj_7ad2pdVp9Tfg1870hCUrgzEpo_KCPtMEpPu0gyL9FN1G5h1uCChrWmVyx5TnV6x8qrnFENyIVNEctLo3MwrywsOnnj_VxpCvCLBhonsycK_ecamSvI-MAK5u5563MvaVxw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20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Авторы</a:t>
            </a:r>
            <a:r>
              <a:rPr b="1" i="1" lang="ru-RU" sz="2200" spc="-1" strike="noStrike">
                <a:solidFill>
                  <a:srgbClr val="c00000"/>
                </a:solidFill>
                <a:latin typeface="Calibri"/>
                <a:ea typeface="Arial"/>
              </a:rPr>
              <a:t> социоигровой технологии предлагают разные игровые задания для детей, которые условно можно разделить на несколько групп:</a:t>
            </a:r>
            <a:br>
              <a:rPr sz="2200"/>
            </a:br>
            <a:endParaRPr b="0" lang="ru-RU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кругленный прямоугольник 4"/>
          <p:cNvSpPr/>
          <p:nvPr/>
        </p:nvSpPr>
        <p:spPr>
          <a:xfrm>
            <a:off x="324000" y="1197000"/>
            <a:ext cx="2518920" cy="15109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ые упражнения для положительного психологического настр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/>
          <p:cNvSpPr/>
          <p:nvPr/>
        </p:nvSpPr>
        <p:spPr>
          <a:xfrm>
            <a:off x="324000" y="5661000"/>
            <a:ext cx="2447640" cy="720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в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на вол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6"/>
          <p:cNvSpPr/>
          <p:nvPr/>
        </p:nvSpPr>
        <p:spPr>
          <a:xfrm>
            <a:off x="324000" y="2781360"/>
            <a:ext cx="2447640" cy="934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направленные на совместную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7"/>
          <p:cNvSpPr/>
          <p:nvPr/>
        </p:nvSpPr>
        <p:spPr>
          <a:xfrm>
            <a:off x="324000" y="3789360"/>
            <a:ext cx="2447640" cy="5760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ые разминки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8"/>
          <p:cNvSpPr/>
          <p:nvPr/>
        </p:nvSpPr>
        <p:spPr>
          <a:xfrm>
            <a:off x="324000" y="4437000"/>
            <a:ext cx="2447640" cy="11520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дл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уждение интереса друг к дру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с вырезом 13"/>
          <p:cNvSpPr/>
          <p:nvPr/>
        </p:nvSpPr>
        <p:spPr>
          <a:xfrm>
            <a:off x="2987640" y="1773360"/>
            <a:ext cx="1079280" cy="360000"/>
          </a:xfrm>
          <a:prstGeom prst="notchedRightArrow">
            <a:avLst>
              <a:gd name="adj1" fmla="val 50000"/>
              <a:gd name="adj2" fmla="val 49996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  <a:ea typeface="Times New Roman"/>
            </a:endParaRPr>
          </a:p>
        </p:txBody>
      </p:sp>
      <p:sp>
        <p:nvSpPr>
          <p:cNvPr id="71" name="Скругленный прямоугольник 14"/>
          <p:cNvSpPr/>
          <p:nvPr/>
        </p:nvSpPr>
        <p:spPr>
          <a:xfrm>
            <a:off x="4211640" y="1341360"/>
            <a:ext cx="4608000" cy="100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ровозик», «Передай настроение», «Бабушка Маланья», «Где мы были, мы не скажем, а что делали покажем», «Мост дружб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право с вырезом 15"/>
          <p:cNvSpPr/>
          <p:nvPr/>
        </p:nvSpPr>
        <p:spPr>
          <a:xfrm>
            <a:off x="2916360" y="2997360"/>
            <a:ext cx="1079280" cy="360000"/>
          </a:xfrm>
          <a:prstGeom prst="notchedRightArrow">
            <a:avLst>
              <a:gd name="adj1" fmla="val 50000"/>
              <a:gd name="adj2" fmla="val 49996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  <a:ea typeface="Times New Roman"/>
            </a:endParaRPr>
          </a:p>
        </p:txBody>
      </p:sp>
      <p:sp>
        <p:nvSpPr>
          <p:cNvPr id="73" name="Стрелка вправо с вырезом 16"/>
          <p:cNvSpPr/>
          <p:nvPr/>
        </p:nvSpPr>
        <p:spPr>
          <a:xfrm>
            <a:off x="2916360" y="3933720"/>
            <a:ext cx="1079280" cy="358560"/>
          </a:xfrm>
          <a:prstGeom prst="notchedRightArrow">
            <a:avLst>
              <a:gd name="adj1" fmla="val 50000"/>
              <a:gd name="adj2" fmla="val 49994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  <a:ea typeface="Times New Roman"/>
            </a:endParaRPr>
          </a:p>
        </p:txBody>
      </p:sp>
      <p:sp>
        <p:nvSpPr>
          <p:cNvPr id="74" name="Стрелка вправо с вырезом 17"/>
          <p:cNvSpPr/>
          <p:nvPr/>
        </p:nvSpPr>
        <p:spPr>
          <a:xfrm>
            <a:off x="2987640" y="4869000"/>
            <a:ext cx="1079280" cy="360000"/>
          </a:xfrm>
          <a:prstGeom prst="notchedRightArrow">
            <a:avLst>
              <a:gd name="adj1" fmla="val 50000"/>
              <a:gd name="adj2" fmla="val 49996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  <a:ea typeface="Times New Roman"/>
            </a:endParaRPr>
          </a:p>
        </p:txBody>
      </p:sp>
      <p:sp>
        <p:nvSpPr>
          <p:cNvPr id="75" name="Стрелка вправо с вырезом 18"/>
          <p:cNvSpPr/>
          <p:nvPr/>
        </p:nvSpPr>
        <p:spPr>
          <a:xfrm>
            <a:off x="2916360" y="5877000"/>
            <a:ext cx="1079280" cy="360000"/>
          </a:xfrm>
          <a:prstGeom prst="notchedRightArrow">
            <a:avLst>
              <a:gd name="adj1" fmla="val 50000"/>
              <a:gd name="adj2" fmla="val 49996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  <a:ea typeface="Times New Roman"/>
            </a:endParaRPr>
          </a:p>
        </p:txBody>
      </p:sp>
      <p:sp>
        <p:nvSpPr>
          <p:cNvPr id="76" name="Скругленный прямоугольник 19"/>
          <p:cNvSpPr/>
          <p:nvPr/>
        </p:nvSpPr>
        <p:spPr>
          <a:xfrm>
            <a:off x="4211640" y="4653000"/>
            <a:ext cx="4681080" cy="79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тает – не летает», «Волшебная палочка», «Встать по пальцам», «Разведчики», «Замр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0"/>
          <p:cNvSpPr/>
          <p:nvPr/>
        </p:nvSpPr>
        <p:spPr>
          <a:xfrm>
            <a:off x="4211640" y="3645000"/>
            <a:ext cx="4608000" cy="86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водные человечки», «Воробьи-вороны», «Руки-ноги», «Клубок», «Выход ря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21"/>
          <p:cNvSpPr/>
          <p:nvPr/>
        </p:nvSpPr>
        <p:spPr>
          <a:xfrm>
            <a:off x="4284720" y="2637000"/>
            <a:ext cx="4608000" cy="86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шебный клубочек», «Доброе животное», «Дружба начинается с улыбки», «Комплимент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22"/>
          <p:cNvSpPr/>
          <p:nvPr/>
        </p:nvSpPr>
        <p:spPr>
          <a:xfrm>
            <a:off x="4211640" y="5661000"/>
            <a:ext cx="4608000" cy="79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читалки», «Вороны-воробьи», «Горелки», «Прят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6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0"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0"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6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with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26"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6"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6"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6"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6"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with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https://lh4.googleusercontent.com/dXClMwaMAuNifsj_7ad2pdVp9Tfg1870hCUrgzEpo_KCPtMEpPu0gyL9FN1G5h1uCChrWmVyx5TnV6x8qrnFENyIVNEctLo3MwrywsOnnj_VxpCvCLBhonsycK_ecamSvI-MAK5u5563MvaVxw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69080" cy="12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c00000"/>
                </a:solidFill>
                <a:latin typeface="Calibri"/>
                <a:ea typeface="Arial"/>
              </a:rPr>
              <a:t>Применяя социоигровые технологии в  образовательном процессе ДОО, необходимо помнить о 6 самых основных правилах и условиях  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актуальных</a:t>
            </a:r>
            <a:r>
              <a:rPr b="1" i="1" lang="ru-RU" sz="2200" spc="-1" strike="noStrike">
                <a:solidFill>
                  <a:srgbClr val="c00000"/>
                </a:solidFill>
                <a:latin typeface="Calibri"/>
                <a:ea typeface="Arial"/>
              </a:rPr>
              <a:t> для развития детей  дошкольного возраста :</a:t>
            </a:r>
            <a:br>
              <a:rPr sz="4000"/>
            </a:br>
            <a:endParaRPr b="0" lang="ru-RU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Облако 3"/>
          <p:cNvSpPr/>
          <p:nvPr/>
        </p:nvSpPr>
        <p:spPr>
          <a:xfrm>
            <a:off x="4643280" y="1571760"/>
            <a:ext cx="2592000" cy="1439640"/>
          </a:xfrm>
          <a:custGeom>
            <a:avLst/>
            <a:gdLst>
              <a:gd name="textAreaLeft" fmla="*/ 357120 w 2592000"/>
              <a:gd name="textAreaRight" fmla="*/ 2050560 w 2592000"/>
              <a:gd name="textAreaTop" fmla="*/ 217440 h 1439640"/>
              <a:gd name="textAreaBottom" fmla="*/ 1155600 h 1439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2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4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6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1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80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00"/>
          </a:solidFill>
          <a:ln w="381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 малыми групп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блако 4"/>
          <p:cNvSpPr/>
          <p:nvPr/>
        </p:nvSpPr>
        <p:spPr>
          <a:xfrm>
            <a:off x="6480000" y="2857680"/>
            <a:ext cx="2663640" cy="1439640"/>
          </a:xfrm>
          <a:custGeom>
            <a:avLst/>
            <a:gdLst>
              <a:gd name="textAreaLeft" fmla="*/ 366840 w 2663640"/>
              <a:gd name="textAreaRight" fmla="*/ 2107080 w 2663640"/>
              <a:gd name="textAreaTop" fmla="*/ 217440 h 1439640"/>
              <a:gd name="textAreaBottom" fmla="*/ 1155600 h 1439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2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4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6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1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80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ec6ad0"/>
          </a:solidFill>
          <a:ln w="381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ена мизансцен (обстанов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блако 5"/>
          <p:cNvSpPr/>
          <p:nvPr/>
        </p:nvSpPr>
        <p:spPr>
          <a:xfrm>
            <a:off x="500040" y="5275440"/>
            <a:ext cx="2808000" cy="1439640"/>
          </a:xfrm>
          <a:custGeom>
            <a:avLst/>
            <a:gdLst>
              <a:gd name="textAreaLeft" fmla="*/ 387000 w 2808000"/>
              <a:gd name="textAreaRight" fmla="*/ 2221560 w 2808000"/>
              <a:gd name="textAreaTop" fmla="*/ 217440 h 1439640"/>
              <a:gd name="textAreaBottom" fmla="*/ 1155600 h 1439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2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4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6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1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80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ена лид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блако 6"/>
          <p:cNvSpPr/>
          <p:nvPr/>
        </p:nvSpPr>
        <p:spPr>
          <a:xfrm>
            <a:off x="5786280" y="5286240"/>
            <a:ext cx="2857320" cy="1571400"/>
          </a:xfrm>
          <a:custGeom>
            <a:avLst/>
            <a:gdLst>
              <a:gd name="textAreaLeft" fmla="*/ 393840 w 2857320"/>
              <a:gd name="textAreaRight" fmla="*/ 2260440 w 2857320"/>
              <a:gd name="textAreaTop" fmla="*/ 237240 h 1571400"/>
              <a:gd name="textAreaBottom" fmla="*/ 1261440 h 1571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2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4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6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1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80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66538"/>
          </a:solidFill>
          <a:ln w="381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вигательная активность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блако 8"/>
          <p:cNvSpPr/>
          <p:nvPr/>
        </p:nvSpPr>
        <p:spPr>
          <a:xfrm>
            <a:off x="1357200" y="1500120"/>
            <a:ext cx="2881080" cy="1728360"/>
          </a:xfrm>
          <a:custGeom>
            <a:avLst/>
            <a:gdLst>
              <a:gd name="textAreaLeft" fmla="*/ 397080 w 2881080"/>
              <a:gd name="textAreaRight" fmla="*/ 2279160 w 2881080"/>
              <a:gd name="textAreaTop" fmla="*/ 261000 h 1728360"/>
              <a:gd name="textAreaBottom" fmla="*/ 1387440 h 1728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2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4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6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1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80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11ff7d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еграция всех видо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блако 9"/>
          <p:cNvSpPr/>
          <p:nvPr/>
        </p:nvSpPr>
        <p:spPr>
          <a:xfrm>
            <a:off x="0" y="3214800"/>
            <a:ext cx="2592000" cy="1584000"/>
          </a:xfrm>
          <a:custGeom>
            <a:avLst/>
            <a:gdLst>
              <a:gd name="textAreaLeft" fmla="*/ 357120 w 2592000"/>
              <a:gd name="textAreaRight" fmla="*/ 2050560 w 2592000"/>
              <a:gd name="textAreaTop" fmla="*/ 239040 h 1584000"/>
              <a:gd name="textAreaBottom" fmla="*/ 1271520 h 1584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2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4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6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1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80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5174c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нцип полифо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590920" y="3090960"/>
            <a:ext cx="4169880" cy="398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6"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s://lh4.googleusercontent.com/dXClMwaMAuNifsj_7ad2pdVp9Tfg1870hCUrgzEpo_KCPtMEpPu0gyL9FN1G5h1uCChrWmVyx5TnV6x8qrnFENyIVNEctLo3MwrywsOnnj_VxpCvCLBhonsycK_ecamSvI-MAK5u5563MvaVxw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7059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Способы деления детей на «микрогруппы»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271642954"/>
              </p:ext>
            </p:extLst>
          </p:nvPr>
        </p:nvGraphicFramePr>
        <p:xfrm>
          <a:off x="0" y="980640"/>
          <a:ext cx="9143640" cy="5662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cxnSp>
        <p:nvCxnSpPr>
          <p:cNvPr id="91" name="Прямая со стрелкой 4"/>
          <p:cNvCxnSpPr/>
          <p:nvPr/>
        </p:nvCxnSpPr>
        <p:spPr>
          <a:xfrm flipH="1">
            <a:off x="3419280" y="1052280"/>
            <a:ext cx="576720" cy="648000"/>
          </a:xfrm>
          <a:prstGeom prst="straightConnector1">
            <a:avLst/>
          </a:prstGeom>
          <a:ln w="0">
            <a:solidFill>
              <a:srgbClr val="00682f"/>
            </a:solidFill>
            <a:tailEnd len="med" type="arrow" w="med"/>
          </a:ln>
        </p:spPr>
      </p:cxnSp>
      <p:cxnSp>
        <p:nvCxnSpPr>
          <p:cNvPr id="92" name="Прямая со стрелкой 7"/>
          <p:cNvCxnSpPr/>
          <p:nvPr/>
        </p:nvCxnSpPr>
        <p:spPr>
          <a:xfrm>
            <a:off x="5651280" y="1052280"/>
            <a:ext cx="433800" cy="432360"/>
          </a:xfrm>
          <a:prstGeom prst="straightConnector1">
            <a:avLst/>
          </a:prstGeom>
          <a:ln w="0">
            <a:solidFill>
              <a:srgbClr val="00682f"/>
            </a:solidFill>
            <a:tailEnd len="med" type="arrow" w="med"/>
          </a:ln>
        </p:spPr>
      </p:cxnSp>
      <p:cxnSp>
        <p:nvCxnSpPr>
          <p:cNvPr id="93" name="Прямая со стрелкой 9"/>
          <p:cNvCxnSpPr/>
          <p:nvPr/>
        </p:nvCxnSpPr>
        <p:spPr>
          <a:xfrm>
            <a:off x="5076720" y="1125360"/>
            <a:ext cx="1440000" cy="2664360"/>
          </a:xfrm>
          <a:prstGeom prst="straightConnector1">
            <a:avLst/>
          </a:prstGeom>
          <a:ln w="0">
            <a:solidFill>
              <a:srgbClr val="00682f"/>
            </a:solidFill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>
            <a:off x="4643280" y="1125360"/>
            <a:ext cx="360" cy="1367280"/>
          </a:xfrm>
          <a:prstGeom prst="straightConnector1">
            <a:avLst/>
          </a:prstGeom>
          <a:ln w="0">
            <a:solidFill>
              <a:srgbClr val="00682f"/>
            </a:solidFill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 flipH="1">
            <a:off x="2700000" y="1125360"/>
            <a:ext cx="1727640" cy="2880000"/>
          </a:xfrm>
          <a:prstGeom prst="straightConnector1">
            <a:avLst/>
          </a:prstGeom>
          <a:ln w="0">
            <a:solidFill>
              <a:srgbClr val="00682f"/>
            </a:solidFill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5"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https://lh4.googleusercontent.com/dXClMwaMAuNifsj_7ad2pdVp9Tfg1870hCUrgzEpo_KCPtMEpPu0gyL9FN1G5h1uCChrWmVyx5TnV6x8qrnFENyIVNEctLo3MwrywsOnnj_VxpCvCLBhonsycK_ecamSvI-MAK5u5563MvaVxw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500040" y="571680"/>
            <a:ext cx="828648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222222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1" lang="ru-RU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Будьте готовы к собственным пром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1" lang="ru-RU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Не «разжевывайте» смысл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1" lang="ru-RU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бращайте внимание на интересные неожида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1" lang="ru-RU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Учитесь видеть в детских отказах ценные подсказ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1" lang="ru-RU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Умейте порадоваться шу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1" lang="ru-RU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тарайтесь не столько учить и поучать, сколько слушать своих воспитан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1" lang="ru-RU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тарайтесь видеть перед собой не единственную цель, а множество возможных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571680" y="4643280"/>
            <a:ext cx="8429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Если гнаться за 133 зайцами, глядишь, с десяток и наловиш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https://www.pngkey.com/png/full/24-243548_cute-rabbit-clipart-png-cute-easter-bunny-clipart.png"/>
          <p:cNvPicPr/>
          <p:nvPr/>
        </p:nvPicPr>
        <p:blipFill>
          <a:blip r:embed="rId2"/>
          <a:stretch/>
        </p:blipFill>
        <p:spPr>
          <a:xfrm>
            <a:off x="0" y="3286080"/>
            <a:ext cx="1136160" cy="135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ttps://ds05.infourok.ru/uploads/ex/08ee/0003162d-d20dfa07/hello_html_ma094af3.png"/>
          <p:cNvPicPr/>
          <p:nvPr/>
        </p:nvPicPr>
        <p:blipFill>
          <a:blip r:embed="rId3"/>
          <a:stretch/>
        </p:blipFill>
        <p:spPr>
          <a:xfrm>
            <a:off x="7605720" y="214200"/>
            <a:ext cx="1050480" cy="1499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ttps://www.heygirl.com.tr/wp-content/uploads/2009/02/tavsan-1.jpg"/>
          <p:cNvPicPr/>
          <p:nvPr/>
        </p:nvPicPr>
        <p:blipFill>
          <a:blip r:embed="rId4"/>
          <a:stretch/>
        </p:blipFill>
        <p:spPr>
          <a:xfrm>
            <a:off x="7243920" y="4572000"/>
            <a:ext cx="1899720" cy="119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https://i.pinimg.com/originals/77/9d/50/779d5093bcf71c81dff6c2bbb9711104.png"/>
          <p:cNvPicPr/>
          <p:nvPr/>
        </p:nvPicPr>
        <p:blipFill>
          <a:blip r:embed="rId5"/>
          <a:stretch/>
        </p:blipFill>
        <p:spPr>
          <a:xfrm>
            <a:off x="5286240" y="0"/>
            <a:ext cx="1261800" cy="120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https://i.pinimg.com/736x/49/e3/17/49e31719edc2bff443761a593dac153f--alis-rabbits.jpg"/>
          <p:cNvPicPr/>
          <p:nvPr/>
        </p:nvPicPr>
        <p:blipFill>
          <a:blip r:embed="rId6"/>
          <a:stretch/>
        </p:blipFill>
        <p:spPr>
          <a:xfrm>
            <a:off x="3857760" y="3429000"/>
            <a:ext cx="1269720" cy="129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https://avatars.mds.yandex.net/get-pdb/1907041/e2b6ac08-d259-4d96-acca-1474d38ddf12/s1200"/>
          <p:cNvPicPr/>
          <p:nvPr/>
        </p:nvPicPr>
        <p:blipFill>
          <a:blip r:embed="rId7"/>
          <a:stretch/>
        </p:blipFill>
        <p:spPr>
          <a:xfrm>
            <a:off x="1928880" y="4857840"/>
            <a:ext cx="1117080" cy="168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https://proprofs-cdn.s3.amazonaws.com/images/FC/user_images/misc/7594280731.jpg"/>
          <p:cNvPicPr/>
          <p:nvPr/>
        </p:nvPicPr>
        <p:blipFill>
          <a:blip r:embed="rId8"/>
          <a:stretch/>
        </p:blipFill>
        <p:spPr>
          <a:xfrm>
            <a:off x="4786200" y="5457960"/>
            <a:ext cx="999720" cy="139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  <Paragraphs>63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20-07-06T17:21:02Z</dcterms:modified>
  <cp:revision>17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300000000000010290110207f7000400038000</vt:lpwstr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