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644EC-8F4C-44D5-9C50-D228427862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s://presentation-creation.ru/powerpoint-templates.html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Оригинальные шаблоны для презентаций: 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"/>
              </a:rPr>
              <a:t>https://presentation-creation.ru/powerpoint-templates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Бесплатно и без регистр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BB8F6-BB3A-49A4-9351-C67917914364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3A21B-C993-422A-B997-6819CFDB1E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5492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647856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000" y="3668760"/>
            <a:ext cx="647856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D5264-5C27-4EB5-969F-CED43123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5492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27920" y="141300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8000" y="366876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920" y="366876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CF9DC-EA1A-4632-9771-716CA925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5492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98600" y="141300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89200" y="141300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8000" y="366876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98600" y="366876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89200" y="366876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39A82-FE14-460D-866D-CCDDF5A693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43527-0B5D-4574-B0AA-FC9D325F18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5492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8000" y="1413000"/>
            <a:ext cx="647856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5A718-E612-46A8-A361-83C5E5D7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5492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647856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08632-90D7-4F8C-AC40-93889D79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5492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316152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27920" y="1413000"/>
            <a:ext cx="316152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61A89-B480-4342-8262-E4A5F5FE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5492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12D99-B727-408B-8E32-EEEA5397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7640" y="115560"/>
            <a:ext cx="8854920" cy="56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C6988-81FF-4271-BE7A-92BDB3D9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5492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427920" y="1413000"/>
            <a:ext cx="316152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8000" y="366876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80D89-F651-48C7-A0F2-526796B3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5492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8000" y="1413000"/>
            <a:ext cx="647856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C20CE-EAA6-4240-9EB2-F069029D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5492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316152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27920" y="141300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27920" y="366876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582BC-1115-486E-A17D-F9863DEB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5492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27920" y="141300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8000" y="3668760"/>
            <a:ext cx="647856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F60C1-D160-4579-8231-69A60B27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5492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647856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8000" y="3668760"/>
            <a:ext cx="647856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52F4C-D59A-42EF-820F-3344BE11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5492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7920" y="141300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8000" y="366876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427920" y="366876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3EEFE-379E-460E-B193-CAECA616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5492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98600" y="141300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489200" y="141300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8000" y="366876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298600" y="366876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489200" y="366876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D22CD-B83A-427F-84FF-07CBB87017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5492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647856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5812C-C400-46DE-8FDE-D9077B7A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5492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316152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427920" y="1413000"/>
            <a:ext cx="316152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3976C-750D-426C-B3B8-6F4C0163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5492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BBDA9-A167-4DA0-BD21-DEDE9FBD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7640" y="115560"/>
            <a:ext cx="8854920" cy="56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04A54-2E98-43BF-A47A-EAE99BDA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5492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427920" y="1413000"/>
            <a:ext cx="316152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8000" y="366876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CCA56-3545-42B4-8C26-985E0C4F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5492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316152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27920" y="141300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920" y="366876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B2681-F18A-42F5-9ACF-28CD67CE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5492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920" y="141300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8000" y="3668760"/>
            <a:ext cx="6478560" cy="20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62D6F-FAD8-462D-91A6-A66085BE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05492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6.7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BA0BAA7-5840-4F90-A7A4-844EDFB96F1F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4617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4617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4617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4617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4617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4617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4617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6.7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16F2860-DB64-4B24-9158-9EE067EA4159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5492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08000" y="1413000"/>
            <a:ext cx="647856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4617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  <a:p>
            <a:pPr lvl="1" marL="315360" indent="-315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4617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  <a:p>
            <a:pPr lvl="2" marL="315360" indent="-315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4617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  <a:p>
            <a:pPr lvl="3" marL="315360" indent="-315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4617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  <a:p>
            <a:pPr lvl="4" marL="315360" indent="-315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4617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  <a:p>
            <a:pPr lvl="5" marL="315360" indent="-315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4617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  <a:p>
            <a:pPr lvl="6" marL="315360" indent="-315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4617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4617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189000"/>
            <a:ext cx="705636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46172"/>
                </a:solidFill>
                <a:latin typeface="Calibri"/>
              </a:rPr>
              <a:t>Устройство компьюте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8000" y="115920"/>
            <a:ext cx="88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46172"/>
                </a:solidFill>
                <a:latin typeface="Calibri"/>
              </a:rPr>
              <a:t>Внутренние узлы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720" y="13399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21956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80000" y="1482840"/>
            <a:ext cx="21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rcRect l="0" t="0" r="0" b="8023"/>
          <a:stretch/>
        </p:blipFill>
        <p:spPr>
          <a:xfrm>
            <a:off x="574560" y="2273400"/>
            <a:ext cx="2305080" cy="2119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36720" y="1511280"/>
            <a:ext cx="1942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еративная пам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414972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35280" y="1800360"/>
            <a:ext cx="6119640" cy="18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наряду с памятью накопительной (жесткий диск), являются накопительными устройствами, и необходимы для хранения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8000" y="115920"/>
            <a:ext cx="88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46172"/>
                </a:solidFill>
                <a:latin typeface="Calibri"/>
              </a:rPr>
              <a:t>Внутренние узлы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36720" y="13399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53080" y="421956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80000" y="1482840"/>
            <a:ext cx="21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36720" y="1511280"/>
            <a:ext cx="1942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цес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414972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49440" y="2319480"/>
            <a:ext cx="2087280" cy="1568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836800" y="2232000"/>
            <a:ext cx="63072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цессор - это устройство, предназначенные для обработки чего-либ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8000" y="115920"/>
            <a:ext cx="88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46172"/>
                </a:solidFill>
                <a:latin typeface="Calibri"/>
              </a:rPr>
              <a:t>Внутренние узлы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6720" y="13399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3640" y="1655640"/>
            <a:ext cx="21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сков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0" t="11590" r="0" b="14916"/>
          <a:stretch/>
        </p:blipFill>
        <p:spPr>
          <a:xfrm>
            <a:off x="503280" y="2303640"/>
            <a:ext cx="2438280" cy="1792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168720" y="2376360"/>
            <a:ext cx="575928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исковод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устройство компьютера, позволяющее осуществить чтение/запись информации на носители информ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8000" y="115920"/>
            <a:ext cx="88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46172"/>
                </a:solidFill>
                <a:latin typeface="Calibri"/>
              </a:rPr>
              <a:t>Внутренние узлы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04720" y="2712960"/>
            <a:ext cx="2087640" cy="1535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36720" y="13399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7640" y="191916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лок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80000" y="1482840"/>
            <a:ext cx="21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68720" y="2448000"/>
            <a:ext cx="56880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лок пит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назначен для формирования напряжений питания компьютерны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8000" y="115920"/>
            <a:ext cx="88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46172"/>
                </a:solidFill>
                <a:latin typeface="Calibri"/>
              </a:rPr>
              <a:t>Внутренние узлы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36720" y="13399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7640" y="191916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теринск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80000" y="1482840"/>
            <a:ext cx="21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0" y="2087640"/>
            <a:ext cx="56880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ое предназначе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еринской пла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это обеспечение совместной работы центрального процессора, оперативной памяти, жесткого диска, видеокарты и других устр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6360" y="2673360"/>
            <a:ext cx="3203640" cy="2401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8000" y="115920"/>
            <a:ext cx="88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46172"/>
                </a:solidFill>
                <a:latin typeface="Calibri"/>
              </a:rPr>
              <a:t>Внутренние узлы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36720" y="13399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7640" y="191916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Шлей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80000" y="1482840"/>
            <a:ext cx="21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68720" y="2087640"/>
            <a:ext cx="568800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лейф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это плоская система связи, благодаря которой можно подключать к материнской плате другие необходимые компоненты для нормального функционирования вашего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2833560"/>
            <a:ext cx="3240000" cy="170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8000" y="115920"/>
            <a:ext cx="88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36720" y="13399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7640" y="191916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80000" y="1482840"/>
            <a:ext cx="21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658960"/>
            <a:ext cx="914400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8000" y="115920"/>
            <a:ext cx="88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46172"/>
                </a:solidFill>
                <a:latin typeface="Calibri"/>
              </a:rPr>
              <a:t>Компью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6000" y="1944720"/>
            <a:ext cx="8640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ьютер - это многофункциональное электронное устройство, предназначенное для хранения, обработки и передачи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8000" y="115920"/>
            <a:ext cx="88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46172"/>
                </a:solidFill>
                <a:latin typeface="Calibri"/>
              </a:rPr>
              <a:t>Основные устройства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6761" t="0" r="0" b="0"/>
          <a:stretch/>
        </p:blipFill>
        <p:spPr>
          <a:xfrm>
            <a:off x="663480" y="1560600"/>
            <a:ext cx="1892520" cy="2903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6000" y="4103640"/>
            <a:ext cx="27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ный б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311640" y="1523880"/>
            <a:ext cx="2736720" cy="2652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313080" y="4103640"/>
            <a:ext cx="27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и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128000" y="1800360"/>
            <a:ext cx="1296720" cy="1145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264360" y="3095640"/>
            <a:ext cx="27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ы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rcRect l="0" t="5045" r="0" b="0"/>
          <a:stretch/>
        </p:blipFill>
        <p:spPr>
          <a:xfrm>
            <a:off x="1440000" y="4791240"/>
            <a:ext cx="3168360" cy="1473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655640" y="6191280"/>
            <a:ext cx="27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ви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8000" y="115920"/>
            <a:ext cx="88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46172"/>
                </a:solidFill>
                <a:latin typeface="Calibri"/>
              </a:rPr>
              <a:t>Системный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6761" t="0" r="0" b="0"/>
          <a:stretch/>
        </p:blipFill>
        <p:spPr>
          <a:xfrm>
            <a:off x="663480" y="1560600"/>
            <a:ext cx="1892520" cy="2903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16000" y="4103640"/>
            <a:ext cx="27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ный б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9640" y="2216160"/>
            <a:ext cx="6264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стемный блок 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о главное устройство компьютера, предназначенное для размещения внутренних узлов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8000" y="115920"/>
            <a:ext cx="88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46172"/>
                </a:solidFill>
                <a:latin typeface="Calibri"/>
              </a:rPr>
              <a:t>Мони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60360" y="1440000"/>
            <a:ext cx="2736720" cy="2652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60360" y="4092480"/>
            <a:ext cx="273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и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79640" y="1820880"/>
            <a:ext cx="619128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Georgi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Georgia"/>
              </a:rPr>
              <a:t>Монито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Georgia"/>
              </a:rPr>
              <a:t> – это устройство для вывода зрительной информации на экр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8000" y="115920"/>
            <a:ext cx="88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46172"/>
                </a:solidFill>
                <a:latin typeface="Calibri"/>
              </a:rPr>
              <a:t>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0360" y="4092480"/>
            <a:ext cx="273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ы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68720" y="1820880"/>
            <a:ext cx="59040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Georgia"/>
              </a:rPr>
              <a:t>Мыш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Georgia"/>
              </a:rPr>
              <a:t>  - это устройство предназначенное для управления компьют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47640" y="1871640"/>
            <a:ext cx="2303640" cy="2036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5920"/>
            <a:ext cx="88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46172"/>
                </a:solidFill>
                <a:latin typeface="Calibri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0360" y="4092480"/>
            <a:ext cx="273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ви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11640" y="2016000"/>
            <a:ext cx="590364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Georgia"/>
              </a:rPr>
              <a:t>Клавиатур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Georgia"/>
              </a:rPr>
              <a:t> – это устройство для ввода текстовой и числовой информации в память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0" t="5045" r="0" b="0"/>
          <a:stretch/>
        </p:blipFill>
        <p:spPr>
          <a:xfrm>
            <a:off x="287280" y="2414520"/>
            <a:ext cx="3168720" cy="147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700360" y="3024360"/>
            <a:ext cx="3203640" cy="2401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8000" y="115920"/>
            <a:ext cx="88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46172"/>
                </a:solidFill>
                <a:latin typeface="Calibri"/>
              </a:rPr>
              <a:t>Внутренние узлы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3080" y="1414440"/>
            <a:ext cx="2028600" cy="1609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44360" y="3505320"/>
            <a:ext cx="2087640" cy="1535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36720" y="13399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6360" y="415116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80000" y="1482840"/>
            <a:ext cx="21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rcRect l="0" t="0" r="0" b="8023"/>
          <a:stretch/>
        </p:blipFill>
        <p:spPr>
          <a:xfrm>
            <a:off x="2160720" y="1336680"/>
            <a:ext cx="2087280" cy="1830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6983280" y="1368360"/>
            <a:ext cx="2087640" cy="1568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rcRect l="0" t="11590" r="0" b="14916"/>
          <a:stretch/>
        </p:blipFill>
        <p:spPr>
          <a:xfrm>
            <a:off x="4473720" y="1376280"/>
            <a:ext cx="2438280" cy="1792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26920" y="414972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1584360" y="5040360"/>
            <a:ext cx="3240000" cy="170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8000" y="115920"/>
            <a:ext cx="88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46172"/>
                </a:solidFill>
                <a:latin typeface="Calibri"/>
              </a:rPr>
              <a:t>Внутренние узлы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76360" y="1943280"/>
            <a:ext cx="2663640" cy="2114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36720" y="13399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Жёсткий ди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421956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80000" y="1482840"/>
            <a:ext cx="21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414972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00360" y="1871640"/>
            <a:ext cx="518472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Жесткий диск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является важной частью компьютера, на нем хранятся все ваши файлы, фотографии, фильмы. Именно с него и загружается операционная сист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