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32.png" ContentType="image/png"/>
  <Override PartName="/ppt/media/image1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8.jpeg" ContentType="image/jpeg"/>
  <Override PartName="/ppt/media/image40.jpeg" ContentType="image/jpeg"/>
  <Override PartName="/ppt/media/image41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43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7.png" ContentType="image/png"/>
  <Override PartName="/ppt/media/image3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0FF-5750-49D0-BA47-BA770CE1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335-8C0E-460F-BD0A-5BC7DD7E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731-CA63-49B0-A448-84D0ECD0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3C2-D855-4AC7-9882-C88A5F35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5DB-0584-41F9-B195-0BD6F37C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85A-9944-4D19-8FFA-CF243FE3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46C-7DD1-47D0-806D-08E14F87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4A6-E8C5-4566-B7F6-7562F25C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CB3-141A-4B15-9128-F0939DFA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7F0-7DCB-41F3-BF96-80AA5B21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1AE-7230-4862-8889-C72FC019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BF0-24B3-4676-8B7A-89D089EC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1B6A-E68C-4F25-A2AA-41D486F5C20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Алексей Гордеев вступил в битву за Воронеж"/>
          <p:cNvPicPr/>
          <p:nvPr/>
        </p:nvPicPr>
        <p:blipFill>
          <a:blip r:embed="rId2"/>
          <a:stretch/>
        </p:blipFill>
        <p:spPr>
          <a:xfrm>
            <a:off x="1143000" y="1071720"/>
            <a:ext cx="7024680" cy="46432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143000" y="785880"/>
            <a:ext cx="70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Отступая из Воронежа, в январе 1943 года фашисты взорвали все крупные здания города, заводы. 212 дней и ночей город стоял на передовой, изрешеченный пулями и осколками, разбомбленный, сожженный, но не сломленный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8" descr="https://encrypted-tbn1.gstatic.com/images?q=tbn:ANd9GcRUeNGnsEwucczF1hV5HtG3Our4kXBzyuP9bg7x8AQGv5oyCD6udA"/>
          <p:cNvPicPr/>
          <p:nvPr/>
        </p:nvPicPr>
        <p:blipFill>
          <a:blip r:embed="rId1"/>
          <a:stretch/>
        </p:blipFill>
        <p:spPr>
          <a:xfrm>
            <a:off x="857160" y="3286080"/>
            <a:ext cx="3171960" cy="244800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75" name="Picture 4" descr="C:\Documents and Settings\Admin\Рабочий стол\урок воронеж\tmp389B-44b.gif"/>
          <p:cNvPicPr/>
          <p:nvPr/>
        </p:nvPicPr>
        <p:blipFill>
          <a:blip r:embed="rId2"/>
          <a:stretch/>
        </p:blipFill>
        <p:spPr>
          <a:xfrm>
            <a:off x="4714920" y="3286080"/>
            <a:ext cx="3139920" cy="241128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642960" y="571680"/>
            <a:ext cx="3786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Один из советских бойцов, вошедших в освобождённый Воронеж, вспоминал: «Мы двигались по проспекту Революции. И не встретили ни одной живой души… Город был мёртв. Всюду горы развалин и чёрные остовы домов… Так мы прошли на запад по безжизненному городу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s://upload.wikimedia.org/wikipedia/ru/5/5e/Ermolaev_a_na_rodnye_mesta.jpg"/>
          <p:cNvPicPr/>
          <p:nvPr/>
        </p:nvPicPr>
        <p:blipFill>
          <a:blip r:embed="rId1"/>
          <a:stretch/>
        </p:blipFill>
        <p:spPr>
          <a:xfrm>
            <a:off x="714240" y="3500280"/>
            <a:ext cx="4011840" cy="2428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78" name="Прямоугольник 3"/>
          <p:cNvSpPr/>
          <p:nvPr/>
        </p:nvSpPr>
        <p:spPr>
          <a:xfrm>
            <a:off x="5000760" y="4071960"/>
            <a:ext cx="3571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25 января 1943 г. в Воронеж начали возвращаться мирные жител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К 1 марта в свои дома вернулись уже около 10 тыс. воронежцев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4" descr="http://janarmenian.ru/wp-content/uploads/2013/01/Screen-shot-2013-01-25-at-1.jpeg"/>
          <p:cNvPicPr/>
          <p:nvPr/>
        </p:nvPicPr>
        <p:blipFill>
          <a:blip r:embed="rId2"/>
          <a:stretch/>
        </p:blipFill>
        <p:spPr>
          <a:xfrm>
            <a:off x="4143240" y="642960"/>
            <a:ext cx="4314960" cy="2214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785880" y="71424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Никто не забыт, ничто не забыто. Об этом говорят названия многих улиц и других мест города, имена которых оставили отважные защитники города. Вот некоторые из этих имен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http://img-fotki.yandex.ru/get/6203/22264419.a8/0_623ab_200480ee_XXL.jpg"/>
          <p:cNvPicPr/>
          <p:nvPr/>
        </p:nvPicPr>
        <p:blipFill>
          <a:blip r:embed="rId1"/>
          <a:stretch/>
        </p:blipFill>
        <p:spPr>
          <a:xfrm>
            <a:off x="1785960" y="1928880"/>
            <a:ext cx="5538600" cy="415440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14240" y="1428840"/>
            <a:ext cx="357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Воротами в наш город можно назвать площадь у вокзала, названная в честь самого молодого генерала Ивана Даниловича Черняховского командующего 60-й армией, которая приняла участие в Воронежско - Касторненской операции. Эта армия остановила наступление фашистов на восток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C:\Documents and Settings\Admin\Рабочий стол\урок воронеж\062-46.jpg"/>
          <p:cNvPicPr/>
          <p:nvPr/>
        </p:nvPicPr>
        <p:blipFill>
          <a:blip r:embed="rId1"/>
          <a:stretch/>
        </p:blipFill>
        <p:spPr>
          <a:xfrm>
            <a:off x="4857840" y="785880"/>
            <a:ext cx="3151080" cy="5111640"/>
          </a:xfrm>
          <a:prstGeom prst="rect">
            <a:avLst/>
          </a:prstGeom>
          <a:ln w="57240">
            <a:solidFill>
              <a:srgbClr val="ffff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Admin\Рабочий стол\урок воронеж\article_image-image-article.jpg"/>
          <p:cNvPicPr/>
          <p:nvPr/>
        </p:nvPicPr>
        <p:blipFill>
          <a:blip r:embed="rId1"/>
          <a:stretch/>
        </p:blipFill>
        <p:spPr>
          <a:xfrm>
            <a:off x="642960" y="571680"/>
            <a:ext cx="1965240" cy="2484360"/>
          </a:xfrm>
          <a:prstGeom prst="rect">
            <a:avLst/>
          </a:prstGeom>
          <a:ln w="28440">
            <a:solidFill>
              <a:srgbClr val="ffff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Box 2"/>
          <p:cNvSpPr/>
          <p:nvPr/>
        </p:nvSpPr>
        <p:spPr>
          <a:xfrm>
            <a:off x="3429000" y="785880"/>
            <a:ext cx="435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TextBox 3" descr=""/>
          <p:cNvPicPr/>
          <p:nvPr/>
        </p:nvPicPr>
        <p:blipFill>
          <a:blip r:embed="rId2"/>
          <a:stretch/>
        </p:blipFill>
        <p:spPr>
          <a:xfrm>
            <a:off x="2846520" y="512640"/>
            <a:ext cx="5224320" cy="2200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Documents and Settings\Admin\Рабочий стол\урок воронеж\L Ryabc'eva.png"/>
          <p:cNvPicPr/>
          <p:nvPr/>
        </p:nvPicPr>
        <p:blipFill>
          <a:blip r:embed="rId3"/>
          <a:stretch/>
        </p:blipFill>
        <p:spPr>
          <a:xfrm>
            <a:off x="6000840" y="3429000"/>
            <a:ext cx="2060640" cy="248436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TextBox 5" descr=""/>
          <p:cNvPicPr/>
          <p:nvPr/>
        </p:nvPicPr>
        <p:blipFill>
          <a:blip r:embed="rId4"/>
          <a:stretch/>
        </p:blipFill>
        <p:spPr>
          <a:xfrm>
            <a:off x="560520" y="3584520"/>
            <a:ext cx="48765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Documents and Settings\Admin\Рабочий стол\урок воронеж\pic15126442.jpg"/>
          <p:cNvPicPr/>
          <p:nvPr/>
        </p:nvPicPr>
        <p:blipFill>
          <a:blip r:embed="rId1"/>
          <a:stretch/>
        </p:blipFill>
        <p:spPr>
          <a:xfrm>
            <a:off x="2071800" y="785880"/>
            <a:ext cx="4638600" cy="309564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2"/>
          <p:cNvSpPr/>
          <p:nvPr/>
        </p:nvSpPr>
        <p:spPr>
          <a:xfrm>
            <a:off x="857160" y="442908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В Северном районе стоит памятник Александру Лизюкову: был командиром 5-й танковой армии. Со своей армией помогал в обороне, на стыке фронтов. Это сражение было главным и последним в его боевом пути. Он погиб в 1942 год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1" descr=""/>
          <p:cNvPicPr/>
          <p:nvPr/>
        </p:nvPicPr>
        <p:blipFill>
          <a:blip r:embed="rId1"/>
          <a:stretch/>
        </p:blipFill>
        <p:spPr>
          <a:xfrm>
            <a:off x="1006560" y="622440"/>
            <a:ext cx="6931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maxpark.com/static/u/article_image/12/05/02/tmpnreA1c.jpeg"/>
          <p:cNvPicPr/>
          <p:nvPr/>
        </p:nvPicPr>
        <p:blipFill>
          <a:blip r:embed="rId2"/>
          <a:stretch/>
        </p:blipFill>
        <p:spPr>
          <a:xfrm>
            <a:off x="1357200" y="2071800"/>
            <a:ext cx="6249960" cy="3311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www.innoros.ru/sites/default/files/interesting/%D0%BF%D0%BB%D0%B0%D1%86%D0%B4%D0%B0%D1%80%D0%BC.png"/>
          <p:cNvPicPr/>
          <p:nvPr/>
        </p:nvPicPr>
        <p:blipFill>
          <a:blip r:embed="rId1"/>
          <a:stretch/>
        </p:blipFill>
        <p:spPr>
          <a:xfrm>
            <a:off x="571680" y="571680"/>
            <a:ext cx="3593880" cy="3492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94" name="Прямоугольник 3"/>
          <p:cNvSpPr/>
          <p:nvPr/>
        </p:nvSpPr>
        <p:spPr>
          <a:xfrm>
            <a:off x="4357800" y="571680"/>
            <a:ext cx="3857400" cy="580680"/>
          </a:xfrm>
          <a:prstGeom prst="rect">
            <a:avLst/>
          </a:prstGeom>
          <a:gradFill rotWithShape="0">
            <a:gsLst>
              <a:gs pos="0">
                <a:srgbClr val="ace6f3"/>
              </a:gs>
              <a:gs pos="100000">
                <a:srgbClr val="e8f8fc"/>
              </a:gs>
            </a:gsLst>
            <a:lin ang="16200000"/>
          </a:gradFill>
          <a:ln w="9360">
            <a:solidFill>
              <a:srgbClr val="56a0a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АМЯТНИК В ЧЕСТЬ ОБОРОНЫ ЧИЖОВСКОГО ПЛАЦДАРМА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572000" y="1643040"/>
            <a:ext cx="36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Мемориальный комплекс создан в память о советских воинах, погибших в июле 1942 – январе 1943 г. на Чижовском плацдарме. Он размещен у братской могилы, в которой захоронено более 10 000 человек, но известны фамилии только 3545 человек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785880" y="457200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718 фамилий героев числится в Книге вечной памяти мемориала “Чижовский плацдарм”. Это самое большое захоронение времен Великой Отечественной войны в г. Воронеж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https://encrypted-tbn1.gstatic.com/images?q=tbn:ANd9GcT0bZEfAsjFGAXzygOfzf_wLIVCj5rBhewe4iblKxVduIRqZE1vcQ"/>
          <p:cNvPicPr/>
          <p:nvPr/>
        </p:nvPicPr>
        <p:blipFill>
          <a:blip r:embed="rId1"/>
          <a:stretch/>
        </p:blipFill>
        <p:spPr>
          <a:xfrm>
            <a:off x="2214720" y="1071720"/>
            <a:ext cx="4547880" cy="31683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98" name="TextBox 2" descr=""/>
          <p:cNvPicPr/>
          <p:nvPr/>
        </p:nvPicPr>
        <p:blipFill>
          <a:blip r:embed="rId2"/>
          <a:stretch/>
        </p:blipFill>
        <p:spPr>
          <a:xfrm>
            <a:off x="1347840" y="4797360"/>
            <a:ext cx="6589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s://encrypted-tbn2.gstatic.com/images?q=tbn:ANd9GcQzvyhV16i28M4LKDuRlvNaPoZzH_ai4KIiYeB-_ytzJHpcSlCC"/>
          <p:cNvPicPr/>
          <p:nvPr/>
        </p:nvPicPr>
        <p:blipFill>
          <a:blip r:embed="rId1"/>
          <a:stretch/>
        </p:blipFill>
        <p:spPr>
          <a:xfrm>
            <a:off x="2000160" y="1071720"/>
            <a:ext cx="4592880" cy="2952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00" name="TextBox 2" descr=""/>
          <p:cNvPicPr/>
          <p:nvPr/>
        </p:nvPicPr>
        <p:blipFill>
          <a:blip r:embed="rId2"/>
          <a:stretch/>
        </p:blipFill>
        <p:spPr>
          <a:xfrm>
            <a:off x="774720" y="4297320"/>
            <a:ext cx="77598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450720" y="517680"/>
            <a:ext cx="8242560" cy="90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00040" y="1356840"/>
            <a:ext cx="4214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Воскресное утро выдалось солнечным, тёплым, тихим. Но вдруг в мирную тишину ворвался из уличных репродукторов тревожный громкий голос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-Германские войска без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предупреждения напали на нашу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страну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ВОЙНА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2"/>
          <a:stretch/>
        </p:blipFill>
        <p:spPr>
          <a:xfrm>
            <a:off x="4572000" y="1352520"/>
            <a:ext cx="3992400" cy="478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ttp://www.arms-expo.ru/img/233/2339723.jpg"/>
          <p:cNvPicPr/>
          <p:nvPr/>
        </p:nvPicPr>
        <p:blipFill>
          <a:blip r:embed="rId3"/>
          <a:stretch/>
        </p:blipFill>
        <p:spPr>
          <a:xfrm>
            <a:off x="1071720" y="3714840"/>
            <a:ext cx="3143160" cy="22683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46" name="Picture 7" descr="http://roshero.ru/wp-content/uploads/2013/06/03_mw1024_n_s.jpg"/>
          <p:cNvPicPr/>
          <p:nvPr/>
        </p:nvPicPr>
        <p:blipFill>
          <a:blip r:embed="rId4"/>
          <a:stretch/>
        </p:blipFill>
        <p:spPr>
          <a:xfrm>
            <a:off x="5072040" y="1285920"/>
            <a:ext cx="3024360" cy="22683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dic.academic.ru/pictures/wiki/files/86/Vladimir_Putin_6_May_2008-2.jpg"/>
          <p:cNvPicPr/>
          <p:nvPr/>
        </p:nvPicPr>
        <p:blipFill>
          <a:blip r:embed="rId1"/>
          <a:stretch/>
        </p:blipFill>
        <p:spPr>
          <a:xfrm>
            <a:off x="1500120" y="1000080"/>
            <a:ext cx="5573880" cy="3600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2" name="TextBox 2" descr=""/>
          <p:cNvPicPr/>
          <p:nvPr/>
        </p:nvPicPr>
        <p:blipFill>
          <a:blip r:embed="rId2"/>
          <a:stretch/>
        </p:blipFill>
        <p:spPr>
          <a:xfrm>
            <a:off x="774720" y="5010120"/>
            <a:ext cx="77230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s://encrypted-tbn3.gstatic.com/images?q=tbn:ANd9GcRjGTi36Z6ywZtHcxnF3cH70GT7czst_vfbyltQioey44_the02xg"/>
          <p:cNvPicPr/>
          <p:nvPr/>
        </p:nvPicPr>
        <p:blipFill>
          <a:blip r:embed="rId1"/>
          <a:stretch/>
        </p:blipFill>
        <p:spPr>
          <a:xfrm>
            <a:off x="2500200" y="3071880"/>
            <a:ext cx="4057920" cy="26686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04" name="TextBox 2" descr=""/>
          <p:cNvPicPr/>
          <p:nvPr/>
        </p:nvPicPr>
        <p:blipFill>
          <a:blip r:embed="rId2"/>
          <a:stretch/>
        </p:blipFill>
        <p:spPr>
          <a:xfrm>
            <a:off x="1206360" y="762120"/>
            <a:ext cx="67914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5041800" y="1206360"/>
            <a:ext cx="347976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Текст 3" descr=""/>
          <p:cNvPicPr/>
          <p:nvPr/>
        </p:nvPicPr>
        <p:blipFill>
          <a:blip r:embed="rId2"/>
          <a:stretch/>
        </p:blipFill>
        <p:spPr>
          <a:xfrm>
            <a:off x="682560" y="4133880"/>
            <a:ext cx="4035600" cy="730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p23"/>
          <p:cNvPicPr/>
          <p:nvPr/>
        </p:nvPicPr>
        <p:blipFill>
          <a:blip r:embed="rId3"/>
          <a:srcRect l="0" t="12933" r="0" b="12933"/>
          <a:stretch/>
        </p:blipFill>
        <p:spPr>
          <a:xfrm>
            <a:off x="928800" y="1071720"/>
            <a:ext cx="3693960" cy="2052360"/>
          </a:xfrm>
          <a:prstGeom prst="rect">
            <a:avLst/>
          </a:prstGeom>
          <a:ln w="50760">
            <a:solidFill>
              <a:srgbClr val="ffff66"/>
            </a:solidFill>
            <a:miter/>
          </a:ln>
        </p:spPr>
      </p:pic>
      <p:pic>
        <p:nvPicPr>
          <p:cNvPr id="50" name="Picture 4" descr="p103"/>
          <p:cNvPicPr/>
          <p:nvPr/>
        </p:nvPicPr>
        <p:blipFill>
          <a:blip r:embed="rId4"/>
          <a:stretch/>
        </p:blipFill>
        <p:spPr>
          <a:xfrm>
            <a:off x="4857840" y="3500280"/>
            <a:ext cx="3254400" cy="230364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1"/>
          <a:stretch/>
        </p:blipFill>
        <p:spPr>
          <a:xfrm>
            <a:off x="560520" y="792000"/>
            <a:ext cx="3230280" cy="139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p41"/>
          <p:cNvPicPr/>
          <p:nvPr/>
        </p:nvPicPr>
        <p:blipFill>
          <a:blip r:embed="rId2"/>
          <a:stretch/>
        </p:blipFill>
        <p:spPr>
          <a:xfrm>
            <a:off x="4357800" y="625320"/>
            <a:ext cx="3502080" cy="262764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  <p:pic>
        <p:nvPicPr>
          <p:cNvPr id="53" name="TextBox 3" descr=""/>
          <p:cNvPicPr/>
          <p:nvPr/>
        </p:nvPicPr>
        <p:blipFill>
          <a:blip r:embed="rId3"/>
          <a:stretch/>
        </p:blipFill>
        <p:spPr>
          <a:xfrm>
            <a:off x="560520" y="2219400"/>
            <a:ext cx="363348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encrypted-tbn1.gstatic.com/images?q=tbn:ANd9GcRfpE2SNKeASkj97xZbTsuZiHDWWXZ2GntASZgZVNrjOTiOfkKT"/>
          <p:cNvPicPr/>
          <p:nvPr/>
        </p:nvPicPr>
        <p:blipFill>
          <a:blip r:embed="rId4"/>
          <a:stretch/>
        </p:blipFill>
        <p:spPr>
          <a:xfrm>
            <a:off x="714240" y="3357720"/>
            <a:ext cx="3510000" cy="262728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  <p:sp>
        <p:nvSpPr>
          <p:cNvPr id="55" name="TextBox 5"/>
          <p:cNvSpPr/>
          <p:nvPr/>
        </p:nvSpPr>
        <p:spPr>
          <a:xfrm>
            <a:off x="4500720" y="3929040"/>
            <a:ext cx="3714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Многие остались без крыши над головой и имущества, потому что их дома были разрушены взрывами снарядов. Много человек погибло под обстрелами и под развалинами домов</a:t>
            </a:r>
            <a:r>
              <a:rPr b="1" lang="ru-RU" sz="1600" spc="-1" strike="noStrike">
                <a:solidFill>
                  <a:srgbClr val="00ffff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811080" y="835200"/>
            <a:ext cx="7053480" cy="75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Admin\Рабочий стол\урок воронеж\old_voronezh_075.jpg"/>
          <p:cNvPicPr/>
          <p:nvPr/>
        </p:nvPicPr>
        <p:blipFill>
          <a:blip r:embed="rId2"/>
          <a:stretch/>
        </p:blipFill>
        <p:spPr>
          <a:xfrm>
            <a:off x="1643040" y="1857240"/>
            <a:ext cx="5781600" cy="388800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42960" y="1214280"/>
            <a:ext cx="6858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642960" y="1071720"/>
            <a:ext cx="36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С 7 июля 1942 г. по 25 января 1943  правобережная часть Воронежа была оккупирована немецко-фашистскими войскам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5" descr="ф"/>
          <p:cNvPicPr/>
          <p:nvPr/>
        </p:nvPicPr>
        <p:blipFill>
          <a:blip r:embed="rId1"/>
          <a:stretch/>
        </p:blipFill>
        <p:spPr>
          <a:xfrm>
            <a:off x="4786200" y="714240"/>
            <a:ext cx="3495960" cy="23306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61" name="Picture 4" descr="в воронеже ф"/>
          <p:cNvPicPr/>
          <p:nvPr/>
        </p:nvPicPr>
        <p:blipFill>
          <a:blip r:embed="rId2"/>
          <a:stretch/>
        </p:blipFill>
        <p:spPr>
          <a:xfrm>
            <a:off x="785880" y="3214800"/>
            <a:ext cx="3500280" cy="2357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2" name="Прямоугольник 8"/>
          <p:cNvSpPr/>
          <p:nvPr/>
        </p:nvSpPr>
        <p:spPr>
          <a:xfrm>
            <a:off x="5072040" y="3643200"/>
            <a:ext cx="2786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Фронт разделил город на две части.  Гитлер приказал: «Не уходить из Воронежа добровольно! Захватить город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71680" y="64296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Там, где территорию захватывали немцы, люди уходили в леса и создавали партизанские отряды. В отрядах были мужчины, которых не взяли на фронт по состоянию здоровья, женщины и подростк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p43"/>
          <p:cNvPicPr/>
          <p:nvPr/>
        </p:nvPicPr>
        <p:blipFill>
          <a:blip r:embed="rId1"/>
          <a:stretch/>
        </p:blipFill>
        <p:spPr>
          <a:xfrm>
            <a:off x="4929120" y="714240"/>
            <a:ext cx="3208320" cy="2303640"/>
          </a:xfrm>
          <a:prstGeom prst="rect">
            <a:avLst/>
          </a:prstGeom>
          <a:ln w="50760">
            <a:solidFill>
              <a:srgbClr val="ffff66"/>
            </a:solidFill>
            <a:miter/>
          </a:ln>
        </p:spPr>
      </p:pic>
      <p:sp>
        <p:nvSpPr>
          <p:cNvPr id="65" name="TextBox 3"/>
          <p:cNvSpPr/>
          <p:nvPr/>
        </p:nvSpPr>
        <p:spPr>
          <a:xfrm>
            <a:off x="571680" y="2286000"/>
            <a:ext cx="40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Тяжело приходилось бойцам на фронте. </a:t>
            </a:r>
            <a:br>
              <a:rPr sz="1600"/>
            </a:b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Трудно было людям и в тылу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071880" y="3714840"/>
            <a:ext cx="1857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Arial"/>
                <a:ea typeface="Arial"/>
              </a:rPr>
              <a:t>Люди голодали. Многие дети лишились своих родителе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http://www.gornovosti.ru/static/images/archive/2550/deti-voiny2.jpg"/>
          <p:cNvPicPr/>
          <p:nvPr/>
        </p:nvPicPr>
        <p:blipFill>
          <a:blip r:embed="rId2"/>
          <a:stretch/>
        </p:blipFill>
        <p:spPr>
          <a:xfrm>
            <a:off x="4929120" y="3429000"/>
            <a:ext cx="3272040" cy="244800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  <p:pic>
        <p:nvPicPr>
          <p:cNvPr id="68" name="Picture 8" descr="http://www.faceoftime.ru/wp-content/uploads/2012/09/%D0%B013.jpg"/>
          <p:cNvPicPr/>
          <p:nvPr/>
        </p:nvPicPr>
        <p:blipFill>
          <a:blip r:embed="rId3"/>
          <a:stretch/>
        </p:blipFill>
        <p:spPr>
          <a:xfrm>
            <a:off x="642960" y="3357720"/>
            <a:ext cx="2387520" cy="255564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placdarm1942.ru/upload/medialibrary/8bb/img1.jpg"/>
          <p:cNvPicPr/>
          <p:nvPr/>
        </p:nvPicPr>
        <p:blipFill>
          <a:blip r:embed="rId1"/>
          <a:stretch/>
        </p:blipFill>
        <p:spPr>
          <a:xfrm>
            <a:off x="1643040" y="1143000"/>
            <a:ext cx="5607000" cy="262728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70" name="TextBox 2"/>
          <p:cNvSpPr/>
          <p:nvPr/>
        </p:nvSpPr>
        <p:spPr>
          <a:xfrm>
            <a:off x="1571760" y="421488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Franklin Gothic Book"/>
              </a:rPr>
              <a:t>Тяжелые бои за Чижовку длились днем и ночью 204 суток – с 6 июля 1942 г. до освобождения города – 25 января 1943 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785880" y="371484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До 25 января 1943 г.советские войска обороняли Воронеж, выполняя важную задачу — прикрывали Москву с юга и сковывали силы венгерских дивизий. В ходе  наступательных операций силами Воронежского фронта были разгромлены 2-я немецкая, 8-я итальянская и 2-я венгерская армии. При этом потери немецких войск составили 320 тысяч солдат и офицеров. Под Воронежем были разгромлены 26 немецких дивизий. 25 января 1945 г. Воронеж был освобожден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9" descr="освободение Воронежа"/>
          <p:cNvPicPr/>
          <p:nvPr/>
        </p:nvPicPr>
        <p:blipFill>
          <a:blip r:embed="rId1"/>
          <a:stretch/>
        </p:blipFill>
        <p:spPr>
          <a:xfrm>
            <a:off x="1928880" y="714240"/>
            <a:ext cx="4952880" cy="2924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10:15:01Z</dcterms:created>
  <dc:creator>Татьяна</dc:creator>
  <dc:description/>
  <dc:language>en-US</dc:language>
  <cp:lastModifiedBy>Windows User</cp:lastModifiedBy>
  <dcterms:modified xsi:type="dcterms:W3CDTF">2020-07-06T15:29:32Z</dcterms:modified>
  <cp:revision>39</cp:revision>
  <dc:subject/>
  <dc:title>Слайд 1</dc:title>
</cp:coreProperties>
</file>