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2FD8-EA2D-4A42-8BD0-49E21DD262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6E1EE-5850-4884-907B-49977A37484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08F8-920E-4D8A-B8A4-82546016C9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530E-420C-4C21-98CA-D57BEA266C2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CB6F-F6AA-4A9E-B8CC-092C626174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7D8F-F382-48FF-AD36-E3B64773A27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4DEF-1445-41F1-9971-3C1B27AFC2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49D6-5535-4491-A9DE-80B1EA5714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AE27-479F-41EB-87C5-3B20272B912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E5B7-ADB0-4FAE-86B5-5CA8AF2E37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BC7B-145E-4FC0-9C89-014A8F1E2BA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32BB-6828-49AA-908A-9F18A97062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EBBA-37C7-434E-9738-2BF38A2AEA8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E57D-98C5-4A1D-A2F4-6624BB9D52F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4E96-6D03-41F6-A87F-7BA79A2AD2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2F6C-0AD1-4E57-8121-E790D74D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F00-2AAE-4C2E-B351-B7AB83EB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53E1-1ADA-43FF-AD8E-598A20DD1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58AD-3C1E-4BD3-868E-88BF14E9E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70671-7E35-477A-9E4D-91695BD68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3CC3C-320B-42FE-B8A8-167C1631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CFFFC-11A2-4D0E-B7FA-CAA96F6B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9BAAC-358D-4D1C-8352-1AF607E3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E6C3-8F67-402F-ABCB-E30B5ECA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D064-3425-43D5-8DD0-2B2FEF82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DB1A-C67B-4BA5-8257-4B918A45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192-7D98-4BAF-A951-341810B8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786F-9C85-4D75-86F4-82D752FB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77BFB-64BD-4F99-B543-78FC8FE4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EFF0-7CF2-40E3-A22D-C4B60734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1049C-4651-4D88-9E3A-805B1F8D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1ECEC-2092-4C9A-BCF0-1FD7BEFB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90B7-6AAF-4DC3-BA3B-7497208FF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CBD6-533E-4C86-9BD3-32EFF130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631-4239-4372-938C-1BAAA2C7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BD63-E7AB-48D8-97C7-25AFBE89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E59-EE8C-4CF2-8342-81C61303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91A6-20DC-4F98-A8B4-F507DC10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E0EB-B4D1-46F7-894A-2FE63FDC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682B-8ECF-4971-AEF2-DD26305704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8A16-B811-4859-9344-53EA4F7538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2920" y="203688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36640" y="706320"/>
            <a:ext cx="747072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МБОУ «Партизанская средняя общеобразовательная школа имени П.П.Петрова»</a:t>
            </a:r>
            <a:br>
              <a:rPr sz="3600"/>
            </a:b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Чурикова Дарья Дмитриевна</a:t>
            </a:r>
            <a:br>
              <a:rPr sz="3600"/>
            </a:b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9 лет 3 Б класс</a:t>
            </a:r>
            <a:br>
              <a:rPr sz="3600"/>
            </a:br>
            <a:r>
              <a:rPr b="0" lang="ru-RU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«И мужество, как знамя пронесли…»</a:t>
            </a:r>
            <a:br>
              <a:rPr sz="4000"/>
            </a:b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Руко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Салтыкова Людмила Александро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Melodiya_bez_slov_-_melodiya_(iPleer.fm).mp3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РОГА ДОМ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Picture 8" descr="An12Afga001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462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ВОД ВОЙСК ИЗ АФГАНИСТА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6" descr="image2"/>
          <p:cNvPicPr/>
          <p:nvPr/>
        </p:nvPicPr>
        <p:blipFill>
          <a:blip r:embed="rId1"/>
          <a:stretch/>
        </p:blipFill>
        <p:spPr>
          <a:xfrm>
            <a:off x="612720" y="1990800"/>
            <a:ext cx="3814920" cy="3603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image4"/>
          <p:cNvPicPr/>
          <p:nvPr/>
        </p:nvPicPr>
        <p:blipFill>
          <a:blip r:embed="rId2"/>
          <a:stretch/>
        </p:blipFill>
        <p:spPr>
          <a:xfrm>
            <a:off x="4930920" y="1990800"/>
            <a:ext cx="3456000" cy="3530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ОРЫ ПОМНЯТ</a:t>
            </a:r>
            <a:br>
              <a:rPr sz="44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 Чурикова Вера Ивановна (бабушка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Следов не оставляют гор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Но память сердца горы берегут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Как про Афган заходят разговоры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Огнем воспоминанья жг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Мы помним все! Мы не забы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Того, что довелось нам испытать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И хоть с тобою мы мальчишки был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Пришлось нам «духам» противостоя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-40795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Мы помним рейсы под обстрелом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Когда зеленка щерилась огн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При завываньи духов оголтел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В Афган таскали грузы день за днем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Идя под снайперским прицело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Мы ждали по дороге на Багр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Пока накроют банду артобстрело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И шли в гнездо душманов по гор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В нас время память не стир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И горы, что нас помнят, не солг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Они покой веков оберегаю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И бесконечной лентой дни бегу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0840" y="52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то на память с группой «Голубые береты»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8" descr="image-f5b02350aa6ec4ef388906cf31746f73e4bc234371b88b3e63d999f96f5830ab-V"/>
          <p:cNvPicPr/>
          <p:nvPr/>
        </p:nvPicPr>
        <p:blipFill>
          <a:blip r:embed="rId1"/>
          <a:stretch/>
        </p:blipFill>
        <p:spPr>
          <a:xfrm>
            <a:off x="1042920" y="1700280"/>
            <a:ext cx="6985080" cy="4753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РЕМЯ ВЫБРАЛО НА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-246240" y="15840"/>
            <a:ext cx="9390240" cy="6951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11280" y="762120"/>
            <a:ext cx="4721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ремя выбрало нас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Закружило в Афганской мете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ас позвали друзья в грозный час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ы особую форму наде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в огне черных трудных дор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воей кровью кропили поход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е заметили в вихре тревог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ак минуты прессуются в г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ерность, доблесть, отвага и че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Эти качества не на пока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отчизны героев не счест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ремя выбрало нас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ЙНА В АФГАНИСТАН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6" descr="image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3" name="Melodiya_bez_slov_-_melodiya_(iPleer.f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image"/>
          <p:cNvPicPr/>
          <p:nvPr/>
        </p:nvPicPr>
        <p:blipFill>
          <a:blip r:embed="rId3"/>
          <a:stretch/>
        </p:blipFill>
        <p:spPr>
          <a:xfrm>
            <a:off x="1042920" y="142092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image"/>
          <p:cNvPicPr/>
          <p:nvPr/>
        </p:nvPicPr>
        <p:blipFill>
          <a:blip r:embed="rId4"/>
          <a:stretch/>
        </p:blipFill>
        <p:spPr>
          <a:xfrm>
            <a:off x="1042920" y="142092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age"/>
          <p:cNvPicPr/>
          <p:nvPr/>
        </p:nvPicPr>
        <p:blipFill>
          <a:blip r:embed="rId5"/>
          <a:stretch/>
        </p:blipFill>
        <p:spPr>
          <a:xfrm>
            <a:off x="1042920" y="140652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mage"/>
          <p:cNvPicPr/>
          <p:nvPr/>
        </p:nvPicPr>
        <p:blipFill>
          <a:blip r:embed="rId6"/>
          <a:stretch/>
        </p:blipFill>
        <p:spPr>
          <a:xfrm>
            <a:off x="1042920" y="140328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"/>
          <p:cNvPicPr/>
          <p:nvPr/>
        </p:nvPicPr>
        <p:blipFill>
          <a:blip r:embed="rId7"/>
          <a:stretch/>
        </p:blipFill>
        <p:spPr>
          <a:xfrm>
            <a:off x="1042920" y="1403280"/>
            <a:ext cx="7056360" cy="4835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Чуриков Виктор Николаевич</a:t>
            </a:r>
            <a:br>
              <a:rPr sz="40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1961г.р.</a:t>
            </a:r>
            <a:br>
              <a:rPr sz="40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Срок службы </a:t>
            </a:r>
            <a:br>
              <a:rPr sz="40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1979-1981г</a:t>
            </a:r>
            <a:br>
              <a:rPr sz="40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Место службы-Афганиста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5" descr="image (2)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0600" y="836640"/>
            <a:ext cx="4105080" cy="5472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46040" y="140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ослуживцы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image (1)"/>
          <p:cNvPicPr/>
          <p:nvPr/>
        </p:nvPicPr>
        <p:blipFill>
          <a:blip r:embed="rId1"/>
          <a:stretch/>
        </p:blipFill>
        <p:spPr>
          <a:xfrm>
            <a:off x="898560" y="1022400"/>
            <a:ext cx="7777080" cy="5837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image (4)"/>
          <p:cNvPicPr/>
          <p:nvPr/>
        </p:nvPicPr>
        <p:blipFill>
          <a:blip r:embed="rId1"/>
          <a:stretch/>
        </p:blipFill>
        <p:spPr>
          <a:xfrm>
            <a:off x="2268360" y="189000"/>
            <a:ext cx="4788000" cy="6669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мундирование тех време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9" descr="image (3)"/>
          <p:cNvPicPr/>
          <p:nvPr/>
        </p:nvPicPr>
        <p:blipFill>
          <a:blip r:embed="rId1"/>
          <a:stretch/>
        </p:blipFill>
        <p:spPr>
          <a:xfrm>
            <a:off x="538200" y="1917720"/>
            <a:ext cx="4248000" cy="3963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image (4)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30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фг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7" descr="afghanistan-images-2-large"/>
          <p:cNvPicPr/>
          <p:nvPr/>
        </p:nvPicPr>
        <p:blipFill>
          <a:blip r:embed="rId1"/>
          <a:stretch/>
        </p:blipFill>
        <p:spPr>
          <a:xfrm>
            <a:off x="469800" y="1917720"/>
            <a:ext cx="4037040" cy="381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kabul"/>
          <p:cNvPicPr/>
          <p:nvPr/>
        </p:nvPicPr>
        <p:blipFill>
          <a:blip r:embed="rId2"/>
          <a:stretch/>
        </p:blipFill>
        <p:spPr>
          <a:xfrm>
            <a:off x="4648320" y="1917720"/>
            <a:ext cx="4038480" cy="3819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7360" y="-41526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7" descr="43861"/>
          <p:cNvPicPr/>
          <p:nvPr/>
        </p:nvPicPr>
        <p:blipFill>
          <a:blip r:embed="rId1"/>
          <a:stretch/>
        </p:blipFill>
        <p:spPr>
          <a:xfrm>
            <a:off x="468360" y="981000"/>
            <a:ext cx="4038480" cy="504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rticle-0-004A9DB300000258-471_468x318"/>
          <p:cNvPicPr/>
          <p:nvPr/>
        </p:nvPicPr>
        <p:blipFill>
          <a:blip r:embed="rId2"/>
          <a:stretch/>
        </p:blipFill>
        <p:spPr>
          <a:xfrm>
            <a:off x="4643280" y="981000"/>
            <a:ext cx="4249800" cy="4969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РАХ ВОЙН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10" descr="6c6bdb2f1c342fc65fed4cd9137"/>
          <p:cNvPicPr/>
          <p:nvPr/>
        </p:nvPicPr>
        <p:blipFill>
          <a:blip r:embed="rId1"/>
          <a:stretch/>
        </p:blipFill>
        <p:spPr>
          <a:xfrm>
            <a:off x="766800" y="1420920"/>
            <a:ext cx="7900920" cy="5040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7T11:10:40Z</dcterms:created>
  <dc:creator>Дим Дим</dc:creator>
  <dc:description/>
  <dc:language>en-US</dc:language>
  <cp:lastModifiedBy>HP</cp:lastModifiedBy>
  <dcterms:modified xsi:type="dcterms:W3CDTF">2018-11-29T00:27:26Z</dcterms:modified>
  <cp:revision>16</cp:revision>
  <dc:subject/>
  <dc:title>МБОУ Партизанская СОШ Чурикова Дарья Дмитриевна 9 лет, 3 Б класс «Он герой и он мой дедушка» Салтыкова Людмила Александровна</dc:title>
</cp:coreProperties>
</file>