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DF37-3EC0-4429-9104-1DD4C123C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8DD7-23F2-4DAC-944E-3825A7FF89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BBFC-6491-48CE-81FF-ED35B8D50DF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348A6-79AD-40BE-AB06-F11F05D7D2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E35D-7752-4F05-91B1-7B961BDBD3E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84AC-BCD3-42D1-8929-DD8DD17C440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847F-813E-4EF3-B1EA-B87ACD668ED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41CE-37F7-4E52-815A-6DB9C2C12C3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3028-FB6E-4807-823E-2B6917FE9A0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87A1-C105-4CEA-8314-2B074978923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41DD7-453D-46C2-BA67-A92C44CD5C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ACBE-4C09-409C-9057-6A0BBE98FEA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BB9F-C644-45F4-8CEF-80489EBC405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CD33-3CFF-4FD1-AB49-CFD40CC19D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6F29-847A-492F-BC6F-0FCE1E09AE4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4992-831B-469F-9C43-598526D3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FF73-2EC7-4DA7-8077-71CB1DDC1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06A9-D9C5-4C53-8521-ED24F905A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A4FB-5237-4F88-B30C-EEC948C5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E8D74-5C14-49AF-A2D2-4D8BFA21F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4779-E4BE-4F12-9DDD-620F56DA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5F95-7C96-4BC8-98F6-3E071032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385B-956C-4BB7-AB36-FD9960D4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E423-490E-492C-8C0D-F4CA606C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81BE5-986B-41FE-BAAE-59BD4F74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99C8-C96B-4F23-AC76-1235EA18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8BA-756C-406C-9543-4F1B49B5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B0A-3BBC-43F1-BD8C-28857E61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C210-6DB0-45E6-945B-3010F400E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BBFE-318F-47C6-B488-F1150899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DA108-CD2D-449F-AFBC-4DA34074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87885-C24B-478A-9EB8-D48A5377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09A-47F5-4BA8-A149-4146B71E3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6BC-FC04-41CB-818C-DDFFF398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0FDC-C224-415C-B02A-A8365A6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5C3F-67C8-459A-A7D9-00548782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C733-2A27-465A-8500-C25A82D7F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EAB-60A9-4623-A051-DDFABA6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227D-8138-4C8A-B776-1C4DDA0EC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1E3C-49C0-4EF3-8BB0-FDD4761734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77E8-2ABC-4663-AC62-C57214EE74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02920" y="2036880"/>
            <a:ext cx="7308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836640" y="706320"/>
            <a:ext cx="747072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eec94"/>
                </a:solidFill>
                <a:latin typeface="Times New Roman"/>
              </a:rPr>
              <a:t>МБОУ «Партизанская средняя общеобразовательная школа имени П.П.Петрова»</a:t>
            </a:r>
            <a:br>
              <a:rPr sz="36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Чурикова Дарья Дмитриевна</a:t>
            </a:r>
            <a:br>
              <a:rPr sz="36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9 лет 3 Б класс</a:t>
            </a:r>
            <a:br>
              <a:rPr sz="3600"/>
            </a:br>
            <a:r>
              <a:rPr b="0" lang="ru-RU" sz="4000" spc="-1" strike="noStrike">
                <a:solidFill>
                  <a:srgbClr val="feec94"/>
                </a:solidFill>
                <a:latin typeface="Times New Roman"/>
                <a:ea typeface="Times New Roman"/>
              </a:rPr>
              <a:t>«И мужество, как знамя пронесли…»</a:t>
            </a:r>
            <a:br>
              <a:rPr sz="4000"/>
            </a:b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Руководител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eec94"/>
                </a:solidFill>
                <a:latin typeface="Times New Roman"/>
              </a:rPr>
              <a:t>Салтыкова Людмила Александровн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Melodiya_bez_slov_-_melodiya_(iPleer.fm).mp3" descr=""/>
          <p:cNvPicPr/>
          <p:nvPr/>
        </p:nvPicPr>
        <p:blipFill>
          <a:blip r:embed="rId1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ДОРОГА ДОМОЙ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6" name="Picture 8" descr="An12Afga001"/>
          <p:cNvPicPr/>
          <p:nvPr/>
        </p:nvPicPr>
        <p:blipFill>
          <a:blip r:embed="rId1"/>
          <a:stretch/>
        </p:blipFill>
        <p:spPr>
          <a:xfrm>
            <a:off x="1332000" y="1700280"/>
            <a:ext cx="6840360" cy="44625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ЫВОД ВОЙСК ИЗ АФГАНИСТАНА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8" name="Picture 6" descr="image2"/>
          <p:cNvPicPr/>
          <p:nvPr/>
        </p:nvPicPr>
        <p:blipFill>
          <a:blip r:embed="rId1"/>
          <a:stretch/>
        </p:blipFill>
        <p:spPr>
          <a:xfrm>
            <a:off x="612720" y="1990800"/>
            <a:ext cx="3814920" cy="360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1" descr="image4"/>
          <p:cNvPicPr/>
          <p:nvPr/>
        </p:nvPicPr>
        <p:blipFill>
          <a:blip r:embed="rId2"/>
          <a:stretch/>
        </p:blipFill>
        <p:spPr>
          <a:xfrm>
            <a:off x="4930920" y="1990800"/>
            <a:ext cx="3456000" cy="3530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ГОРЫ ПОМНЯТ</a:t>
            </a:r>
            <a:br>
              <a:rPr sz="4400"/>
            </a:br>
            <a:r>
              <a:rPr b="1" lang="ru-RU" sz="3200" spc="-1" strike="noStrike">
                <a:solidFill>
                  <a:srgbClr val="feec94"/>
                </a:solidFill>
                <a:latin typeface="Times New Roman"/>
              </a:rPr>
              <a:t>Автор Чурикова Вера Ивановна (бабушка)</a:t>
            </a:r>
            <a:br>
              <a:rPr sz="3200"/>
            </a:b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Следов не оставляют горы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Но память сердца горы берегут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Как про Афган заходят разговоры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Огнем воспоминанья жгу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Мы помним все! Мы не забыл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Того, что довелось нам испытать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И хоть с тобою мы мальчишки бы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d699"/>
                </a:solidFill>
                <a:latin typeface="Times New Roman"/>
              </a:rPr>
              <a:t>Пришлось нам «духам» противостоят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24000" y="-4079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Мы помним рейсы под обстрелом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Когда зеленка щерилась огне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При завываньи духов оголтело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В Афган таскали грузы день за днем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дя под снайперским прицел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Мы ждали по дороге на Багра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Пока накроют банду артобстрелом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шли в гнездо душманов по гора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В нас время память не стира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горы, что нас помнят, не солгу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Они покой веков оберегают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d699"/>
                </a:solidFill>
                <a:latin typeface="Times New Roman"/>
              </a:rPr>
              <a:t>И бесконечной лентой дни бегут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0840" y="523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Фото на память с группой «Голубые береты»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5" name="Picture 8" descr="image-f5b02350aa6ec4ef388906cf31746f73e4bc234371b88b3e63d999f96f5830ab-V"/>
          <p:cNvPicPr/>
          <p:nvPr/>
        </p:nvPicPr>
        <p:blipFill>
          <a:blip r:embed="rId1"/>
          <a:stretch/>
        </p:blipFill>
        <p:spPr>
          <a:xfrm>
            <a:off x="1042920" y="1700280"/>
            <a:ext cx="6985080" cy="4753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РЕМЯ ВЫБРАЛО НАС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67" name="Рисунок 1" descr=""/>
          <p:cNvPicPr/>
          <p:nvPr/>
        </p:nvPicPr>
        <p:blipFill>
          <a:blip r:embed="rId1"/>
          <a:stretch/>
        </p:blipFill>
        <p:spPr>
          <a:xfrm>
            <a:off x="-246240" y="15840"/>
            <a:ext cx="9390240" cy="695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211280" y="762120"/>
            <a:ext cx="47214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выбрало нас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Закружило в Афганской мет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ас позвали друзья в грозный час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Мы особую форму надел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И в огне черных трудных доро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Своей кровью кропили походы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Не заметили в вихре тревог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Как минуты прессуются в год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ерность, доблесть, отвага и чест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Эти качества не на показ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У отчизны героев не счесть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181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Times New Roman"/>
              </a:rPr>
              <a:t>Время выбрало нас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 advTm="8000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ОЙНА В АФГАНИСТАНЕ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2" name="Picture 6" descr="image"/>
          <p:cNvPicPr/>
          <p:nvPr/>
        </p:nvPicPr>
        <p:blipFill>
          <a:blip r:embed="rId1"/>
          <a:stretch/>
        </p:blipFill>
        <p:spPr>
          <a:xfrm>
            <a:off x="1042920" y="148428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3" name="Melodiya_bez_slov_-_melodiya_(iPleer.fm).mp3" descr=""/>
          <p:cNvPicPr/>
          <p:nvPr/>
        </p:nvPicPr>
        <p:blipFill>
          <a:blip r:embed="rId2"/>
          <a:stretch/>
        </p:blipFill>
        <p:spPr>
          <a:xfrm>
            <a:off x="4449600" y="3306600"/>
            <a:ext cx="244800" cy="244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image"/>
          <p:cNvPicPr/>
          <p:nvPr/>
        </p:nvPicPr>
        <p:blipFill>
          <a:blip r:embed="rId3"/>
          <a:stretch/>
        </p:blipFill>
        <p:spPr>
          <a:xfrm>
            <a:off x="1042920" y="14209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image"/>
          <p:cNvPicPr/>
          <p:nvPr/>
        </p:nvPicPr>
        <p:blipFill>
          <a:blip r:embed="rId4"/>
          <a:stretch/>
        </p:blipFill>
        <p:spPr>
          <a:xfrm>
            <a:off x="1042920" y="14209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image"/>
          <p:cNvPicPr/>
          <p:nvPr/>
        </p:nvPicPr>
        <p:blipFill>
          <a:blip r:embed="rId5"/>
          <a:stretch/>
        </p:blipFill>
        <p:spPr>
          <a:xfrm>
            <a:off x="1042920" y="140652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image"/>
          <p:cNvPicPr/>
          <p:nvPr/>
        </p:nvPicPr>
        <p:blipFill>
          <a:blip r:embed="rId6"/>
          <a:stretch/>
        </p:blipFill>
        <p:spPr>
          <a:xfrm>
            <a:off x="1042920" y="1403280"/>
            <a:ext cx="7056360" cy="4835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age"/>
          <p:cNvPicPr/>
          <p:nvPr/>
        </p:nvPicPr>
        <p:blipFill>
          <a:blip r:embed="rId7"/>
          <a:stretch/>
        </p:blipFill>
        <p:spPr>
          <a:xfrm>
            <a:off x="1042920" y="1403280"/>
            <a:ext cx="7056360" cy="483552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00720" y="274320"/>
            <a:ext cx="418608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Чуриков Виктор Николаевич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1961г.р.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Срок службы 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1979-1981г</a:t>
            </a:r>
            <a:br>
              <a:rPr sz="4000"/>
            </a:br>
            <a:r>
              <a:rPr b="1" lang="ru-RU" sz="4000" spc="-1" strike="noStrike">
                <a:solidFill>
                  <a:srgbClr val="ffd699"/>
                </a:solidFill>
                <a:latin typeface="Times New Roman"/>
              </a:rPr>
              <a:t>Место службы-Афганиста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0" name="Picture 5" descr="image (2)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0600" y="836640"/>
            <a:ext cx="4105080" cy="5472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446040" y="1404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6000" spc="-1" strike="noStrike">
                <a:solidFill>
                  <a:srgbClr val="ffffff"/>
                </a:solidFill>
                <a:latin typeface="Times New Roman"/>
              </a:rPr>
              <a:t>Сослуживцы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>
              <a:spcBef>
                <a:spcPts val="15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5" descr="image (1)"/>
          <p:cNvPicPr/>
          <p:nvPr/>
        </p:nvPicPr>
        <p:blipFill>
          <a:blip r:embed="rId1"/>
          <a:stretch/>
        </p:blipFill>
        <p:spPr>
          <a:xfrm>
            <a:off x="898560" y="1022400"/>
            <a:ext cx="7777080" cy="583704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image (4)"/>
          <p:cNvPicPr/>
          <p:nvPr/>
        </p:nvPicPr>
        <p:blipFill>
          <a:blip r:embed="rId1"/>
          <a:stretch/>
        </p:blipFill>
        <p:spPr>
          <a:xfrm>
            <a:off x="2268360" y="189000"/>
            <a:ext cx="4788000" cy="66690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Обмундирование тех времен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9" descr="image (3)"/>
          <p:cNvPicPr/>
          <p:nvPr/>
        </p:nvPicPr>
        <p:blipFill>
          <a:blip r:embed="rId1"/>
          <a:stretch/>
        </p:blipFill>
        <p:spPr>
          <a:xfrm>
            <a:off x="538200" y="1917720"/>
            <a:ext cx="4248000" cy="3963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0" descr="image (4)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30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фган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8" name="Picture 7" descr="afghanistan-images-2-large"/>
          <p:cNvPicPr/>
          <p:nvPr/>
        </p:nvPicPr>
        <p:blipFill>
          <a:blip r:embed="rId1"/>
          <a:stretch/>
        </p:blipFill>
        <p:spPr>
          <a:xfrm>
            <a:off x="469800" y="1917720"/>
            <a:ext cx="4037040" cy="381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kabul"/>
          <p:cNvPicPr/>
          <p:nvPr/>
        </p:nvPicPr>
        <p:blipFill>
          <a:blip r:embed="rId2"/>
          <a:stretch/>
        </p:blipFill>
        <p:spPr>
          <a:xfrm>
            <a:off x="4648320" y="1917720"/>
            <a:ext cx="4038480" cy="381960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7360" y="-41526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1" name="Picture 7" descr="43861"/>
          <p:cNvPicPr/>
          <p:nvPr/>
        </p:nvPicPr>
        <p:blipFill>
          <a:blip r:embed="rId1"/>
          <a:stretch/>
        </p:blipFill>
        <p:spPr>
          <a:xfrm>
            <a:off x="468360" y="981000"/>
            <a:ext cx="4038480" cy="504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article-0-004A9DB300000258-471_468x318"/>
          <p:cNvPicPr/>
          <p:nvPr/>
        </p:nvPicPr>
        <p:blipFill>
          <a:blip r:embed="rId2"/>
          <a:stretch/>
        </p:blipFill>
        <p:spPr>
          <a:xfrm>
            <a:off x="4643280" y="981000"/>
            <a:ext cx="4249800" cy="496908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СТРАХ ВОЙНЫ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4" name="Picture 10" descr="6c6bdb2f1c342fc65fed4cd9137"/>
          <p:cNvPicPr/>
          <p:nvPr/>
        </p:nvPicPr>
        <p:blipFill>
          <a:blip r:embed="rId1"/>
          <a:stretch/>
        </p:blipFill>
        <p:spPr>
          <a:xfrm>
            <a:off x="766800" y="1420920"/>
            <a:ext cx="7900920" cy="5040360"/>
          </a:xfrm>
          <a:prstGeom prst="rect">
            <a:avLst/>
          </a:prstGeom>
          <a:ln w="0">
            <a:noFill/>
          </a:ln>
        </p:spPr>
      </p:pic>
    </p:spTree>
  </p:cSld>
  <p:transition spd="med" advTm="8000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7T11:10:40Z</dcterms:created>
  <dc:creator>Дим Дим</dc:creator>
  <dc:description/>
  <dc:language>en-US</dc:language>
  <cp:lastModifiedBy>HP</cp:lastModifiedBy>
  <dcterms:modified xsi:type="dcterms:W3CDTF">2018-11-29T00:27:26Z</dcterms:modified>
  <cp:revision>16</cp:revision>
  <dc:subject/>
  <dc:title>МБОУ Партизанская СОШ Чурикова Дарья Дмитриевна 9 лет, 3 Б класс «Он герой и он мой дедушка» Салтыкова Людмила Александровна</dc:title>
</cp:coreProperties>
</file>