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C234C-AF2E-4C85-8379-B5B4E7488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09705-C012-4E95-A3F6-ED6E31408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61EEB-152D-4728-8779-D21FA5C45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9AC7A-6AB1-4791-BE65-877CF85D4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D72D7-91AC-418E-AF93-0B3C26ABB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C8C59-0020-4FD0-AC09-0E61F2734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10D4E-FABA-4822-BA91-DAF3B1CDC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ABF9F-0583-46D8-8594-106C0EA22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842B3-FE7B-4579-B317-89C831840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DCD0D-3009-4B4D-A17A-73D5E0C28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CD498-9497-4D72-AA79-81098D3A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C6DDC-4EF0-42F5-B12F-C1603BCBC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8605B-2C05-4FCD-A3FD-B61C270B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309E5-84CD-4913-BC09-E1AEF10B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D5432-3039-472C-B88E-B4321E505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175B8-97F6-4B39-A550-55C9ABC7B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E879C-80EC-48D2-A3F1-0FDEB0FCC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D1746-9119-41EF-9FF8-952EC8A4B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07EB8-545E-4AAC-9E9A-CEA8BBC0E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641FC-33CD-4F95-B3FD-56DDAB6EE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FFFCC-B686-489F-8846-BDA640DE4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88623-E919-4220-9E73-03383B70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E88E0-6AEE-4523-A7D1-BFFC380F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CBCC4-CA91-43B7-96B4-F35789C22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9AF90-935C-4620-8C2F-C45DCFED109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C12A8-7E91-465A-84F2-1C6ACCCEDF4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imes New Roman"/>
              </a:rPr>
              <a:t>Проект </a:t>
            </a:r>
            <a:br>
              <a:rPr sz="4800"/>
            </a:br>
            <a:r>
              <a:rPr b="0" lang="ru-RU" sz="4800" spc="-1" strike="noStrike">
                <a:solidFill>
                  <a:srgbClr val="ffffcc"/>
                </a:solidFill>
                <a:latin typeface="Times New Roman"/>
              </a:rPr>
              <a:t>«Шляпный сезон»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оспитатель подготовительной групп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утьева  Валентина  Сергеев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едагог высшей квалификационной категор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Russkaya_narodnaya_-_Vo_pole_bereza_stoyala_minus__(get-tune.net).mp3" descr=""/>
          <p:cNvPicPr/>
          <p:nvPr/>
        </p:nvPicPr>
        <p:blipFill>
          <a:blip r:embed="rId1"/>
          <a:stretch/>
        </p:blipFill>
        <p:spPr>
          <a:xfrm>
            <a:off x="442764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5856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20130917_093940"/>
          <p:cNvPicPr/>
          <p:nvPr/>
        </p:nvPicPr>
        <p:blipFill>
          <a:blip r:embed="rId1"/>
          <a:stretch/>
        </p:blipFill>
        <p:spPr>
          <a:xfrm>
            <a:off x="2376360" y="277920"/>
            <a:ext cx="4389480" cy="58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20130917_094148"/>
          <p:cNvPicPr/>
          <p:nvPr/>
        </p:nvPicPr>
        <p:blipFill>
          <a:blip r:embed="rId1"/>
          <a:stretch/>
        </p:blipFill>
        <p:spPr>
          <a:xfrm>
            <a:off x="2376360" y="277920"/>
            <a:ext cx="4389480" cy="58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20130917_095047"/>
          <p:cNvPicPr/>
          <p:nvPr/>
        </p:nvPicPr>
        <p:blipFill>
          <a:blip r:embed="rId1"/>
          <a:stretch/>
        </p:blipFill>
        <p:spPr>
          <a:xfrm>
            <a:off x="2376360" y="277920"/>
            <a:ext cx="4389480" cy="58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20130917_095313"/>
          <p:cNvPicPr/>
          <p:nvPr/>
        </p:nvPicPr>
        <p:blipFill>
          <a:blip r:embed="rId1"/>
          <a:stretch/>
        </p:blipFill>
        <p:spPr>
          <a:xfrm>
            <a:off x="2376360" y="277920"/>
            <a:ext cx="4389480" cy="58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20130917_095255"/>
          <p:cNvPicPr/>
          <p:nvPr/>
        </p:nvPicPr>
        <p:blipFill>
          <a:blip r:embed="rId1"/>
          <a:stretch/>
        </p:blipFill>
        <p:spPr>
          <a:xfrm>
            <a:off x="2376360" y="277920"/>
            <a:ext cx="4389480" cy="58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20130926_120615"/>
          <p:cNvPicPr/>
          <p:nvPr/>
        </p:nvPicPr>
        <p:blipFill>
          <a:blip r:embed="rId1"/>
          <a:stretch/>
        </p:blipFill>
        <p:spPr>
          <a:xfrm>
            <a:off x="2376360" y="277920"/>
            <a:ext cx="4389480" cy="58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20130926_120652"/>
          <p:cNvPicPr/>
          <p:nvPr/>
        </p:nvPicPr>
        <p:blipFill>
          <a:blip r:embed="rId1"/>
          <a:stretch/>
        </p:blipFill>
        <p:spPr>
          <a:xfrm>
            <a:off x="2376360" y="277920"/>
            <a:ext cx="4389480" cy="58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20130917_095241"/>
          <p:cNvPicPr/>
          <p:nvPr/>
        </p:nvPicPr>
        <p:blipFill>
          <a:blip r:embed="rId1"/>
          <a:stretch/>
        </p:blipFill>
        <p:spPr>
          <a:xfrm>
            <a:off x="2376360" y="277920"/>
            <a:ext cx="4389480" cy="58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20130917_093138"/>
          <p:cNvPicPr/>
          <p:nvPr/>
        </p:nvPicPr>
        <p:blipFill>
          <a:blip r:embed="rId1"/>
          <a:stretch/>
        </p:blipFill>
        <p:spPr>
          <a:xfrm>
            <a:off x="2376360" y="277920"/>
            <a:ext cx="4389480" cy="58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20130917_094920"/>
          <p:cNvPicPr/>
          <p:nvPr/>
        </p:nvPicPr>
        <p:blipFill>
          <a:blip r:embed="rId1"/>
          <a:stretch/>
        </p:blipFill>
        <p:spPr>
          <a:xfrm>
            <a:off x="2376360" y="277920"/>
            <a:ext cx="4389480" cy="58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Цель:</a:t>
            </a:r>
            <a:r>
              <a:rPr b="1" lang="ru-RU" sz="3800" spc="-1" strike="noStrike">
                <a:solidFill>
                  <a:srgbClr val="ffffcc"/>
                </a:solidFill>
                <a:latin typeface="Tahoma"/>
              </a:rPr>
              <a:t>:   </a:t>
            </a: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способствовать развитию творческого воображения и фантазии, чувства цвета и стиля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Задачи: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- систематизировать элементарные знания дошкольников о головных уборах (беретки, кепки, шапки, шляпы, панамы),о тканях( прозрачная, толстая, плотная, шелковая, шерстяная ворсистая), о деталях шляпы ( поля, перья, цветы), о форме шляп ( труба, цилиндр, колокольчик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- стимулировать поисковую деятельность дет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- показать значимость и ценность коллективного труд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- активизировать словарь детей: дизайнер, модельер, атель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Russkaya_narodnaya_-_Vo_pole_bereza_stoyala_minus__(get-tune.net)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15856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20130917_093113"/>
          <p:cNvPicPr/>
          <p:nvPr/>
        </p:nvPicPr>
        <p:blipFill>
          <a:blip r:embed="rId1"/>
          <a:stretch/>
        </p:blipFill>
        <p:spPr>
          <a:xfrm>
            <a:off x="2376360" y="277920"/>
            <a:ext cx="4389480" cy="58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7" descr="P1030465"/>
          <p:cNvPicPr/>
          <p:nvPr/>
        </p:nvPicPr>
        <p:blipFill>
          <a:blip r:embed="rId1"/>
          <a:stretch/>
        </p:blipFill>
        <p:spPr>
          <a:xfrm>
            <a:off x="669960" y="277920"/>
            <a:ext cx="7804080" cy="58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5" descr="P1030462"/>
          <p:cNvPicPr/>
          <p:nvPr/>
        </p:nvPicPr>
        <p:blipFill>
          <a:blip r:embed="rId1"/>
          <a:stretch/>
        </p:blipFill>
        <p:spPr>
          <a:xfrm>
            <a:off x="669960" y="277920"/>
            <a:ext cx="7804080" cy="58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5" descr="P1030463"/>
          <p:cNvPicPr/>
          <p:nvPr/>
        </p:nvPicPr>
        <p:blipFill>
          <a:blip r:embed="rId1"/>
          <a:stretch/>
        </p:blipFill>
        <p:spPr>
          <a:xfrm>
            <a:off x="669960" y="277920"/>
            <a:ext cx="7804080" cy="58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6" descr="P1030471"/>
          <p:cNvPicPr/>
          <p:nvPr/>
        </p:nvPicPr>
        <p:blipFill>
          <a:blip r:embed="rId1"/>
          <a:stretch/>
        </p:blipFill>
        <p:spPr>
          <a:xfrm>
            <a:off x="669960" y="277920"/>
            <a:ext cx="7804080" cy="58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6" descr="P1030475"/>
          <p:cNvPicPr/>
          <p:nvPr/>
        </p:nvPicPr>
        <p:blipFill>
          <a:blip r:embed="rId1"/>
          <a:stretch/>
        </p:blipFill>
        <p:spPr>
          <a:xfrm>
            <a:off x="669960" y="277920"/>
            <a:ext cx="7804080" cy="58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11" descr="P1030477"/>
          <p:cNvPicPr/>
          <p:nvPr/>
        </p:nvPicPr>
        <p:blipFill>
          <a:blip r:embed="rId1"/>
          <a:stretch/>
        </p:blipFill>
        <p:spPr>
          <a:xfrm>
            <a:off x="755640" y="549360"/>
            <a:ext cx="7804080" cy="58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9" descr="P1030480"/>
          <p:cNvPicPr/>
          <p:nvPr/>
        </p:nvPicPr>
        <p:blipFill>
          <a:blip r:embed="rId1"/>
          <a:stretch/>
        </p:blipFill>
        <p:spPr>
          <a:xfrm>
            <a:off x="669960" y="277920"/>
            <a:ext cx="7804080" cy="58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9" descr="P1030490"/>
          <p:cNvPicPr/>
          <p:nvPr/>
        </p:nvPicPr>
        <p:blipFill>
          <a:blip r:embed="rId1"/>
          <a:stretch/>
        </p:blipFill>
        <p:spPr>
          <a:xfrm>
            <a:off x="669960" y="277920"/>
            <a:ext cx="7804080" cy="58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6" descr="P1030496"/>
          <p:cNvPicPr/>
          <p:nvPr/>
        </p:nvPicPr>
        <p:blipFill>
          <a:blip r:embed="rId1"/>
          <a:stretch/>
        </p:blipFill>
        <p:spPr>
          <a:xfrm>
            <a:off x="669960" y="277920"/>
            <a:ext cx="7804080" cy="58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329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cc"/>
                </a:solidFill>
                <a:latin typeface="Tahoma"/>
              </a:rPr>
              <a:t>Этапы работы</a:t>
            </a:r>
            <a:br>
              <a:rPr sz="42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6" descr="P1030501"/>
          <p:cNvPicPr/>
          <p:nvPr/>
        </p:nvPicPr>
        <p:blipFill>
          <a:blip r:embed="rId1"/>
          <a:stretch/>
        </p:blipFill>
        <p:spPr>
          <a:xfrm>
            <a:off x="669960" y="277920"/>
            <a:ext cx="7804080" cy="58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6" descr="P1030505"/>
          <p:cNvPicPr/>
          <p:nvPr/>
        </p:nvPicPr>
        <p:blipFill>
          <a:blip r:embed="rId1"/>
          <a:stretch/>
        </p:blipFill>
        <p:spPr>
          <a:xfrm>
            <a:off x="669960" y="277920"/>
            <a:ext cx="7804080" cy="58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6" descr="P1030511"/>
          <p:cNvPicPr/>
          <p:nvPr/>
        </p:nvPicPr>
        <p:blipFill>
          <a:blip r:embed="rId1"/>
          <a:stretch/>
        </p:blipFill>
        <p:spPr>
          <a:xfrm>
            <a:off x="669960" y="277920"/>
            <a:ext cx="7804080" cy="58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imes New Roman"/>
              </a:rPr>
              <a:t>1 Подготовительный: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исковая работа по подбору материала для продуктивн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еятель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Определение объекта изуч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Обсуждение плана рабо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Сбор информ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Подбор иллюстраций, карт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imes New Roman"/>
              </a:rPr>
              <a:t>2 Исследовательский: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6059520"/>
            <a:ext cx="8229600" cy="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480" bIns="24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4444920" y="324396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755640" y="1189080"/>
            <a:ext cx="7920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истематизировать элементарные знания дошкольников о головных уборах (беретки, кепки, шапки, шляпы, панамы),о тканях( прозрачная, толстая, плотная, шелковая, шерстяная ворсистая), о деталях шляпы ( поля, перья, цветы), о форме шляп ( труба, цилиндр, колокольчик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стимулировать поисковую деятельность дет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показать значимость и ценность коллективного труд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активизировать словарь детей: дизайнер, модельер, атель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imes New Roman"/>
              </a:rPr>
              <a:t>3 Заключительный: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1651680" y="2835000"/>
            <a:ext cx="584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250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Обобщение результатов работ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250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Выставка детских работ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250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Дефиле коллекций шляп на подиум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cc"/>
                </a:solidFill>
                <a:latin typeface="Times New Roman"/>
              </a:rPr>
              <a:t>Практический выход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готовление альбома « Головные уборы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дефиле коллекций шляп на подиум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20130926_120559"/>
          <p:cNvPicPr/>
          <p:nvPr/>
        </p:nvPicPr>
        <p:blipFill>
          <a:blip r:embed="rId1"/>
          <a:stretch/>
        </p:blipFill>
        <p:spPr>
          <a:xfrm>
            <a:off x="2376360" y="277920"/>
            <a:ext cx="4389480" cy="58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20130926_120550"/>
          <p:cNvPicPr/>
          <p:nvPr/>
        </p:nvPicPr>
        <p:blipFill>
          <a:blip r:embed="rId1"/>
          <a:stretch/>
        </p:blipFill>
        <p:spPr>
          <a:xfrm>
            <a:off x="2376360" y="277920"/>
            <a:ext cx="4389480" cy="58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2T11:04:03Z</dcterms:created>
  <dc:creator>Надежда</dc:creator>
  <dc:description/>
  <dc:language>en-US</dc:language>
  <cp:lastModifiedBy>LUTIKI</cp:lastModifiedBy>
  <dcterms:modified xsi:type="dcterms:W3CDTF">2020-07-07T14:21:30Z</dcterms:modified>
  <cp:revision>7</cp:revision>
  <dc:subject/>
  <dc:title>Проект  « Белоствольная береза»</dc:title>
</cp:coreProperties>
</file>