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gif" ContentType="image/gif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9C7E-7FC9-4BD4-AF94-D1354562C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AABB-6D8D-4C3D-9A3D-FE9B38E8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2E05-F0A8-4B61-924F-7BFB68FAE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B5B6-0363-4C59-95A0-6CFDAEFE1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75C4-F4C4-43ED-80AD-056E0D25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90C1-699B-462D-B73E-B7977701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888D-BD15-42F4-962A-013171E0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FEBB-5C93-4AB1-8E49-CA9C9676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98AF-0D01-4DF0-95E7-588154A8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BDE4-56AB-4053-952E-DC8DAD99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1661-68C0-41BE-A6A8-181A9787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D17E-CD3E-486B-992B-B818286E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0F1A-870B-40C7-A09F-A0B5115970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2.png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Заголовок 1" descr=""/>
          <p:cNvPicPr/>
          <p:nvPr/>
        </p:nvPicPr>
        <p:blipFill>
          <a:blip r:embed="rId2"/>
          <a:stretch/>
        </p:blipFill>
        <p:spPr>
          <a:xfrm>
            <a:off x="457200" y="2133720"/>
            <a:ext cx="8229600" cy="1798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Users\таня\Desktop\животные\bel1.jpg"/>
          <p:cNvPicPr/>
          <p:nvPr/>
        </p:nvPicPr>
        <p:blipFill>
          <a:blip r:embed="rId3"/>
          <a:stretch/>
        </p:blipFill>
        <p:spPr>
          <a:xfrm>
            <a:off x="0" y="260280"/>
            <a:ext cx="2700360" cy="2181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Users\таня\Desktop\животные\images (7).jpg"/>
          <p:cNvPicPr/>
          <p:nvPr/>
        </p:nvPicPr>
        <p:blipFill>
          <a:blip r:embed="rId4"/>
          <a:stretch/>
        </p:blipFill>
        <p:spPr>
          <a:xfrm>
            <a:off x="3708360" y="400536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C:\Users\таня\Desktop\images (3).jpg"/>
          <p:cNvPicPr/>
          <p:nvPr/>
        </p:nvPicPr>
        <p:blipFill>
          <a:blip r:embed="rId5"/>
          <a:stretch/>
        </p:blipFill>
        <p:spPr>
          <a:xfrm>
            <a:off x="-612720" y="3716280"/>
            <a:ext cx="3960720" cy="2124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6"/>
          <a:stretch/>
        </p:blipFill>
        <p:spPr>
          <a:xfrm>
            <a:off x="3203640" y="765000"/>
            <a:ext cx="2016000" cy="1619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"/>
          <p:cNvPicPr/>
          <p:nvPr/>
        </p:nvPicPr>
        <p:blipFill>
          <a:blip r:embed="rId7"/>
          <a:stretch/>
        </p:blipFill>
        <p:spPr>
          <a:xfrm>
            <a:off x="5929200" y="333360"/>
            <a:ext cx="3124440" cy="2492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C:\Users\таня\Desktop\животные\narisovat-zajca.jpg"/>
          <p:cNvPicPr/>
          <p:nvPr/>
        </p:nvPicPr>
        <p:blipFill>
          <a:blip r:embed="rId8"/>
          <a:stretch/>
        </p:blipFill>
        <p:spPr>
          <a:xfrm>
            <a:off x="6516720" y="3716280"/>
            <a:ext cx="2224080" cy="2349720"/>
          </a:xfrm>
          <a:prstGeom prst="rect">
            <a:avLst/>
          </a:prstGeom>
          <a:ln w="0">
            <a:noFill/>
          </a:ln>
        </p:spPr>
      </p:pic>
      <p:sp>
        <p:nvSpPr>
          <p:cNvPr id="49" name="TextBox 9"/>
          <p:cNvSpPr/>
          <p:nvPr/>
        </p:nvSpPr>
        <p:spPr>
          <a:xfrm>
            <a:off x="6516720" y="5661000"/>
            <a:ext cx="278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ко В.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C:\Users\таня\Desktop\СЛЕДЫ\0_75ef8_c7ad5121_XX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"/>
          <p:cNvPicPr/>
          <p:nvPr/>
        </p:nvPicPr>
        <p:blipFill>
          <a:blip r:embed="rId2"/>
          <a:stretch/>
        </p:blipFill>
        <p:spPr>
          <a:xfrm flipH="1" rot="13529400">
            <a:off x="6163200" y="876600"/>
            <a:ext cx="1501560" cy="1862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"/>
          <p:cNvPicPr/>
          <p:nvPr/>
        </p:nvPicPr>
        <p:blipFill>
          <a:blip r:embed="rId3"/>
          <a:stretch/>
        </p:blipFill>
        <p:spPr>
          <a:xfrm flipH="1" rot="13529400">
            <a:off x="7000560" y="2544120"/>
            <a:ext cx="1501560" cy="1787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"/>
          <p:cNvPicPr/>
          <p:nvPr/>
        </p:nvPicPr>
        <p:blipFill>
          <a:blip r:embed="rId4"/>
          <a:stretch/>
        </p:blipFill>
        <p:spPr>
          <a:xfrm flipH="1" rot="13530000">
            <a:off x="4038840" y="2105640"/>
            <a:ext cx="1500120" cy="1958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5"/>
          <a:stretch/>
        </p:blipFill>
        <p:spPr>
          <a:xfrm flipH="1" rot="13529400">
            <a:off x="4832280" y="3773160"/>
            <a:ext cx="1501560" cy="1761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6"/>
          <a:stretch/>
        </p:blipFill>
        <p:spPr>
          <a:xfrm>
            <a:off x="0" y="2565360"/>
            <a:ext cx="4032360" cy="32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9" descr="C:\Users\таня\Desktop\СЛЕДЫ\0_75ef8_c7ad5121_XX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" descr=""/>
          <p:cNvPicPr/>
          <p:nvPr/>
        </p:nvPicPr>
        <p:blipFill>
          <a:blip r:embed="rId2"/>
          <a:stretch/>
        </p:blipFill>
        <p:spPr>
          <a:xfrm rot="14571000">
            <a:off x="7211880" y="2192040"/>
            <a:ext cx="1233360" cy="2325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" descr=""/>
          <p:cNvPicPr/>
          <p:nvPr/>
        </p:nvPicPr>
        <p:blipFill>
          <a:blip r:embed="rId3"/>
          <a:stretch/>
        </p:blipFill>
        <p:spPr>
          <a:xfrm rot="14571000">
            <a:off x="4651920" y="3459960"/>
            <a:ext cx="1287360" cy="2504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" descr=""/>
          <p:cNvPicPr/>
          <p:nvPr/>
        </p:nvPicPr>
        <p:blipFill>
          <a:blip r:embed="rId4"/>
          <a:stretch/>
        </p:blipFill>
        <p:spPr>
          <a:xfrm rot="14571000">
            <a:off x="4219200" y="1582560"/>
            <a:ext cx="1308240" cy="2698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" descr=""/>
          <p:cNvPicPr/>
          <p:nvPr/>
        </p:nvPicPr>
        <p:blipFill>
          <a:blip r:embed="rId5"/>
          <a:stretch/>
        </p:blipFill>
        <p:spPr>
          <a:xfrm rot="14571000">
            <a:off x="6891480" y="250560"/>
            <a:ext cx="1290600" cy="2646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таня\Desktop\животные\narisovat-zajca.jpg"/>
          <p:cNvPicPr/>
          <p:nvPr/>
        </p:nvPicPr>
        <p:blipFill>
          <a:blip r:embed="rId6"/>
          <a:stretch/>
        </p:blipFill>
        <p:spPr>
          <a:xfrm>
            <a:off x="250920" y="1773360"/>
            <a:ext cx="374148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9" descr="C:\Users\таня\Desktop\СЛЕДЫ\0_75ef8_c7ad5121_XX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" descr=""/>
          <p:cNvPicPr/>
          <p:nvPr/>
        </p:nvPicPr>
        <p:blipFill>
          <a:blip r:embed="rId2"/>
          <a:stretch/>
        </p:blipFill>
        <p:spPr>
          <a:xfrm rot="14257200">
            <a:off x="4572720" y="3526200"/>
            <a:ext cx="1420920" cy="2162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" descr=""/>
          <p:cNvPicPr/>
          <p:nvPr/>
        </p:nvPicPr>
        <p:blipFill>
          <a:blip r:embed="rId3"/>
          <a:stretch/>
        </p:blipFill>
        <p:spPr>
          <a:xfrm rot="14258400">
            <a:off x="4181040" y="1503000"/>
            <a:ext cx="1330200" cy="2025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" descr=""/>
          <p:cNvPicPr/>
          <p:nvPr/>
        </p:nvPicPr>
        <p:blipFill>
          <a:blip r:embed="rId4"/>
          <a:stretch/>
        </p:blipFill>
        <p:spPr>
          <a:xfrm rot="14424600">
            <a:off x="6749280" y="2204280"/>
            <a:ext cx="1450800" cy="2208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" descr=""/>
          <p:cNvPicPr/>
          <p:nvPr/>
        </p:nvPicPr>
        <p:blipFill>
          <a:blip r:embed="rId5"/>
          <a:stretch/>
        </p:blipFill>
        <p:spPr>
          <a:xfrm rot="14458800">
            <a:off x="6598080" y="460440"/>
            <a:ext cx="1258920" cy="1917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6"/>
          <a:stretch/>
        </p:blipFill>
        <p:spPr>
          <a:xfrm>
            <a:off x="0" y="2565360"/>
            <a:ext cx="385128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9" descr="C:\Users\таня\Desktop\СЛЕДЫ\0_75ef8_c7ad5121_XX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" descr=""/>
          <p:cNvPicPr/>
          <p:nvPr/>
        </p:nvPicPr>
        <p:blipFill>
          <a:blip r:embed="rId2"/>
          <a:stretch/>
        </p:blipFill>
        <p:spPr>
          <a:xfrm rot="14451000">
            <a:off x="6536160" y="163800"/>
            <a:ext cx="1801800" cy="2425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" descr=""/>
          <p:cNvPicPr/>
          <p:nvPr/>
        </p:nvPicPr>
        <p:blipFill>
          <a:blip r:embed="rId3"/>
          <a:stretch/>
        </p:blipFill>
        <p:spPr>
          <a:xfrm rot="14451000">
            <a:off x="6969600" y="2081520"/>
            <a:ext cx="1800000" cy="2424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" descr=""/>
          <p:cNvPicPr/>
          <p:nvPr/>
        </p:nvPicPr>
        <p:blipFill>
          <a:blip r:embed="rId4"/>
          <a:stretch/>
        </p:blipFill>
        <p:spPr>
          <a:xfrm rot="14451000">
            <a:off x="4808160" y="3233520"/>
            <a:ext cx="1801800" cy="2423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" descr=""/>
          <p:cNvPicPr/>
          <p:nvPr/>
        </p:nvPicPr>
        <p:blipFill>
          <a:blip r:embed="rId5"/>
          <a:stretch/>
        </p:blipFill>
        <p:spPr>
          <a:xfrm rot="14451000">
            <a:off x="4233240" y="1288440"/>
            <a:ext cx="1800360" cy="2425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C:\Users\таня\Desktop\images (3).jpg"/>
          <p:cNvPicPr/>
          <p:nvPr/>
        </p:nvPicPr>
        <p:blipFill>
          <a:blip r:embed="rId6"/>
          <a:stretch/>
        </p:blipFill>
        <p:spPr>
          <a:xfrm>
            <a:off x="0" y="3284640"/>
            <a:ext cx="521964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9" descr="C:\Users\таня\Desktop\СЛЕДЫ\0_75ef8_c7ad5121_XX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 rot="14745000">
            <a:off x="6605640" y="929520"/>
            <a:ext cx="1352520" cy="2019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3"/>
          <a:stretch/>
        </p:blipFill>
        <p:spPr>
          <a:xfrm rot="14745000">
            <a:off x="6749280" y="2370240"/>
            <a:ext cx="1352520" cy="2017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4"/>
          <a:stretch/>
        </p:blipFill>
        <p:spPr>
          <a:xfrm rot="14745000">
            <a:off x="4301280" y="3809880"/>
            <a:ext cx="1352520" cy="2017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5"/>
          <a:stretch/>
        </p:blipFill>
        <p:spPr>
          <a:xfrm rot="14745000">
            <a:off x="4517280" y="2082960"/>
            <a:ext cx="1352520" cy="201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таня\Desktop\животные\bel1.jpg"/>
          <p:cNvPicPr/>
          <p:nvPr/>
        </p:nvPicPr>
        <p:blipFill>
          <a:blip r:embed="rId6"/>
          <a:stretch/>
        </p:blipFill>
        <p:spPr>
          <a:xfrm>
            <a:off x="395280" y="2219400"/>
            <a:ext cx="331308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9" descr="C:\Users\таня\Desktop\СЛЕДЫ\0_75ef8_c7ad5121_XX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1" name="TextBox 2"/>
          <p:cNvGrpSpPr/>
          <p:nvPr/>
        </p:nvGrpSpPr>
        <p:grpSpPr>
          <a:xfrm>
            <a:off x="1768320" y="3790800"/>
            <a:ext cx="5321520" cy="1725840"/>
            <a:chOff x="1768320" y="3790800"/>
            <a:chExt cx="5321520" cy="1725840"/>
          </a:xfrm>
        </p:grpSpPr>
        <p:pic>
          <p:nvPicPr>
            <p:cNvPr id="82" name="TextBox 2" descr=""/>
            <p:cNvPicPr/>
            <p:nvPr/>
          </p:nvPicPr>
          <p:blipFill>
            <a:blip r:embed="rId2"/>
            <a:stretch/>
          </p:blipFill>
          <p:spPr>
            <a:xfrm>
              <a:off x="1768320" y="3790800"/>
              <a:ext cx="5321520" cy="172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1908000" y="3933720"/>
              <a:ext cx="5040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Молодец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" name="Picture 6" descr="http://gifzon.ru/i/smile/004.gif"/>
          <p:cNvPicPr/>
          <p:nvPr/>
        </p:nvPicPr>
        <p:blipFill>
          <a:blip r:embed="rId3"/>
          <a:stretch/>
        </p:blipFill>
        <p:spPr>
          <a:xfrm>
            <a:off x="2124000" y="1268280"/>
            <a:ext cx="47563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7T04:49:45Z</dcterms:created>
  <dc:creator>таня</dc:creator>
  <dc:description/>
  <dc:language>en-US</dc:language>
  <cp:lastModifiedBy>днс</cp:lastModifiedBy>
  <dcterms:modified xsi:type="dcterms:W3CDTF">2020-07-08T09:08:37Z</dcterms:modified>
  <cp:revision>9</cp:revision>
  <dc:subject/>
  <dc:title>Слайд 1</dc:title>
</cp:coreProperties>
</file>