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8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9.jpeg" ContentType="image/jpeg"/>
  <Override PartName="/ppt/media/image11.jpeg" ContentType="image/jpeg"/>
  <Override PartName="/ppt/media/image1.jpeg" ContentType="image/jpe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08272-138F-4ED8-9965-219CA1688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14D22-10BD-4ED7-88BE-E3DC1EDA4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042FE-B1D2-449B-B9F7-CAD4DD543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1E1B5-4FED-4783-90C6-931B69C40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06BA2-8FFE-4D64-88D1-3F74F2A65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A6E27-94A1-425C-8BBA-38CACD842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69CD4-1F9E-45AC-8876-FC9E26EB4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0E919-5B44-4EAB-AC91-D4E2FF3E7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40F89-0322-4CD8-8F35-00DB14B16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20D31-57FE-4ED6-A5BB-E4EED8A28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3806C-BC07-465B-A94C-9AD589A69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8B7CE-8090-416D-BE6B-BB79DBE3E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88FFC-1E77-448E-9D2D-E3C3CE020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E1676-2D65-4C15-9C87-21B7688CF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A0000-ED9F-4E45-9F5D-5084E73E3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E2420-67E0-4FE7-8BF6-6BA366014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05A52-DC73-466F-A5BD-CA4396881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6B4FBD-D3FF-4BDB-B09C-03FB2DCA1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5F3AFC-5E87-4EC7-952A-2EB968DD2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CD281D-C9AC-4344-ADF2-B9319865C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864329-5DB8-4422-B3E9-C93037359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C82216-BF8E-4EAF-9147-5E6B59ACB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A1F0A-5019-4F6F-9DCF-F239A1428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FCF42A-9720-4695-89D2-49DBF8EA6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1F0696-A4D6-47D2-93AE-3CB275D54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AF6D1D-6BBB-494D-911D-31F12658B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852AC9-D9AD-4DFF-99CA-162201635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DAC8E4-21A2-4DB3-8C7A-01C9ED888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9A1278-E769-4B43-A929-2CEED58C3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9D73D8-F009-4665-9D9C-5EC1B2EE2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334D68-5B3D-48F5-9168-9CA0A2DBB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70EB3B-5BE5-44A7-97C7-FD5BED06D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C9BEEB-51E0-4B9B-B1F4-A4E6F2647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BEECA-4AAB-4C4F-9DE0-858261BD5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68A41D-FD06-447F-9FD3-9A9FDB30F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AAE712-3A6D-4155-93C2-CBB8DA5BA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630449-2362-47A8-BA97-CDBF9DD75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FD7638-100C-4A29-AC4C-4A44E2F47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BEE641-7784-43AD-9D71-B4F7CB673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4EFD95-D218-43F8-8FB5-573129F7F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322428-3363-4BC8-AF4A-ECE3E8334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FCBB66-0817-49DF-A688-E799490A1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440A28-6DFA-4979-8861-8E1348DA3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5E6B7-DBFC-4719-AFCB-BD485B6AB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6F3DF-3C1D-4913-8844-91D5694F1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F1945-009E-4DFF-AB97-F1DD178DD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3ADB0-C9E0-4FDC-8C5B-748DE155E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91928-BA22-4DE0-B6E3-44B09FB38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3696F-C64E-4AB9-929F-F9CC65E97DC3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01262-2C4B-4247-B89B-775B290FC400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7CF3C-322F-4053-BC37-0E8E47147F9B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4B6EE-381F-48D8-AC74-B62F6C0F487C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i052.radikal.ru/0908/a0/d0c3d793789e.png" TargetMode="External"/><Relationship Id="rId2" Type="http://schemas.openxmlformats.org/officeDocument/2006/relationships/hyperlink" Target="http://s09.radikal.ru/i182/0908/34/2ef8110a2d1d.png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Рисунок 1" descr="C:\Users\User\Documents\8_july.jpg"/>
          <p:cNvPicPr/>
          <p:nvPr/>
        </p:nvPicPr>
        <p:blipFill>
          <a:blip r:embed="rId1"/>
          <a:stretch/>
        </p:blipFill>
        <p:spPr>
          <a:xfrm>
            <a:off x="1258920" y="1052640"/>
            <a:ext cx="6697800" cy="489744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-2484360" y="-2048760"/>
            <a:ext cx="1727280" cy="346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600" spc="-1" strike="noStrike">
              <a:solidFill>
                <a:srgbClr val="4de1ea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5076720" y="5805360"/>
            <a:ext cx="3672000" cy="71928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дготовила: Кравченко Е.Н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8" name="Непоседы_-_Петр_и_Феврония.mp3" descr=""/>
          <p:cNvPicPr/>
          <p:nvPr/>
        </p:nvPicPr>
        <p:blipFill>
          <a:blip r:embed="rId2"/>
          <a:stretch/>
        </p:blipFill>
        <p:spPr>
          <a:xfrm>
            <a:off x="6300720" y="3716280"/>
            <a:ext cx="663480" cy="66528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98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98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61696" fill="hold"/>
                                        <p:tgtEl>
                                          <p:spTgt spid="1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Box 1"/>
          <p:cNvSpPr/>
          <p:nvPr/>
        </p:nvSpPr>
        <p:spPr>
          <a:xfrm>
            <a:off x="285840" y="1214280"/>
            <a:ext cx="8715240" cy="39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                         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Источник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e2d700"/>
                </a:solidFill>
                <a:uFillTx/>
                <a:latin typeface="Calibri"/>
                <a:hlinkClick r:id="rId1"/>
              </a:rPr>
              <a:t>http://i052.radikal.ru/0908/a0/d0c3d793789e.png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 -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ердечко «ромашк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e2d700"/>
                </a:solidFill>
                <a:uFillTx/>
                <a:latin typeface="Calibri"/>
                <a:hlinkClick r:id="rId2"/>
              </a:rPr>
              <a:t>http://s09.radikal.ru/i182/0908/34/2ef8110a2d1d.png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- ромаш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сероссийский день семьи, любви и верности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68000" y="1989000"/>
            <a:ext cx="48956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российский день семьи, любви и верности вышел из православного календаря, где каждый год 8 июля отмечается день святых Петра и Февроньи Муромских — православных покровителей семьи и брака, олицетворяющих в русской культуре супружескую любовь и верность и издревле считавшихся на Руси покровителями семьи и брака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1" name="Содержимое 4" descr="C:\Users\User\Documents\penr_i_fevroniya-9.jpg"/>
          <p:cNvPicPr/>
          <p:nvPr/>
        </p:nvPicPr>
        <p:blipFill>
          <a:blip r:embed="rId1"/>
          <a:stretch/>
        </p:blipFill>
        <p:spPr>
          <a:xfrm>
            <a:off x="5114880" y="1920960"/>
            <a:ext cx="3105360" cy="443376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756108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анонизация святых благоверных Петра и Февронии.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539640" y="1915920"/>
            <a:ext cx="46800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тр и Феврония Муромские (в иночестве Давид и Ефросинья) - благоверные супруги, своей жизнью отразившие духовные ценности и идеалы Святой Руси. История их жизни много веков существовала в преданиях Муромской земли, где они жили и где сохранялись их честные мощи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4" name="Содержимое 5" descr="C:\Users\User\Documents\383a6797beb8.jpg"/>
          <p:cNvPicPr/>
          <p:nvPr/>
        </p:nvPicPr>
        <p:blipFill>
          <a:blip r:embed="rId1"/>
          <a:stretch/>
        </p:blipFill>
        <p:spPr>
          <a:xfrm>
            <a:off x="6134040" y="3306600"/>
            <a:ext cx="1067040" cy="16621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Заголовок 12" descr=""/>
          <p:cNvPicPr/>
          <p:nvPr/>
        </p:nvPicPr>
        <p:blipFill>
          <a:blip r:embed="rId1"/>
          <a:stretch/>
        </p:blipFill>
        <p:spPr>
          <a:xfrm>
            <a:off x="590400" y="585720"/>
            <a:ext cx="15838560" cy="1627200"/>
          </a:xfrm>
          <a:prstGeom prst="rect">
            <a:avLst/>
          </a:prstGeom>
          <a:ln w="0">
            <a:noFill/>
          </a:ln>
        </p:spPr>
      </p:pic>
      <p:pic>
        <p:nvPicPr>
          <p:cNvPr id="206" name="Рисунок 11" descr="C:\Users\User\Documents\908.jpg"/>
          <p:cNvPicPr/>
          <p:nvPr/>
        </p:nvPicPr>
        <p:blipFill>
          <a:blip r:embed="rId2"/>
          <a:srcRect l="0" t="9170" r="0" b="9170"/>
          <a:stretch/>
        </p:blipFill>
        <p:spPr>
          <a:xfrm>
            <a:off x="3311640" y="2276640"/>
            <a:ext cx="5832360" cy="403200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26560" y="620640"/>
            <a:ext cx="7859880" cy="797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кона Святых Петра и Февронии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179280" y="1600200"/>
            <a:ext cx="4392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оснуться к святыне можно не только в Муроме. Во многих православных храмах есть икона Святых Петра и Февронии, где любой из нас может возжечь свечу и попросить помощи и заступничества у угодников Божиих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9" name="Содержимое 4" descr="C:\Users\User\Documents\image2877401.jpg"/>
          <p:cNvPicPr/>
          <p:nvPr/>
        </p:nvPicPr>
        <p:blipFill>
          <a:blip r:embed="rId1"/>
          <a:stretch/>
        </p:blipFill>
        <p:spPr>
          <a:xfrm>
            <a:off x="4572000" y="1484280"/>
            <a:ext cx="4014720" cy="482436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ень семьи, любви и верности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323640" y="1412640"/>
            <a:ext cx="309564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первые 8 июля 2008 года, который был провозглашен годом семьи, был отмечен новый праздник - День семьи, получивший официальный правительственный статус.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нового праздника очень нежный символ - ромашка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2" name="Содержимое 8" descr="C:\Users\User\Documents\10.jpg"/>
          <p:cNvPicPr/>
          <p:nvPr/>
        </p:nvPicPr>
        <p:blipFill>
          <a:blip r:embed="rId1"/>
          <a:stretch/>
        </p:blipFill>
        <p:spPr>
          <a:xfrm>
            <a:off x="3851280" y="1844640"/>
            <a:ext cx="4824360" cy="403236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рден Святых благоверных князя Петра и княгини Февронии Муромских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79280" y="2133360"/>
            <a:ext cx="439272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а награда дается за значительный вклад в укрепление института семьи, как признание выдающегося служения укреплению семьи, исполнению супружеского долга и подвига, совершенного              во имя семьи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5" name="Picture 2" descr="C:\Users\User\Documents\75956552_large_63776ad20d9e.jpg"/>
          <p:cNvPicPr/>
          <p:nvPr/>
        </p:nvPicPr>
        <p:blipFill>
          <a:blip r:embed="rId1"/>
          <a:stretch/>
        </p:blipFill>
        <p:spPr>
          <a:xfrm>
            <a:off x="4284720" y="2205000"/>
            <a:ext cx="4680000" cy="351000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65000"/>
            <a:ext cx="8229600" cy="1368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кульптурные композиции                         "Святые благоверные Петр и Феврония Муромские"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55280" y="2205000"/>
            <a:ext cx="4103640" cy="39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2008 году стартовала общенациональная программа "В кругу семьи". В рамках этой программы началась установка скульптурных групп в различных городах России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8" name="Содержимое 4" descr="C:\Users\User\Documents\solnet-ee-d7.jpg"/>
          <p:cNvPicPr/>
          <p:nvPr/>
        </p:nvPicPr>
        <p:blipFill>
          <a:blip r:embed="rId1"/>
          <a:stretch/>
        </p:blipFill>
        <p:spPr>
          <a:xfrm>
            <a:off x="5005440" y="1920960"/>
            <a:ext cx="3324240" cy="443376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23640" y="404280"/>
            <a:ext cx="316836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0000"/>
                </a:solidFill>
                <a:latin typeface="Calibri"/>
              </a:rPr>
              <a:t>С  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Днём Семьи, Любви               и Верности!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24000" y="1341360"/>
            <a:ext cx="3743280" cy="511200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годня вспоминаем благоверных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ятых князей Февронию               с Петром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зря их покровителями верной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юбви в семье, защитою зовём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юз их стать примером может –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им быть должен христианский брак,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скай влюблённым всем Господь поможет,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вы вдвоём живите точно так!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1" name="Содержимое 16" descr="C:\Users\User\Documents\0_3532b_ebf83839_XL.jpeg"/>
          <p:cNvPicPr/>
          <p:nvPr/>
        </p:nvPicPr>
        <p:blipFill>
          <a:blip r:embed="rId1"/>
          <a:stretch/>
        </p:blipFill>
        <p:spPr>
          <a:xfrm>
            <a:off x="5010120" y="2921040"/>
            <a:ext cx="2241720" cy="208260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4T17:49:41Z</dcterms:created>
  <dc:creator>"Храмцова Елена" &lt;khramtzova.alena@mail.ru&gt;</dc:creator>
  <dc:description/>
  <dc:language>en-US</dc:language>
  <cp:lastModifiedBy>User</cp:lastModifiedBy>
  <dcterms:modified xsi:type="dcterms:W3CDTF">2020-07-08T06:18:46Z</dcterms:modified>
  <cp:revision>41</cp:revision>
  <dc:subject/>
  <dc:title>Слайд 1</dc:title>
</cp:coreProperties>
</file>