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E73-6398-4317-9361-3A3886CF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D2C-ED72-47C6-AD3B-CA5CE2C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2EB-CEDE-486B-B1DA-349DBEAB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68D-A3B2-4790-B608-F215462C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21C9-4482-426F-9B30-7B4175DF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9225-E5F1-498A-930B-1AA91FDA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726F-DC13-49C2-89F0-4F1BB22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72C6-B11A-459D-A82F-5FA5E7D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4859-5BE2-4424-8FB6-BCB6817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5EFD-A4DD-446D-8913-2BC7F329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4B5C-621B-4545-8194-D332586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372-8000-4163-80C8-1370BB4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94E-389D-4502-92F9-FAEA4B4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48B-E3F2-402C-A2B7-97F6E49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BB83-EE76-4337-A86F-45C2D47F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B1E-E9A0-4E79-AB0B-D808B5FB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785-5C55-4079-81AA-8C91A034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BC84-404A-4A59-885E-39C31F4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6FBA-68C7-40FC-A6F1-1548A45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9CF1-54E2-4E6F-8AD2-F749A10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112D-6D0B-4012-AD59-91BAFB4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895F-878F-493F-B87C-715ED36C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86F-5F1D-4E65-AC77-6C8FA907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022E-CEC8-463B-903C-C2F7793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7BB3-2A52-40EE-9E4D-384DC703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C920-24FF-452D-A558-C3E0BB9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7892-A458-49C3-8818-740FD3F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B1AD-F3B3-45C1-A1CD-3964B1E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FC72-5114-4D68-917A-07991881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4DBD-E82B-40CA-888D-644EA77C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DBEF-1095-4D1B-A166-8A3241BF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1A93-C7F7-47F0-BAFF-6A7B33C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09E8-5C70-4FFB-8004-7DE8755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6FA-DC2B-441F-9FDB-5DCE61C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75F9-319E-4D98-B940-288F494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FEE7-6E3E-4B92-B52F-240EAF0B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8A49-EEE3-43E2-BF2D-1E94E83C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C88A-FAF2-4F07-B4DC-27CDF34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3EF7-ECE6-4644-A18E-C92C547D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4250-6233-4703-A872-36557A8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7ABA-A66D-480C-8998-0BD688D7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5040-C68E-4EBE-AD54-216DC91B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55E6-3E29-4572-B842-9539C683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7872-FA11-4E4E-A7D5-343A96F7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65D-F229-41A2-8BF7-9AB92CB7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2A66-6742-4FAC-80DC-B6CFE339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3472-E107-42DF-8BBD-22A8E31F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501E-3FA8-4FE2-B2DC-968A66B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CA7B-4704-46E3-B3A9-F620FECA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6006-A3B6-428C-ABB1-389C3A06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AFAA-746E-4270-87D4-7F5DB4B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2C99-D9C9-4C77-B1EB-7A3FBF11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CB16-AEFF-4C3A-A778-64384FB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79A9-E743-4ACF-A9B8-3793C4F1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5534-1289-473E-8FEA-AFD1F8AF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053-431D-4E51-A45B-364C3F50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3756-D1FE-45C3-BDCD-FD02D67B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90C-B28B-4D29-948B-D9E1801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879-6E68-42CD-8F8F-24C0F00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FE2-AFDA-4229-A694-AB1FD03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303E-69BE-4E8F-A15D-09DFE90FC8D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8044-1036-4BD0-B705-DF3337EE528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D81-3097-434F-B843-EF9624236DB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BDA0-FE8A-4A3A-9C07-6394AFBEE34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3980-C062-4EAE-B917-5BF0357D5E8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368000" y="18446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7200" spc="-1" strike="noStrike">
                <a:solidFill>
                  <a:srgbClr val="000000"/>
                </a:solidFill>
                <a:latin typeface="Trebuchet MS"/>
              </a:rPr>
              <a:t>Словарные слова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i="1" lang="ru-RU" sz="7200" spc="-1" strike="noStrike">
                <a:solidFill>
                  <a:srgbClr val="000000"/>
                </a:solidFill>
                <a:latin typeface="Trebuchet MS"/>
              </a:rPr>
              <a:t>1 класс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руглый-кругл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адкий-сладки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 полосатой кожей гладк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 разрежешь -посмотр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расный-крас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н внутр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5" descr="C:\Users\а\Downloads\20200708_184737.jpg"/>
          <p:cNvPicPr/>
          <p:nvPr/>
        </p:nvPicPr>
        <p:blipFill>
          <a:blip r:embed="rId2"/>
          <a:stretch/>
        </p:blipFill>
        <p:spPr>
          <a:xfrm>
            <a:off x="4178160" y="2886120"/>
            <a:ext cx="352116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аленький мальчиш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сером армячишк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 дворам шныря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рохи собира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5" descr="C:\Users\а\Downloads\20200708_185006.jpg"/>
          <p:cNvPicPr/>
          <p:nvPr/>
        </p:nvPicPr>
        <p:blipFill>
          <a:blip r:embed="rId2"/>
          <a:stretch/>
        </p:blipFill>
        <p:spPr>
          <a:xfrm>
            <a:off x="4178160" y="2747880"/>
            <a:ext cx="352116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а птица всем знакома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ажно ходит возле дом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р-Кар-Кар вдруг закричит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спокойно улети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чень хитрая персон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 зовут её…....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5" descr="C:\Users\а\Downloads\20200708_185144.jpg"/>
          <p:cNvPicPr/>
          <p:nvPr/>
        </p:nvPicPr>
        <p:blipFill>
          <a:blip r:embed="rId2"/>
          <a:stretch/>
        </p:blipFill>
        <p:spPr>
          <a:xfrm>
            <a:off x="4178160" y="2851200"/>
            <a:ext cx="3521160" cy="20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9240" y="328680"/>
            <a:ext cx="8486640" cy="1152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 за зверь лесно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стал, как столбик, под сосно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стоит среди трав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ши больше головы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5" descr="C:\Users\а\Downloads\20200708_185405.jpg"/>
          <p:cNvPicPr/>
          <p:nvPr/>
        </p:nvPicPr>
        <p:blipFill>
          <a:blip r:embed="rId2"/>
          <a:stretch/>
        </p:blipFill>
        <p:spPr>
          <a:xfrm>
            <a:off x="4178160" y="2413080"/>
            <a:ext cx="352116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 неё множество одёже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 одёжек нет застёж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кто-то из одёже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готовит вдруг сала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язательно найдёт в н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итаминов целый склад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C:\Users\а\Downloads\20200708_185548.jpg"/>
          <p:cNvPicPr/>
          <p:nvPr/>
        </p:nvPicPr>
        <p:blipFill>
          <a:blip r:embed="rId2"/>
          <a:stretch/>
        </p:blipFill>
        <p:spPr>
          <a:xfrm>
            <a:off x="4178160" y="2773440"/>
            <a:ext cx="3521160" cy="21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н все меньше от работ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от почти совсем исчез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 него свои забо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н рисует речку, лес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собачку, и корову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етю-модницу в обнове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то же он, трудяга наш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еревянный   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C:\Users\а\Downloads\20200708_185723.jpg"/>
          <p:cNvPicPr/>
          <p:nvPr/>
        </p:nvPicPr>
        <p:blipFill>
          <a:blip r:embed="rId2"/>
          <a:stretch/>
        </p:blipFill>
        <p:spPr>
          <a:xfrm>
            <a:off x="4643280" y="2492280"/>
            <a:ext cx="320040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ишь тольк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звенит звон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он приходит на ур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н нам расскажет о земл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 мире, счастье, о добр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 буквах, цифрах и словах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 реках, океанах, о моря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063960" cy="30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468360" y="476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мис Лилия Анато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а</cp:lastModifiedBy>
  <dcterms:modified xsi:type="dcterms:W3CDTF">2020-07-08T14:09:16Z</dcterms:modified>
  <cp:revision>36</cp:revision>
  <dc:subject/>
  <dc:title>Слайд 1</dc:title>
</cp:coreProperties>
</file>