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9C04-DB3A-4AC2-9BAD-293469076F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1143000"/>
            <a:ext cx="4114800" cy="3086280"/>
          </a:xfrm>
          <a:prstGeom prst="rect">
            <a:avLst/>
          </a:prstGeom>
          <a:ln w="0">
            <a:noFill/>
          </a:ln>
        </p:spPr>
      </p:sp>
      <p:sp>
        <p:nvSpPr>
          <p:cNvPr id="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18F4-515A-4B54-BFD7-D07E4049B5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1143000"/>
            <a:ext cx="4114800" cy="3086280"/>
          </a:xfrm>
          <a:prstGeom prst="rect">
            <a:avLst/>
          </a:prstGeom>
          <a:ln w="0">
            <a:noFill/>
          </a:ln>
        </p:spPr>
      </p:sp>
      <p:sp>
        <p:nvSpPr>
          <p:cNvPr id="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A4E9-D931-4C00-98E4-70965C6447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7C7A1-F8EA-4982-B610-F478F982C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4E78-AA52-4B1E-93C9-63B29910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A8D21-B989-4FCF-B397-1D9EBD168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B3362-B970-4F75-90E4-F467DC53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9072-71B6-49F9-987D-9A330058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42453-EAA4-4A6D-AEEF-E5C368A3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A60A5-B649-4019-8AEF-F092E9E2F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6D18C-C4FC-422E-9203-EBB74FAF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6BF7-DB92-41DD-B2FD-FF68E5B0A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3553-64CB-4B6C-BFF5-2ECC671C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25F0-3CB3-4DF5-A851-FA342773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8E18-AA53-4BDB-B79D-B2D8A6DFB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D3E8-58DE-4EAB-BDAE-8AD8ADEF44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следовательская работа по физической культуре на тему: Баскетбол в России и США</a:t>
            </a:r>
            <a:endParaRPr b="0" lang="en-US" sz="4400" spc="-1" strike="noStrike">
              <a:solidFill>
                <a:srgbClr val="000000"/>
              </a:solidFill>
              <a:latin typeface="Arial"/>
            </a:endParaRPr>
          </a:p>
        </p:txBody>
      </p:sp>
      <p:sp>
        <p:nvSpPr>
          <p:cNvPr id="49" name="PlaceHolder 2"/>
          <p:cNvSpPr>
            <a:spLocks noGrp="1"/>
          </p:cNvSpPr>
          <p:nvPr>
            <p:ph type="subTitle"/>
          </p:nvPr>
        </p:nvSpPr>
        <p:spPr>
          <a:xfrm>
            <a:off x="6300360" y="3789360"/>
            <a:ext cx="2830680" cy="30686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 ученик 9В класса Зинин Сергей</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л Кондратьев В.К.</a:t>
            </a:r>
            <a:endParaRPr b="0" lang="en-US" sz="1800" spc="-1" strike="noStrike">
              <a:solidFill>
                <a:srgbClr val="000000"/>
              </a:solidFill>
              <a:latin typeface="Arial"/>
            </a:endParaRPr>
          </a:p>
        </p:txBody>
      </p:sp>
      <p:sp>
        <p:nvSpPr>
          <p:cNvPr id="50" name="TextBox 1"/>
          <p:cNvSpPr/>
          <p:nvPr/>
        </p:nvSpPr>
        <p:spPr>
          <a:xfrm>
            <a:off x="611280" y="18900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униципальное автономное общеобразовательное учреждение средняя школа №10 г.Павлово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115920"/>
            <a:ext cx="8785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Студенческий баскетбол в США</a:t>
            </a:r>
            <a:endParaRPr b="0" lang="en-US" sz="3200" spc="-1" strike="noStrike">
              <a:solidFill>
                <a:srgbClr val="000000"/>
              </a:solidFill>
              <a:latin typeface="Arial"/>
            </a:endParaRPr>
          </a:p>
        </p:txBody>
      </p:sp>
      <p:sp>
        <p:nvSpPr>
          <p:cNvPr id="70" name=""/>
          <p:cNvSpPr txBox="1"/>
          <p:nvPr/>
        </p:nvSpPr>
        <p:spPr>
          <a:xfrm>
            <a:off x="179280" y="907560"/>
            <a:ext cx="8785440" cy="52182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кто хоть немного интересуется спортом в Америке, слышали про </a:t>
            </a:r>
            <a:r>
              <a:rPr b="1" lang="ru-RU" sz="1400" spc="-1" strike="noStrike">
                <a:solidFill>
                  <a:srgbClr val="000000"/>
                </a:solidFill>
                <a:latin typeface="Arial"/>
              </a:rPr>
              <a:t>NCAA</a:t>
            </a:r>
            <a:r>
              <a:rPr b="0" lang="ru-RU" sz="1400" spc="-1" strike="noStrike">
                <a:solidFill>
                  <a:srgbClr val="000000"/>
                </a:solidFill>
                <a:latin typeface="Arial"/>
              </a:rPr>
              <a:t> – спортивную студенческую лигу США, в которой спортсмены, выстпупая за свой университет, стараются пробиться в профессиональный спорт.</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мериканские студенческие соревнования, которые мы можем увидеть по телевизору, с 20 тысячными трибунами на площадках которых выступают будущие игроки НБА, НФЛ, НХЛ и т.д. – это лишь верхушка айсберга студенческого спорта.</a:t>
            </a:r>
            <a:r>
              <a:rPr b="1" lang="ru-RU" sz="1400" spc="-1" strike="noStrike">
                <a:solidFill>
                  <a:srgbClr val="000000"/>
                </a:solidFill>
                <a:latin typeface="Arial"/>
              </a:rPr>
              <a:t> </a:t>
            </a:r>
            <a:r>
              <a:rPr b="0" lang="ru-RU" sz="1400" spc="-1" strike="noStrike">
                <a:solidFill>
                  <a:srgbClr val="000000"/>
                </a:solidFill>
                <a:latin typeface="Arial"/>
              </a:rPr>
              <a:t>Колледжей и университетов в США тысячи, и далеко не каждый университет обладает миллионными бюджетами и содержит в своих рядах будущих спортсменов мирового уровн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NCAA (National Collegiate Athletic Association) подразделяется на 3 дивизиона:</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NCAA Division 1</a:t>
            </a:r>
            <a:r>
              <a:rPr b="0" lang="ru-RU" sz="1400" spc="-1" strike="noStrike">
                <a:solidFill>
                  <a:srgbClr val="000000"/>
                </a:solidFill>
                <a:latin typeface="Arial"/>
              </a:rPr>
              <a:t> (около 350 университетов)</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этом дивизионе выступают такие известные университеты как Duke, North Carolina University, Kansas University, Kentucky Univers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ниверситеты первого дивизона – это крупнейшие университеты США, которые вкладывают огромные деньги в свой студенческий спорт.</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ромные спортивные арены, условия для тренировок, не хуже чем у команд НБА, самые перспективные молодые спортсмены со всего мира – это 1ый дивизон NCA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440" y="29880"/>
            <a:ext cx="5410080" cy="62643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NCAA Division 2</a:t>
            </a:r>
            <a:r>
              <a:rPr b="0" lang="ru-RU" sz="1400" spc="-1" strike="noStrike">
                <a:solidFill>
                  <a:srgbClr val="000000"/>
                </a:solidFill>
                <a:latin typeface="Arial"/>
              </a:rPr>
              <a:t>  (около 315 университетов)</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дивизион представлен более маленькими университетами, но все же студенты живут, учатся и тренируются в замечательных условиях и посещаемость спортивных мероприятий достаточно высока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ровень спортивных команд второго дивизиона NCAA разумеется слабее команд первого дивизиона, однако я бы не сказал, что по уровню игры разница колоссальна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ые сильные баскетбольные команды второго дивизиона вполне способны играть наравне со середнячками первого дивизион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эн Уоллес например был выходцем из второго дивизиона.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NCAA Division 3</a:t>
            </a:r>
            <a:r>
              <a:rPr b="0" lang="ru-RU" sz="1400" spc="-1" strike="noStrike">
                <a:solidFill>
                  <a:srgbClr val="000000"/>
                </a:solidFill>
                <a:latin typeface="Arial"/>
              </a:rPr>
              <a:t> – (450 университетов)</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етий дивизион представлен небольшими университетами.</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авное отличие от 1ого и 2ого дивизиона в том, что в 3ем дивизионе не дают спортивные стипендии, спортсмены сами платят за своё обуч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ретьем дивизионе уровень спорта уже гораздо ниж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72" name="Рисунок 3" descr=""/>
          <p:cNvPicPr/>
          <p:nvPr/>
        </p:nvPicPr>
        <p:blipFill>
          <a:blip r:embed="rId1"/>
          <a:stretch/>
        </p:blipFill>
        <p:spPr>
          <a:xfrm>
            <a:off x="5867280" y="0"/>
            <a:ext cx="3157560" cy="4292640"/>
          </a:xfrm>
          <a:prstGeom prst="rect">
            <a:avLst/>
          </a:prstGeom>
          <a:ln w="0">
            <a:noFill/>
          </a:ln>
        </p:spPr>
      </p:pic>
      <p:sp>
        <p:nvSpPr>
          <p:cNvPr id="73" name="TextBox 5"/>
          <p:cNvSpPr/>
          <p:nvPr/>
        </p:nvSpPr>
        <p:spPr>
          <a:xfrm>
            <a:off x="5892840" y="4260960"/>
            <a:ext cx="315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Легенда </a:t>
            </a:r>
            <a:r>
              <a:rPr b="0" lang="en-US" sz="1400" spc="-1" strike="noStrike" u="sng">
                <a:solidFill>
                  <a:srgbClr val="000000"/>
                </a:solidFill>
                <a:uFillTx/>
                <a:latin typeface="Arial"/>
              </a:rPr>
              <a:t>NBA </a:t>
            </a:r>
            <a:r>
              <a:rPr b="0" lang="ru-RU" sz="1400" spc="-1" strike="noStrike" u="sng">
                <a:solidFill>
                  <a:srgbClr val="000000"/>
                </a:solidFill>
                <a:uFillTx/>
                <a:latin typeface="Arial"/>
              </a:rPr>
              <a:t>Бэн Уоллес</a:t>
            </a:r>
            <a:endParaRPr b="0" lang="en-US" sz="14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Развитие баскетбола в России</a:t>
            </a:r>
            <a:endParaRPr b="0" lang="en-US" sz="3200" spc="-1" strike="noStrike">
              <a:solidFill>
                <a:srgbClr val="000000"/>
              </a:solidFill>
              <a:latin typeface="Arial"/>
            </a:endParaRPr>
          </a:p>
        </p:txBody>
      </p:sp>
      <p:sp>
        <p:nvSpPr>
          <p:cNvPr id="75" name=""/>
          <p:cNvSpPr txBox="1"/>
          <p:nvPr/>
        </p:nvSpPr>
        <p:spPr>
          <a:xfrm>
            <a:off x="395280" y="904680"/>
            <a:ext cx="8229600" cy="3384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вые баскетбольные команды в России появились в 1906 году на базе Спортивного общества «Маяк» в Санкт-Петербурге. До Октябрьской революции 1917 года баскетбол в России развивался преимущественно в столице Российской империи Санкт-Петербурге. В начале двадцатых годов XX века баскетбол ввели в программу обучения студентов Главной военной школы физического образования трудящихся и в программу Московского института физической культуры. В 1923 году был разыгран первый чемпионат СССР. С 1934 года первенство СССР по баскетболу проводили ежегодно. В 1959 году мужская сборная СССР впервые приняла участие в чемпионате мира и выиграла на нем все матчи, но была лишена золотых медалей за отказ сыграть против команды Тайваня. Сборная СССР не сыграла с Тайванем по политическим мотивам – из-за его вражды с коммунистическим Китаем. В 1976 году женская сборная СССР выиграла первый женский турнир по баскетболу в рамках Олимпийских игр.</a:t>
            </a:r>
            <a:endParaRPr b="0" lang="en-US" sz="1600" spc="-1" strike="noStrike">
              <a:solidFill>
                <a:srgbClr val="000000"/>
              </a:solidFill>
              <a:latin typeface="Arial"/>
            </a:endParaRPr>
          </a:p>
        </p:txBody>
      </p:sp>
      <p:pic>
        <p:nvPicPr>
          <p:cNvPr id="76" name="Рисунок 1" descr=""/>
          <p:cNvPicPr/>
          <p:nvPr/>
        </p:nvPicPr>
        <p:blipFill>
          <a:blip r:embed="rId1"/>
          <a:stretch/>
        </p:blipFill>
        <p:spPr>
          <a:xfrm>
            <a:off x="2484360" y="4270320"/>
            <a:ext cx="3527640" cy="230364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93560" y="981000"/>
            <a:ext cx="8229600" cy="53611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Школьники с 2007 года соревнуются в Школьной баскетбольной лиге КЭС-Баскет – одном из крупнейших детско-юношеских спортивных соревнований. В сезоне 2018/19 в соревнованиях приняли участие около 18 000 школьных команд из 69 регионов России. Турнир проводится поэтапно – проходят внутришкольные, муниципальные и дивизиональные отборы. Лучшие команды попадают в Суперфинал.</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же с 2006 года проводится школьный турнир Локобаскет, в котором на данный момент участвуют ученики 7-9 классов со всей России. Этапы проводятся по такому же принципу, что и Кэс-Баскет.</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78" name="TextBox 3"/>
          <p:cNvSpPr/>
          <p:nvPr/>
        </p:nvSpPr>
        <p:spPr>
          <a:xfrm>
            <a:off x="181080" y="115920"/>
            <a:ext cx="885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Школьный баскетбол в России</a:t>
            </a:r>
            <a:endParaRPr b="0" lang="en-US" sz="32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428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Студенческий баскетбол в России</a:t>
            </a:r>
            <a:endParaRPr b="0" lang="en-US" sz="3200" spc="-1" strike="noStrike">
              <a:solidFill>
                <a:srgbClr val="000000"/>
              </a:solidFill>
              <a:latin typeface="Arial"/>
            </a:endParaRPr>
          </a:p>
        </p:txBody>
      </p:sp>
      <p:sp>
        <p:nvSpPr>
          <p:cNvPr id="80" name="TextBox 1"/>
          <p:cNvSpPr/>
          <p:nvPr/>
        </p:nvSpPr>
        <p:spPr>
          <a:xfrm>
            <a:off x="179280" y="836640"/>
            <a:ext cx="878544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туденческий баскетбол в России представлен лигой АСБ (Ассоциация студенческого баскетбола). Структурно она напоминает американскую NCAA. Такое же разделение на конференции, где после регулярки лучшие представители своих регионов сражаются уже между собой. Точно так же, как и в Америке, к соревнованиям не допускаются профессиональные игро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 точки зрения игровых кадров ценности АСБ не несет никакой. Немногим удавалось после игры на таком уровне пробиться хотя бы в Суперлигу. Лишь единицам повезло поиграть в Единой Лиге ВТБ. Тем не менее, я абсолютно уверен, студенческий баскетбол должен жить. Более того, его развитие должно стать одной из основных целей работы РФБ (Российская федерация баскетбо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оссийский баскетбол в силу системных различий вряд ли когда-либо будет рассчитывать на игроков-студентов. Это чисто заокеанская тема, в то время как в Европе уже много лет практикуется совершенно иной подход подготовки. Но такие проекты, как лига АСБ или ее школьный аналог КЭС-БАСКЕТ чрезвычайно важны. Прежде всего, для популяризации баскетбола в стране. Тут работает простой принцип «чем больше, тем лучше». Чем больше у детей будет возможностей вживую лицезреть матчи самых разных команд, тем скорее они сами решат заняться этим. Проведение подобных мероприятий дает возможность людям открыть для себя баскетбол. Ведь те эмоции, которые дарит наша игра, не сравнятся ни с чем, что есть в мире большого спорта.</a:t>
            </a:r>
            <a:endParaRPr b="0" lang="en-US" sz="14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  </a:t>
            </a:r>
            <a:endParaRPr b="0" lang="en-US" sz="4400" spc="-1" strike="noStrike">
              <a:solidFill>
                <a:srgbClr val="000000"/>
              </a:solidFill>
              <a:latin typeface="Arial"/>
            </a:endParaRPr>
          </a:p>
        </p:txBody>
      </p:sp>
      <p:sp>
        <p:nvSpPr>
          <p:cNvPr id="82" name="TextBox 3"/>
          <p:cNvSpPr/>
          <p:nvPr/>
        </p:nvSpPr>
        <p:spPr>
          <a:xfrm>
            <a:off x="262080" y="1344600"/>
            <a:ext cx="864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баскетбол является олимпийским видом спорта и пользуется огромной популярностью по всему миру, но при этом продолжает развиваться и по сей день. Появляются новые лиги как для взрослых, так и для детей. Сама игра постоянно совершенствуется и обзаводится новыми правилами. </a:t>
            </a:r>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89000"/>
            <a:ext cx="8229600" cy="5937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go-sport.ru/article/istoriya-poyavleniya-basketbol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s://lokoliga.ru/history-lokobaske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s://www.sports.ru/tribuna/blogs/alexskryagin/774212.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umpball.ru/publications/3953/studencheskij-basketbol-v-rossii-chto-eto</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95280" y="333360"/>
            <a:ext cx="8229600" cy="5399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Введение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История возникновения баскетбола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ru-RU" sz="2000" spc="-1" strike="noStrike">
                <a:solidFill>
                  <a:srgbClr val="000000"/>
                </a:solidFill>
                <a:latin typeface="Arial"/>
              </a:rPr>
              <a:t>.1 Первые правила в баскетболе</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Развитие баскетбола в США</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1 Школьный баскетбол в США</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2 Студенческий баскетбол в США</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Развитие баскетбола в России</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4.1 Школьный баскетбол в России</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4.2 Студенческий баскетбол в России</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Заключение</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Использованные источники</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ведение </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аскетбол – это командный вид спорта, который пользуется популярностью по всему миру, в том числе и в России.</a:t>
            </a:r>
            <a:endParaRPr b="0" lang="en-US" sz="32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00"/>
                </a:solidFill>
                <a:uFillTx/>
                <a:latin typeface="Arial"/>
              </a:rPr>
              <a:t>Цели</a:t>
            </a:r>
            <a:r>
              <a:rPr b="0" lang="ru-RU" sz="4000" spc="-1" strike="noStrike">
                <a:solidFill>
                  <a:srgbClr val="000000"/>
                </a:solidFill>
                <a:latin typeface="Arial"/>
              </a:rPr>
              <a:t>: изучение развития баскетбола в США и России.</a:t>
            </a:r>
            <a:endParaRPr b="0" lang="en-US" sz="4000" spc="-1" strike="noStrike">
              <a:solidFill>
                <a:srgbClr val="000000"/>
              </a:solidFill>
              <a:latin typeface="Arial"/>
            </a:endParaRPr>
          </a:p>
        </p:txBody>
      </p:sp>
      <p:sp>
        <p:nvSpPr>
          <p:cNvPr id="55" name=""/>
          <p:cNvSpPr txBox="1"/>
          <p:nvPr/>
        </p:nvSpPr>
        <p:spPr>
          <a:xfrm>
            <a:off x="457200" y="11970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00"/>
                </a:solidFill>
                <a:uFillTx/>
                <a:latin typeface="Arial"/>
              </a:rPr>
              <a:t>Задачи</a:t>
            </a:r>
            <a:r>
              <a:rPr b="0" lang="ru-RU" sz="4000" spc="-1" strike="noStrike">
                <a:solidFill>
                  <a:srgbClr val="000000"/>
                </a:solidFill>
                <a:latin typeface="Arial"/>
              </a:rPr>
              <a:t>: Узнать кто и как придумал баскетбол.</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Изучить историю развития баскетбола в США и России.</a:t>
            </a:r>
            <a:endParaRPr b="0" lang="en-US" sz="40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Объект 3" descr=""/>
          <p:cNvPicPr/>
          <p:nvPr/>
        </p:nvPicPr>
        <p:blipFill>
          <a:blip r:embed="rId1"/>
          <a:stretch/>
        </p:blipFill>
        <p:spPr>
          <a:xfrm>
            <a:off x="6735600" y="895320"/>
            <a:ext cx="2401920" cy="3152880"/>
          </a:xfrm>
          <a:prstGeom prst="rect">
            <a:avLst/>
          </a:prstGeom>
          <a:ln w="0">
            <a:noFill/>
          </a:ln>
        </p:spPr>
      </p:pic>
      <p:sp>
        <p:nvSpPr>
          <p:cNvPr id="57" name="TextBox 4"/>
          <p:cNvSpPr/>
          <p:nvPr/>
        </p:nvSpPr>
        <p:spPr>
          <a:xfrm>
            <a:off x="324000" y="981000"/>
            <a:ext cx="58323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оздателем баскетбола считается Джеймс Нейсмит, который преподавал в американском колледже Молодежной христианской ассоциации (МХА) в Спрингфилде в конце 19 века. Нейсмит искал новый способ увлечь студентов колледжа занятиями спортом. В те времена студенты занимались лишь гимнастическими упражнениями. Он разработал новую подвижную игру, чтобы оживить скучные гимнастические занят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вый матч по баскетболу прошел 21 декабря 1891 года. Нейсмит закрепил на перилах балконов две корзины для фруктов, разделил студентов на две команды и выдал им самодельный мяч. Цель игры была та же, что и в современном баскетболе – забрасывать мяч в корзину. Побеждала команда, которая забросила мяч большее число раз.</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т современного баскетбола игра отличалась кардинально. Изначально не существовало ведения мяча, и игроки просто перебрасывали его друг другу, перемещаясь на короткое расстояние по площадке, на которой практически не было никакой разметки. Чтобы достать мяч из корзины, игрокам приходилось лазить по приставной лестнице.</a:t>
            </a:r>
            <a:endParaRPr b="0" lang="en-US" sz="1400" spc="-1" strike="noStrike">
              <a:solidFill>
                <a:srgbClr val="000000"/>
              </a:solidFill>
              <a:latin typeface="Arial"/>
            </a:endParaRPr>
          </a:p>
        </p:txBody>
      </p:sp>
      <p:sp>
        <p:nvSpPr>
          <p:cNvPr id="58" name="TextBox 2"/>
          <p:cNvSpPr/>
          <p:nvPr/>
        </p:nvSpPr>
        <p:spPr>
          <a:xfrm>
            <a:off x="468360" y="189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История возникновения баскетбола</a:t>
            </a:r>
            <a:endParaRPr b="0" lang="en-US" sz="32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2200" y="798480"/>
            <a:ext cx="8229600" cy="45244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1892 году. Нейсмита и студентов устраивала игра практически без правил только на первых порах. Со временем возникла необходимость в четком регламенте матчей, ведь порой даже болельщики на балконе вмешивались в ход игры – ловили мяч и забрасывали его в корзину. В 1892 году Джеймс Нейсмит составил первый свод правил баскетбола из 13 пунктов. В том же году преподаватель физкультуры Сенда Беренсон из частного женского колледжа в Нортгемптоне (штат Массачусетс) адаптировала правила для женских команд.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вые правила пересмотрели и дополнили после первых же матчей. Болельщики продолжили «хулиганить» и вынудили Нейсмита придумать щит, который защищал корзину. В 1893 году фруктовая корзина ушла в историю, уступив место привычному кольцу с сеткой. Еще через год были утверждены первые официальные правила баскетбола, которые действовали на всей территории США.</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Рисунок 3" descr=""/>
          <p:cNvPicPr/>
          <p:nvPr/>
        </p:nvPicPr>
        <p:blipFill>
          <a:blip r:embed="rId1"/>
          <a:stretch/>
        </p:blipFill>
        <p:spPr>
          <a:xfrm>
            <a:off x="1187280" y="4149720"/>
            <a:ext cx="4824720" cy="2347920"/>
          </a:xfrm>
          <a:prstGeom prst="rect">
            <a:avLst/>
          </a:prstGeom>
          <a:ln w="0">
            <a:noFill/>
          </a:ln>
        </p:spPr>
      </p:pic>
      <p:sp>
        <p:nvSpPr>
          <p:cNvPr id="61" name="TextBox 1"/>
          <p:cNvSpPr/>
          <p:nvPr/>
        </p:nvSpPr>
        <p:spPr>
          <a:xfrm>
            <a:off x="322200" y="648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Первые правила в баскетболе</a:t>
            </a:r>
            <a:endParaRPr b="0" lang="en-US" sz="32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4"/>
          <p:cNvSpPr/>
          <p:nvPr/>
        </p:nvSpPr>
        <p:spPr>
          <a:xfrm>
            <a:off x="417600" y="836640"/>
            <a:ext cx="8229600" cy="30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США баскетбол распространялся по учебным заведениям в качестве элемента уроков физкультуры. Еще до начала XX века баскетбол появился в Канаде, где также понравился студентам колледжей и университетов. Джеймс Нейсмит продвигал баскетбол в США, а колледж МХА, где состоялся первый матч, регулировал правила игры около десяти первых лет существования баскетбо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зднее эстафету у колледжа МХА подхватили сразу две организации: Национальная ассоциация студенческого спорта и Любительский спортивный союз. Они отвечали за популяризацию баскетбола в Америке. Уже в 1898 году сторонники нового вида спорта попытались создать первое официальное объединение команд – Национальную баскетбольную лигу. Впрочем, данная организация просуществовала всего пять лет, а сам баскетбол тем временем выбрался за пределы Северной Америки</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5" descr=""/>
          <p:cNvPicPr/>
          <p:nvPr/>
        </p:nvPicPr>
        <p:blipFill>
          <a:blip r:embed="rId1"/>
          <a:stretch/>
        </p:blipFill>
        <p:spPr>
          <a:xfrm>
            <a:off x="2604960" y="3860640"/>
            <a:ext cx="3665520" cy="2740320"/>
          </a:xfrm>
          <a:prstGeom prst="rect">
            <a:avLst/>
          </a:prstGeom>
          <a:ln w="0">
            <a:noFill/>
          </a:ln>
        </p:spPr>
      </p:pic>
      <p:sp>
        <p:nvSpPr>
          <p:cNvPr id="64" name="TextBox 1"/>
          <p:cNvSpPr/>
          <p:nvPr/>
        </p:nvSpPr>
        <p:spPr>
          <a:xfrm>
            <a:off x="225360" y="115920"/>
            <a:ext cx="84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Развитие баскетбола в США</a:t>
            </a:r>
            <a:endParaRPr b="0" lang="en-US" sz="32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836640"/>
            <a:ext cx="9144000" cy="47260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школы в Америке подразделяются на 2 основных типа – </a:t>
            </a:r>
            <a:r>
              <a:rPr b="1" lang="ru-RU" sz="1400" spc="-1" strike="noStrike">
                <a:solidFill>
                  <a:srgbClr val="000000"/>
                </a:solidFill>
                <a:latin typeface="Arial"/>
              </a:rPr>
              <a:t>государственные (public schools)</a:t>
            </a:r>
            <a:r>
              <a:rPr b="0" lang="ru-RU" sz="1400" spc="-1" strike="noStrike">
                <a:solidFill>
                  <a:srgbClr val="000000"/>
                </a:solidFill>
                <a:latin typeface="Arial"/>
              </a:rPr>
              <a:t> и </a:t>
            </a:r>
            <a:r>
              <a:rPr b="1" lang="ru-RU" sz="1400" spc="-1" strike="noStrike">
                <a:solidFill>
                  <a:srgbClr val="000000"/>
                </a:solidFill>
                <a:latin typeface="Arial"/>
              </a:rPr>
              <a:t>частные (private schools)</a:t>
            </a:r>
            <a:r>
              <a:rPr b="0" lang="ru-RU"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исленность учеников в государственных школах несравнима с количеством учеников в частных школах. Мне рассказывали, что в государственных школах крупных городов на некоторых предметах в классе может находится по 40-50 челове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ходит, что иностранцы могут поехать учиться лишь в Private schools где образование само по себе достаточно дорогое. Однако спортсмены и хорошие ученики могут получать скидки на свою учебу, что в Америке называется стипендией (scholarship). Самые перспективные и талантливые спортсмены могут получать скидку на образование до 100%.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Америке трехступенчатая система школьного образования:</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lementary school</a:t>
            </a:r>
            <a:r>
              <a:rPr b="0" lang="ru-RU" sz="1400" spc="-1" strike="noStrike">
                <a:solidFill>
                  <a:srgbClr val="000000"/>
                </a:solidFill>
                <a:latin typeface="Arial"/>
              </a:rPr>
              <a:t> (с 1 по 5 класс)</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iddle School</a:t>
            </a:r>
            <a:r>
              <a:rPr b="0" lang="ru-RU" sz="1400" spc="-1" strike="noStrike">
                <a:solidFill>
                  <a:srgbClr val="000000"/>
                </a:solidFill>
                <a:latin typeface="Arial"/>
              </a:rPr>
              <a:t> (c 6 по 8 класс)</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High School</a:t>
            </a:r>
            <a:r>
              <a:rPr b="0" lang="ru-RU" sz="1400" spc="-1" strike="noStrike">
                <a:solidFill>
                  <a:srgbClr val="000000"/>
                </a:solidFill>
                <a:latin typeface="Arial"/>
              </a:rPr>
              <a:t> (с 9 по 12 класс)</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мериканцы учатся в школе 12 лет, поэтому и заканчивают школу позднее, обычно в 18-19 лет.</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ответственно High School разделена на 4 года: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9 класс </a:t>
            </a:r>
            <a:r>
              <a:rPr b="0" lang="ru-RU" sz="1400" spc="-1" strike="noStrike">
                <a:solidFill>
                  <a:srgbClr val="000000"/>
                </a:solidFill>
                <a:latin typeface="Arial"/>
              </a:rPr>
              <a:t>(Freshman year)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 класс</a:t>
            </a:r>
            <a:r>
              <a:rPr b="0" lang="ru-RU" sz="1400" spc="-1" strike="noStrike">
                <a:solidFill>
                  <a:srgbClr val="000000"/>
                </a:solidFill>
                <a:latin typeface="Arial"/>
              </a:rPr>
              <a:t> (Sophomore year)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1 класс </a:t>
            </a:r>
            <a:r>
              <a:rPr b="0" lang="ru-RU" sz="1400" spc="-1" strike="noStrike">
                <a:solidFill>
                  <a:srgbClr val="000000"/>
                </a:solidFill>
                <a:latin typeface="Arial"/>
              </a:rPr>
              <a:t>(Junior year)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 класс</a:t>
            </a:r>
            <a:r>
              <a:rPr b="0" lang="ru-RU" sz="1400" spc="-1" strike="noStrike">
                <a:solidFill>
                  <a:srgbClr val="000000"/>
                </a:solidFill>
                <a:latin typeface="Arial"/>
              </a:rPr>
              <a:t> (Senior yea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TextBox 4"/>
          <p:cNvSpPr/>
          <p:nvPr/>
        </p:nvSpPr>
        <p:spPr>
          <a:xfrm>
            <a:off x="108000" y="44280"/>
            <a:ext cx="892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Arial"/>
              </a:rPr>
              <a:t>Школьный баскетбол в США</a:t>
            </a:r>
            <a:endParaRPr b="0" lang="en-US" sz="32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Размещенное изображение"/>
          <p:cNvPicPr/>
          <p:nvPr/>
        </p:nvPicPr>
        <p:blipFill>
          <a:blip r:embed="rId1"/>
          <a:stretch/>
        </p:blipFill>
        <p:spPr>
          <a:xfrm>
            <a:off x="2124000" y="3860640"/>
            <a:ext cx="4708440" cy="2719440"/>
          </a:xfrm>
          <a:prstGeom prst="rect">
            <a:avLst/>
          </a:prstGeom>
          <a:ln w="0">
            <a:noFill/>
          </a:ln>
        </p:spPr>
      </p:pic>
      <p:sp>
        <p:nvSpPr>
          <p:cNvPr id="68" name="TextBox 4"/>
          <p:cNvSpPr/>
          <p:nvPr/>
        </p:nvSpPr>
        <p:spPr>
          <a:xfrm>
            <a:off x="0" y="333360"/>
            <a:ext cx="9144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роме этого некоторые школы еще имеют </a:t>
            </a:r>
            <a:r>
              <a:rPr b="1" lang="ru-RU" sz="1400" spc="-1" strike="noStrike">
                <a:solidFill>
                  <a:srgbClr val="000000"/>
                </a:solidFill>
                <a:latin typeface="Arial"/>
              </a:rPr>
              <a:t>Preparatory year</a:t>
            </a:r>
            <a:r>
              <a:rPr b="0" lang="ru-RU"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Prep year идет после окончания 12 класса школы и подходит тем, кто по каким-либо причинам не смог поступить в университет или кто хочет еще год отыграть на школьном уровне и лучше подготовиться к университет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репах учатся ребята от 19 до 21 года. Сезон они играют уже не с хай скулами, а между такими же Препами, т.е. в отличии от школьных игр, тут все уже примерно ровесни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 каждого вида спорта игровой сезон проходит в определенные сроки, например сезон американского футбола с конца августа по конец ноября, а баскетбольный сезон с ноября по март. Количество игр и соперники против которой будет играть школа, зависит от уровня самой шко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окончания официального сезона, многие проводят дополнительный летний сезон, который называют </a:t>
            </a:r>
            <a:r>
              <a:rPr b="1" lang="ru-RU" sz="1400" spc="-1" strike="noStrike">
                <a:solidFill>
                  <a:srgbClr val="000000"/>
                </a:solidFill>
                <a:latin typeface="Arial"/>
              </a:rPr>
              <a:t>AAU season</a:t>
            </a:r>
            <a:r>
              <a:rPr b="0" lang="ru-RU" sz="1400" spc="-1" strike="noStrike">
                <a:solidFill>
                  <a:srgbClr val="000000"/>
                </a:solidFill>
                <a:latin typeface="Arial"/>
              </a:rPr>
              <a:t>. Тут уже игроки играют не за школы, а за команды которые формируются из лучших игроков города/шта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екрутинг игроков тренерами колледжей проходит как во время официального, так и во время AAU сезона. По правилам студенческого баскетбола, тренера колледжей могут общаться с своими потенциальными игроками только по определенным периодам.</a:t>
            </a:r>
            <a:endParaRPr b="0" lang="en-US" sz="14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lbert-yacyuk@mail.ru</cp:lastModifiedBy>
  <dcterms:modified xsi:type="dcterms:W3CDTF">2020-04-29T15:56:31Z</dcterms:modified>
  <cp:revision>365</cp:revision>
  <dc:subject/>
  <dc:title>Diapositiva 1</dc:title>
</cp:coreProperties>
</file>