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EA35-7BD9-447B-964A-D5171BA4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E445-0385-4E7E-AE69-728E294D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DEFD-C5B4-42D4-98DA-606F72BC6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F094-BF2B-4366-8329-2C7C95B07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A36A-9FD0-456A-91D0-148A750E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3232-7874-45A3-BFE1-B3483374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E6BE-6F91-48E2-8847-2DC580E0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3049-3B78-443E-8446-9EEF69F6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93DA-691D-4BBC-9D17-BEF5DC47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E8B6-3C9F-49DC-AADE-2BF0F54B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C177-8F1A-4814-902C-CEA5776E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B6F3-AB27-44D0-9BD7-731018D3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248D-9572-47A9-B42E-76C73DCBB88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5"/>
          <p:cNvSpPr/>
          <p:nvPr/>
        </p:nvSpPr>
        <p:spPr>
          <a:xfrm>
            <a:off x="189000" y="250920"/>
            <a:ext cx="6480000" cy="864216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76280" y="468360"/>
            <a:ext cx="58291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атериалы для рисования на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8" descr="IMG_0511.JPG"/>
          <p:cNvPicPr/>
          <p:nvPr/>
        </p:nvPicPr>
        <p:blipFill>
          <a:blip r:embed="rId1"/>
          <a:srcRect l="8662" t="25590" r="11023" b="0"/>
          <a:stretch/>
        </p:blipFill>
        <p:spPr>
          <a:xfrm>
            <a:off x="765000" y="1692360"/>
            <a:ext cx="5112000" cy="5975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 flipV="1" rot="10800000">
            <a:off x="333360" y="2030760"/>
            <a:ext cx="6524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0"/>
          <p:cNvSpPr/>
          <p:nvPr/>
        </p:nvSpPr>
        <p:spPr>
          <a:xfrm>
            <a:off x="189000" y="250920"/>
            <a:ext cx="6480000" cy="864216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Заголовок 3" descr=""/>
          <p:cNvPicPr/>
          <p:nvPr/>
        </p:nvPicPr>
        <p:blipFill>
          <a:blip r:embed="rId1"/>
          <a:stretch/>
        </p:blipFill>
        <p:spPr>
          <a:xfrm>
            <a:off x="396720" y="281160"/>
            <a:ext cx="5845320" cy="11332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6" descr="IMG_0514.JPG"/>
          <p:cNvPicPr/>
          <p:nvPr/>
        </p:nvPicPr>
        <p:blipFill>
          <a:blip r:embed="rId2"/>
          <a:stretch/>
        </p:blipFill>
        <p:spPr>
          <a:xfrm>
            <a:off x="189000" y="1332000"/>
            <a:ext cx="2160360" cy="266364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7"/>
          <p:cNvSpPr/>
          <p:nvPr/>
        </p:nvSpPr>
        <p:spPr>
          <a:xfrm>
            <a:off x="2421000" y="1258920"/>
            <a:ext cx="41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Для начала работы нужно подготовить воду. В чистую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ьевую воду добавля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устит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8" descr="IMG_0517.JPG"/>
          <p:cNvPicPr/>
          <p:nvPr/>
        </p:nvPicPr>
        <p:blipFill>
          <a:blip r:embed="rId3"/>
          <a:stretch/>
        </p:blipFill>
        <p:spPr>
          <a:xfrm>
            <a:off x="4581360" y="2700360"/>
            <a:ext cx="2016360" cy="244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9"/>
          <p:cNvSpPr/>
          <p:nvPr/>
        </p:nvSpPr>
        <p:spPr>
          <a:xfrm>
            <a:off x="2997360" y="3132000"/>
            <a:ext cx="172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Хорошо смешива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11" descr="IMG_0520.JPG"/>
          <p:cNvPicPr/>
          <p:nvPr/>
        </p:nvPicPr>
        <p:blipFill>
          <a:blip r:embed="rId4"/>
          <a:srcRect l="15769" t="22443" r="0" b="0"/>
          <a:stretch/>
        </p:blipFill>
        <p:spPr>
          <a:xfrm>
            <a:off x="260280" y="4356000"/>
            <a:ext cx="2305080" cy="31687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2"/>
          <p:cNvSpPr/>
          <p:nvPr/>
        </p:nvSpPr>
        <p:spPr>
          <a:xfrm>
            <a:off x="-243000" y="759636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Вливаем в ёмкость готовый раст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13" descr="IMG_0523.JPG"/>
          <p:cNvPicPr/>
          <p:nvPr/>
        </p:nvPicPr>
        <p:blipFill>
          <a:blip r:embed="rId5"/>
          <a:stretch/>
        </p:blipFill>
        <p:spPr>
          <a:xfrm>
            <a:off x="3716280" y="5292720"/>
            <a:ext cx="2016360" cy="2664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4"/>
          <p:cNvSpPr/>
          <p:nvPr/>
        </p:nvSpPr>
        <p:spPr>
          <a:xfrm>
            <a:off x="3141720" y="795672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. Приступаем к работе с крас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0"/>
          <p:cNvSpPr/>
          <p:nvPr/>
        </p:nvSpPr>
        <p:spPr>
          <a:xfrm>
            <a:off x="189000" y="250920"/>
            <a:ext cx="6480000" cy="864216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ерной кисточкой с помощью брызг формируем фон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Заголовок 3" descr=""/>
          <p:cNvPicPr/>
          <p:nvPr/>
        </p:nvPicPr>
        <p:blipFill>
          <a:blip r:embed="rId1"/>
          <a:stretch/>
        </p:blipFill>
        <p:spPr>
          <a:xfrm>
            <a:off x="689040" y="676440"/>
            <a:ext cx="5840280" cy="6649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5" descr="IMG_0528.JPG"/>
          <p:cNvPicPr/>
          <p:nvPr/>
        </p:nvPicPr>
        <p:blipFill>
          <a:blip r:embed="rId2"/>
          <a:srcRect l="0" t="12992" r="13381" b="0"/>
          <a:stretch/>
        </p:blipFill>
        <p:spPr>
          <a:xfrm>
            <a:off x="333360" y="324000"/>
            <a:ext cx="2808360" cy="3240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6" descr="IMG_0534.JPG"/>
          <p:cNvPicPr/>
          <p:nvPr/>
        </p:nvPicPr>
        <p:blipFill>
          <a:blip r:embed="rId3"/>
          <a:srcRect l="0" t="14306" r="13779" b="0"/>
          <a:stretch/>
        </p:blipFill>
        <p:spPr>
          <a:xfrm>
            <a:off x="3645000" y="395280"/>
            <a:ext cx="2663640" cy="3240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7"/>
          <p:cNvSpPr/>
          <p:nvPr/>
        </p:nvSpPr>
        <p:spPr>
          <a:xfrm>
            <a:off x="333360" y="3708360"/>
            <a:ext cx="30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ерной кисточкой с помощью брызг формируем ф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9"/>
          <p:cNvSpPr/>
          <p:nvPr/>
        </p:nvSpPr>
        <p:spPr>
          <a:xfrm>
            <a:off x="3500280" y="3780000"/>
            <a:ext cx="309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С помощью палочки делаем узоры 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21" descr="IMG_0549.JPG"/>
          <p:cNvPicPr/>
          <p:nvPr/>
        </p:nvPicPr>
        <p:blipFill>
          <a:blip r:embed="rId4"/>
          <a:srcRect l="0" t="34251" r="0" b="21651"/>
          <a:stretch/>
        </p:blipFill>
        <p:spPr>
          <a:xfrm>
            <a:off x="404640" y="4788000"/>
            <a:ext cx="2448000" cy="30970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2" descr="IMG_0555.JPG"/>
          <p:cNvPicPr/>
          <p:nvPr/>
        </p:nvPicPr>
        <p:blipFill>
          <a:blip r:embed="rId5"/>
          <a:srcRect l="0" t="17449" r="16933" b="0"/>
          <a:stretch/>
        </p:blipFill>
        <p:spPr>
          <a:xfrm>
            <a:off x="3645000" y="4716360"/>
            <a:ext cx="23050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5"/>
          <p:cNvSpPr/>
          <p:nvPr/>
        </p:nvSpPr>
        <p:spPr>
          <a:xfrm>
            <a:off x="189000" y="250920"/>
            <a:ext cx="6480000" cy="864216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ерной кисточкой с помощью брызг формируем фон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9920" y="75528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проведения исследовательской   работы я узнал, какие материалы используют для рисования  на воде. Я выяснил, что в обычной воде краска растворяется, поэтому нужно приготовить специальный раствор с загустителем. Краски тоже должны быть специальными.Процесс рисования  на воде  оказался очень увлекательным! Особенно интересным оказалось  то, что при нанесении капель красок на поверхность воды образуется непредсказуемый и завораживающий рисунок.  Теперь я  знаю, как рисовать на воде и создавать красивые рисун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3360" y="291960"/>
            <a:ext cx="625464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тог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333360" y="4737240"/>
            <a:ext cx="61642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7" descr="IMG_0558.JPG"/>
          <p:cNvPicPr/>
          <p:nvPr/>
        </p:nvPicPr>
        <p:blipFill>
          <a:blip r:embed="rId1"/>
          <a:srcRect l="0" t="0" r="3799" b="29652"/>
          <a:stretch/>
        </p:blipFill>
        <p:spPr>
          <a:xfrm>
            <a:off x="1268280" y="5292720"/>
            <a:ext cx="4104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Наташа</cp:lastModifiedBy>
  <dcterms:modified xsi:type="dcterms:W3CDTF">2019-04-23T18:13:59Z</dcterms:modified>
  <cp:revision>124</cp:revision>
  <dc:subject/>
  <dc:title>Diapositiva 1</dc:title>
</cp:coreProperties>
</file>