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8080-F0FC-4B0B-AF4E-EC54E04A0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C0D-C320-4796-BF93-E3DB2DF4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7CCA-713A-4B19-9F63-9B3F7B4D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97BA-FBA9-405D-8E05-E6CCCB11B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10C2-A856-42FD-BF52-9DB1EEBDF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8478-80B8-4790-8AF7-F612F421C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F4D-210E-4FA9-9835-4E42A051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9E20-7DEB-44E1-9680-4A717A06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C2AF-039E-42C3-BDCD-34F60BB3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DD9-050A-478B-BDA0-100887432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AFE5-BBF0-4170-BDF2-62C9760A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EFF2-5F04-459B-8616-B863A1C8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2A566-4287-4B66-A336-5E45B009A3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3975120" y="66600"/>
            <a:ext cx="7948440" cy="1457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1859040" y="1547640"/>
            <a:ext cx="8851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5992920" y="-42840"/>
            <a:ext cx="441324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54440" y="1181160"/>
          <a:ext cx="577800" cy="5121360"/>
        </p:xfrm>
        <a:graphic>
          <a:graphicData uri="http://schemas.openxmlformats.org/drawingml/2006/table">
            <a:tbl>
              <a:tblPr/>
              <a:tblGrid>
                <a:gridCol w="577800"/>
              </a:tblGrid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15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11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227560" y="1181160"/>
          <a:ext cx="5737320" cy="633240"/>
        </p:xfrm>
        <a:graphic>
          <a:graphicData uri="http://schemas.openxmlformats.org/drawingml/2006/table">
            <a:tbl>
              <a:tblPr/>
              <a:tblGrid>
                <a:gridCol w="573120"/>
                <a:gridCol w="574560"/>
                <a:gridCol w="573120"/>
                <a:gridCol w="574920"/>
                <a:gridCol w="573120"/>
                <a:gridCol w="572760"/>
                <a:gridCol w="574920"/>
                <a:gridCol w="573120"/>
                <a:gridCol w="574560"/>
                <a:gridCol w="57312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219640" y="1181160"/>
          <a:ext cx="5737320" cy="633240"/>
        </p:xfrm>
        <a:graphic>
          <a:graphicData uri="http://schemas.openxmlformats.org/drawingml/2006/table">
            <a:tbl>
              <a:tblPr/>
              <a:tblGrid>
                <a:gridCol w="573120"/>
                <a:gridCol w="574560"/>
                <a:gridCol w="573120"/>
                <a:gridCol w="574920"/>
                <a:gridCol w="573120"/>
                <a:gridCol w="572760"/>
                <a:gridCol w="574920"/>
                <a:gridCol w="573120"/>
                <a:gridCol w="574560"/>
                <a:gridCol w="57312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471840" y="1816200"/>
          <a:ext cx="1154160" cy="65412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486240" y="1798560"/>
          <a:ext cx="1154160" cy="65412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254560" y="1828800"/>
          <a:ext cx="600120" cy="64440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67160" y="1852560"/>
          <a:ext cx="574920" cy="617760"/>
        </p:xfrm>
        <a:graphic>
          <a:graphicData uri="http://schemas.openxmlformats.org/drawingml/2006/table">
            <a:tbl>
              <a:tblPr/>
              <a:tblGrid>
                <a:gridCol w="574920"/>
              </a:tblGrid>
              <a:tr h="61776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040280" y="2479680"/>
          <a:ext cx="585720" cy="604800"/>
        </p:xfrm>
        <a:graphic>
          <a:graphicData uri="http://schemas.openxmlformats.org/drawingml/2006/table">
            <a:tbl>
              <a:tblPr/>
              <a:tblGrid>
                <a:gridCol w="5857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052880" y="2479680"/>
          <a:ext cx="587520" cy="590400"/>
        </p:xfrm>
        <a:graphic>
          <a:graphicData uri="http://schemas.openxmlformats.org/drawingml/2006/table">
            <a:tbl>
              <a:tblPr/>
              <a:tblGrid>
                <a:gridCol w="587520"/>
              </a:tblGrid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254560" y="2494080"/>
          <a:ext cx="600120" cy="57600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267160" y="2494080"/>
          <a:ext cx="574920" cy="576000"/>
        </p:xfrm>
        <a:graphic>
          <a:graphicData uri="http://schemas.openxmlformats.org/drawingml/2006/table">
            <a:tbl>
              <a:tblPr/>
              <a:tblGrid>
                <a:gridCol w="574920"/>
              </a:tblGrid>
              <a:tr h="57600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865600" y="3094200"/>
          <a:ext cx="1774800" cy="617400"/>
        </p:xfrm>
        <a:graphic>
          <a:graphicData uri="http://schemas.openxmlformats.org/drawingml/2006/table">
            <a:tbl>
              <a:tblPr/>
              <a:tblGrid>
                <a:gridCol w="591840"/>
                <a:gridCol w="590760"/>
                <a:gridCol w="59220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38600" y="3108240"/>
          <a:ext cx="1787400" cy="617760"/>
        </p:xfrm>
        <a:graphic>
          <a:graphicData uri="http://schemas.openxmlformats.org/drawingml/2006/table">
            <a:tbl>
              <a:tblPr/>
              <a:tblGrid>
                <a:gridCol w="595080"/>
                <a:gridCol w="596880"/>
                <a:gridCol w="595440"/>
              </a:tblGrid>
              <a:tr h="617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254560" y="3108240"/>
          <a:ext cx="614520" cy="603360"/>
        </p:xfrm>
        <a:graphic>
          <a:graphicData uri="http://schemas.openxmlformats.org/drawingml/2006/table">
            <a:tbl>
              <a:tblPr/>
              <a:tblGrid>
                <a:gridCol w="61452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254560" y="3094200"/>
          <a:ext cx="641520" cy="631800"/>
        </p:xfrm>
        <a:graphic>
          <a:graphicData uri="http://schemas.openxmlformats.org/drawingml/2006/table">
            <a:tbl>
              <a:tblPr/>
              <a:tblGrid>
                <a:gridCol w="6415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025880" y="3762360"/>
          <a:ext cx="614520" cy="604800"/>
        </p:xfrm>
        <a:graphic>
          <a:graphicData uri="http://schemas.openxmlformats.org/drawingml/2006/table">
            <a:tbl>
              <a:tblPr/>
              <a:tblGrid>
                <a:gridCol w="6145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013280" y="3762360"/>
          <a:ext cx="627120" cy="631800"/>
        </p:xfrm>
        <a:graphic>
          <a:graphicData uri="http://schemas.openxmlformats.org/drawingml/2006/table">
            <a:tbl>
              <a:tblPr/>
              <a:tblGrid>
                <a:gridCol w="6271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267160" y="3762360"/>
          <a:ext cx="2374920" cy="577800"/>
        </p:xfrm>
        <a:graphic>
          <a:graphicData uri="http://schemas.openxmlformats.org/drawingml/2006/table">
            <a:tbl>
              <a:tblPr/>
              <a:tblGrid>
                <a:gridCol w="594000"/>
                <a:gridCol w="593640"/>
                <a:gridCol w="593640"/>
                <a:gridCol w="59364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288040" y="3776760"/>
          <a:ext cx="2374920" cy="577800"/>
        </p:xfrm>
        <a:graphic>
          <a:graphicData uri="http://schemas.openxmlformats.org/drawingml/2006/table">
            <a:tbl>
              <a:tblPr/>
              <a:tblGrid>
                <a:gridCol w="593640"/>
                <a:gridCol w="593640"/>
                <a:gridCol w="593640"/>
                <a:gridCol w="59400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254560" y="4390920"/>
          <a:ext cx="3998880" cy="6048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69880"/>
                <a:gridCol w="571320"/>
                <a:gridCol w="571680"/>
                <a:gridCol w="571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246640" y="4408560"/>
          <a:ext cx="4006800" cy="600120"/>
        </p:xfrm>
        <a:graphic>
          <a:graphicData uri="http://schemas.openxmlformats.org/drawingml/2006/table">
            <a:tbl>
              <a:tblPr/>
              <a:tblGrid>
                <a:gridCol w="573120"/>
                <a:gridCol w="571680"/>
                <a:gridCol w="555480"/>
                <a:gridCol w="588960"/>
                <a:gridCol w="573120"/>
                <a:gridCol w="571320"/>
                <a:gridCol w="573120"/>
              </a:tblGrid>
              <a:tr h="600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33640" y="5032440"/>
          <a:ext cx="1720800" cy="604800"/>
        </p:xfrm>
        <a:graphic>
          <a:graphicData uri="http://schemas.openxmlformats.org/drawingml/2006/table">
            <a:tbl>
              <a:tblPr/>
              <a:tblGrid>
                <a:gridCol w="573120"/>
                <a:gridCol w="574560"/>
                <a:gridCol w="5731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913120" y="5046840"/>
          <a:ext cx="1719360" cy="60300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3120"/>
              </a:tblGrid>
              <a:tr h="60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240160" y="5046840"/>
          <a:ext cx="587520" cy="603000"/>
        </p:xfrm>
        <a:graphic>
          <a:graphicData uri="http://schemas.openxmlformats.org/drawingml/2006/table">
            <a:tbl>
              <a:tblPr/>
              <a:tblGrid>
                <a:gridCol w="587520"/>
              </a:tblGrid>
              <a:tr h="60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240160" y="5046840"/>
          <a:ext cx="573120" cy="603000"/>
        </p:xfrm>
        <a:graphic>
          <a:graphicData uri="http://schemas.openxmlformats.org/drawingml/2006/table">
            <a:tbl>
              <a:tblPr/>
              <a:tblGrid>
                <a:gridCol w="573120"/>
              </a:tblGrid>
              <a:tr h="60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01680" y="5673600"/>
          <a:ext cx="3438720" cy="60480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3120"/>
                <a:gridCol w="573120"/>
                <a:gridCol w="573120"/>
                <a:gridCol w="5731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06360" y="5661000"/>
          <a:ext cx="3440160" cy="60336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3120"/>
                <a:gridCol w="574560"/>
                <a:gridCol w="573120"/>
                <a:gridCol w="57312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" descr=""/>
          <p:cNvPicPr/>
          <p:nvPr/>
        </p:nvPicPr>
        <p:blipFill>
          <a:blip r:embed="rId2"/>
          <a:stretch/>
        </p:blipFill>
        <p:spPr>
          <a:xfrm>
            <a:off x="7315200" y="1474920"/>
            <a:ext cx="4535640" cy="1652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rcRect l="9154" t="0" r="14579" b="0"/>
          <a:stretch/>
        </p:blipFill>
        <p:spPr>
          <a:xfrm>
            <a:off x="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7407360" y="1603440"/>
            <a:ext cx="4535280" cy="1646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3"/>
          <a:srcRect l="1584" t="0" r="5151" b="0"/>
          <a:stretch/>
        </p:blipFill>
        <p:spPr>
          <a:xfrm>
            <a:off x="0" y="0"/>
            <a:ext cx="71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7040520" y="1798560"/>
            <a:ext cx="4535640" cy="1646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642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rcRect l="6319" t="18508" r="5474" b="10846"/>
          <a:stretch/>
        </p:blipFill>
        <p:spPr>
          <a:xfrm>
            <a:off x="0" y="0"/>
            <a:ext cx="80661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8053560" y="1438200"/>
            <a:ext cx="40352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/>
          <p:cNvPicPr/>
          <p:nvPr/>
        </p:nvPicPr>
        <p:blipFill>
          <a:blip r:embed="rId2"/>
          <a:stretch/>
        </p:blipFill>
        <p:spPr>
          <a:xfrm>
            <a:off x="7497720" y="1798560"/>
            <a:ext cx="4529160" cy="164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3"/>
          <a:stretch/>
        </p:blipFill>
        <p:spPr>
          <a:xfrm>
            <a:off x="0" y="146160"/>
            <a:ext cx="733428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4218120" y="237960"/>
            <a:ext cx="732780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855800" y="1916280"/>
          <a:ext cx="8051760" cy="3840120"/>
        </p:xfrm>
        <a:graphic>
          <a:graphicData uri="http://schemas.openxmlformats.org/drawingml/2006/table">
            <a:tbl>
              <a:tblPr/>
              <a:tblGrid>
                <a:gridCol w="8051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ЕЖИМ Д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ИГИ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ИТ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АКАЛИВ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ФИЗИЧЕСКАЯ КЛЬТУРА И СПОР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ОЛОЖИТЕЛЬНЫЕ ЭМО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06:58:16Z</dcterms:created>
  <dc:creator>Пользователь</dc:creator>
  <dc:description/>
  <dc:language>en-US</dc:language>
  <cp:lastModifiedBy>home</cp:lastModifiedBy>
  <dcterms:modified xsi:type="dcterms:W3CDTF">2020-07-09T12:05:25Z</dcterms:modified>
  <cp:revision>12</cp:revision>
  <dc:subject/>
  <dc:title>Презентация PowerPoint</dc:title>
</cp:coreProperties>
</file>