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910B-C48E-4AFC-862A-7C8DE1C6A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7236-97ED-4931-80EC-5335B756F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BA5D7-79B8-4876-9BE8-362C7E1408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DCE8-FD5A-49DB-AB9D-D47ED5ECC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9603-6315-453B-A31B-5690B3D62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4A1F-FD7C-454A-A307-67CB38B69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25CC-B561-4A0B-B381-D35EBC542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F074B-95FE-4FA1-82DF-804907703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CE9E-2F8F-4385-8A48-AFEF3CB86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EBD0-22B7-430C-88EC-4C778FF81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64C1-9FE4-426F-BC82-26985EA4C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5F59F-4D4F-4300-9D24-57ACBA21F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5CCE5-3E57-45A9-AB6D-F1CEC3A8887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2" descr=""/>
          <p:cNvPicPr/>
          <p:nvPr/>
        </p:nvPicPr>
        <p:blipFill>
          <a:blip r:embed="rId2"/>
          <a:stretch/>
        </p:blipFill>
        <p:spPr>
          <a:xfrm>
            <a:off x="3975120" y="66600"/>
            <a:ext cx="7948440" cy="1457280"/>
          </a:xfrm>
          <a:prstGeom prst="rect">
            <a:avLst/>
          </a:prstGeom>
          <a:ln w="0">
            <a:noFill/>
          </a:ln>
        </p:spPr>
      </p:pic>
      <p:pic>
        <p:nvPicPr>
          <p:cNvPr id="43" name="Прямоугольник 3" descr=""/>
          <p:cNvPicPr/>
          <p:nvPr/>
        </p:nvPicPr>
        <p:blipFill>
          <a:blip r:embed="rId3"/>
          <a:stretch/>
        </p:blipFill>
        <p:spPr>
          <a:xfrm>
            <a:off x="1859040" y="1547640"/>
            <a:ext cx="885168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Прямоугольник 2" descr=""/>
          <p:cNvPicPr/>
          <p:nvPr/>
        </p:nvPicPr>
        <p:blipFill>
          <a:blip r:embed="rId2"/>
          <a:stretch/>
        </p:blipFill>
        <p:spPr>
          <a:xfrm>
            <a:off x="5992920" y="-42840"/>
            <a:ext cx="4413240" cy="145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" name=""/>
          <p:cNvGraphicFramePr/>
          <p:nvPr/>
        </p:nvGraphicFramePr>
        <p:xfrm>
          <a:off x="4654440" y="1181160"/>
          <a:ext cx="577800" cy="5121360"/>
        </p:xfrm>
        <a:graphic>
          <a:graphicData uri="http://schemas.openxmlformats.org/drawingml/2006/table">
            <a:tbl>
              <a:tblPr/>
              <a:tblGrid>
                <a:gridCol w="577800"/>
              </a:tblGrid>
              <a:tr h="6397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415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397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64116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0080">
                <a:tc>
                  <a:txBody>
                    <a:bodyPr lIns="91080" rIns="91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080" marR="91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graphicFrame>
        <p:nvGraphicFramePr>
          <p:cNvPr id="47" name=""/>
          <p:cNvGraphicFramePr/>
          <p:nvPr/>
        </p:nvGraphicFramePr>
        <p:xfrm>
          <a:off x="5227560" y="1181160"/>
          <a:ext cx="5737320" cy="633240"/>
        </p:xfrm>
        <a:graphic>
          <a:graphicData uri="http://schemas.openxmlformats.org/drawingml/2006/table">
            <a:tbl>
              <a:tblPr/>
              <a:tblGrid>
                <a:gridCol w="573120"/>
                <a:gridCol w="574560"/>
                <a:gridCol w="573120"/>
                <a:gridCol w="574920"/>
                <a:gridCol w="573120"/>
                <a:gridCol w="572760"/>
                <a:gridCol w="574920"/>
                <a:gridCol w="573120"/>
                <a:gridCol w="574560"/>
                <a:gridCol w="573120"/>
              </a:tblGrid>
              <a:tr h="633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5219640" y="1181160"/>
          <a:ext cx="5737320" cy="633240"/>
        </p:xfrm>
        <a:graphic>
          <a:graphicData uri="http://schemas.openxmlformats.org/drawingml/2006/table">
            <a:tbl>
              <a:tblPr/>
              <a:tblGrid>
                <a:gridCol w="573120"/>
                <a:gridCol w="574560"/>
                <a:gridCol w="573120"/>
                <a:gridCol w="574920"/>
                <a:gridCol w="573120"/>
                <a:gridCol w="572760"/>
                <a:gridCol w="574920"/>
                <a:gridCol w="573120"/>
                <a:gridCol w="574560"/>
                <a:gridCol w="573120"/>
              </a:tblGrid>
              <a:tr h="6332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49" name=""/>
          <p:cNvGraphicFramePr/>
          <p:nvPr/>
        </p:nvGraphicFramePr>
        <p:xfrm>
          <a:off x="3471840" y="1816200"/>
          <a:ext cx="1154160" cy="654120"/>
        </p:xfrm>
        <a:graphic>
          <a:graphicData uri="http://schemas.openxmlformats.org/drawingml/2006/table">
            <a:tbl>
              <a:tblPr/>
              <a:tblGrid>
                <a:gridCol w="577800"/>
                <a:gridCol w="576360"/>
              </a:tblGrid>
              <a:tr h="6541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0" name=""/>
          <p:cNvGraphicFramePr/>
          <p:nvPr/>
        </p:nvGraphicFramePr>
        <p:xfrm>
          <a:off x="3486240" y="1798560"/>
          <a:ext cx="1154160" cy="654120"/>
        </p:xfrm>
        <a:graphic>
          <a:graphicData uri="http://schemas.openxmlformats.org/drawingml/2006/table">
            <a:tbl>
              <a:tblPr/>
              <a:tblGrid>
                <a:gridCol w="577800"/>
                <a:gridCol w="576360"/>
              </a:tblGrid>
              <a:tr h="654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5254560" y="1828800"/>
          <a:ext cx="600120" cy="64440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644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267160" y="1852560"/>
          <a:ext cx="574920" cy="617760"/>
        </p:xfrm>
        <a:graphic>
          <a:graphicData uri="http://schemas.openxmlformats.org/drawingml/2006/table">
            <a:tbl>
              <a:tblPr/>
              <a:tblGrid>
                <a:gridCol w="574920"/>
              </a:tblGrid>
              <a:tr h="617760"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4040280" y="2479680"/>
          <a:ext cx="585720" cy="604800"/>
        </p:xfrm>
        <a:graphic>
          <a:graphicData uri="http://schemas.openxmlformats.org/drawingml/2006/table">
            <a:tbl>
              <a:tblPr/>
              <a:tblGrid>
                <a:gridCol w="58572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4052880" y="2479680"/>
          <a:ext cx="587520" cy="590400"/>
        </p:xfrm>
        <a:graphic>
          <a:graphicData uri="http://schemas.openxmlformats.org/drawingml/2006/table">
            <a:tbl>
              <a:tblPr/>
              <a:tblGrid>
                <a:gridCol w="587520"/>
              </a:tblGrid>
              <a:tr h="5904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5254560" y="2494080"/>
          <a:ext cx="600120" cy="576000"/>
        </p:xfrm>
        <a:graphic>
          <a:graphicData uri="http://schemas.openxmlformats.org/drawingml/2006/table">
            <a:tbl>
              <a:tblPr/>
              <a:tblGrid>
                <a:gridCol w="600120"/>
              </a:tblGrid>
              <a:tr h="576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5267160" y="2494080"/>
          <a:ext cx="574920" cy="576000"/>
        </p:xfrm>
        <a:graphic>
          <a:graphicData uri="http://schemas.openxmlformats.org/drawingml/2006/table">
            <a:tbl>
              <a:tblPr/>
              <a:tblGrid>
                <a:gridCol w="574920"/>
              </a:tblGrid>
              <a:tr h="576000">
                <a:tc>
                  <a:txBody>
                    <a:bodyPr lIns="91800" rIns="91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800" marR="918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2865600" y="3094200"/>
          <a:ext cx="1774800" cy="617400"/>
        </p:xfrm>
        <a:graphic>
          <a:graphicData uri="http://schemas.openxmlformats.org/drawingml/2006/table">
            <a:tbl>
              <a:tblPr/>
              <a:tblGrid>
                <a:gridCol w="591840"/>
                <a:gridCol w="590760"/>
                <a:gridCol w="592200"/>
              </a:tblGrid>
              <a:tr h="617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8" name=""/>
          <p:cNvGraphicFramePr/>
          <p:nvPr/>
        </p:nvGraphicFramePr>
        <p:xfrm>
          <a:off x="2838600" y="3108240"/>
          <a:ext cx="1787400" cy="617760"/>
        </p:xfrm>
        <a:graphic>
          <a:graphicData uri="http://schemas.openxmlformats.org/drawingml/2006/table">
            <a:tbl>
              <a:tblPr/>
              <a:tblGrid>
                <a:gridCol w="595080"/>
                <a:gridCol w="596880"/>
                <a:gridCol w="595440"/>
              </a:tblGrid>
              <a:tr h="6177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254560" y="3108240"/>
          <a:ext cx="614520" cy="603360"/>
        </p:xfrm>
        <a:graphic>
          <a:graphicData uri="http://schemas.openxmlformats.org/drawingml/2006/table">
            <a:tbl>
              <a:tblPr/>
              <a:tblGrid>
                <a:gridCol w="614520"/>
              </a:tblGrid>
              <a:tr h="603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5254560" y="3094200"/>
          <a:ext cx="641520" cy="631800"/>
        </p:xfrm>
        <a:graphic>
          <a:graphicData uri="http://schemas.openxmlformats.org/drawingml/2006/table">
            <a:tbl>
              <a:tblPr/>
              <a:tblGrid>
                <a:gridCol w="641520"/>
              </a:tblGrid>
              <a:tr h="631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4025880" y="3762360"/>
          <a:ext cx="614520" cy="604800"/>
        </p:xfrm>
        <a:graphic>
          <a:graphicData uri="http://schemas.openxmlformats.org/drawingml/2006/table">
            <a:tbl>
              <a:tblPr/>
              <a:tblGrid>
                <a:gridCol w="61452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2" name=""/>
          <p:cNvGraphicFramePr/>
          <p:nvPr/>
        </p:nvGraphicFramePr>
        <p:xfrm>
          <a:off x="4013280" y="3762360"/>
          <a:ext cx="627120" cy="631800"/>
        </p:xfrm>
        <a:graphic>
          <a:graphicData uri="http://schemas.openxmlformats.org/drawingml/2006/table">
            <a:tbl>
              <a:tblPr/>
              <a:tblGrid>
                <a:gridCol w="627120"/>
              </a:tblGrid>
              <a:tr h="631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5267160" y="3762360"/>
          <a:ext cx="2374920" cy="577800"/>
        </p:xfrm>
        <a:graphic>
          <a:graphicData uri="http://schemas.openxmlformats.org/drawingml/2006/table">
            <a:tbl>
              <a:tblPr/>
              <a:tblGrid>
                <a:gridCol w="594000"/>
                <a:gridCol w="593640"/>
                <a:gridCol w="593640"/>
                <a:gridCol w="593640"/>
              </a:tblGrid>
              <a:tr h="57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288040" y="3776760"/>
          <a:ext cx="2374920" cy="577800"/>
        </p:xfrm>
        <a:graphic>
          <a:graphicData uri="http://schemas.openxmlformats.org/drawingml/2006/table">
            <a:tbl>
              <a:tblPr/>
              <a:tblGrid>
                <a:gridCol w="593640"/>
                <a:gridCol w="593640"/>
                <a:gridCol w="593640"/>
                <a:gridCol w="594000"/>
              </a:tblGrid>
              <a:tr h="5778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Ц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5254560" y="4390920"/>
          <a:ext cx="3998880" cy="604800"/>
        </p:xfrm>
        <a:graphic>
          <a:graphicData uri="http://schemas.openxmlformats.org/drawingml/2006/table">
            <a:tbl>
              <a:tblPr/>
              <a:tblGrid>
                <a:gridCol w="571680"/>
                <a:gridCol w="571320"/>
                <a:gridCol w="571680"/>
                <a:gridCol w="569880"/>
                <a:gridCol w="571320"/>
                <a:gridCol w="571680"/>
                <a:gridCol w="57132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5246640" y="4408560"/>
          <a:ext cx="4006800" cy="600120"/>
        </p:xfrm>
        <a:graphic>
          <a:graphicData uri="http://schemas.openxmlformats.org/drawingml/2006/table">
            <a:tbl>
              <a:tblPr/>
              <a:tblGrid>
                <a:gridCol w="573120"/>
                <a:gridCol w="571680"/>
                <a:gridCol w="555480"/>
                <a:gridCol w="588960"/>
                <a:gridCol w="573120"/>
                <a:gridCol w="571320"/>
                <a:gridCol w="573120"/>
              </a:tblGrid>
              <a:tr h="60012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933640" y="5032440"/>
          <a:ext cx="1720800" cy="604800"/>
        </p:xfrm>
        <a:graphic>
          <a:graphicData uri="http://schemas.openxmlformats.org/drawingml/2006/table">
            <a:tbl>
              <a:tblPr/>
              <a:tblGrid>
                <a:gridCol w="573120"/>
                <a:gridCol w="574560"/>
                <a:gridCol w="57312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2913120" y="5046840"/>
          <a:ext cx="1719360" cy="603000"/>
        </p:xfrm>
        <a:graphic>
          <a:graphicData uri="http://schemas.openxmlformats.org/drawingml/2006/table">
            <a:tbl>
              <a:tblPr/>
              <a:tblGrid>
                <a:gridCol w="573120"/>
                <a:gridCol w="573120"/>
                <a:gridCol w="573120"/>
              </a:tblGrid>
              <a:tr h="603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М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9" name=""/>
          <p:cNvGraphicFramePr/>
          <p:nvPr/>
        </p:nvGraphicFramePr>
        <p:xfrm>
          <a:off x="5240160" y="5046840"/>
          <a:ext cx="587520" cy="603000"/>
        </p:xfrm>
        <a:graphic>
          <a:graphicData uri="http://schemas.openxmlformats.org/drawingml/2006/table">
            <a:tbl>
              <a:tblPr/>
              <a:tblGrid>
                <a:gridCol w="587520"/>
              </a:tblGrid>
              <a:tr h="603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5240160" y="5046840"/>
          <a:ext cx="573120" cy="603000"/>
        </p:xfrm>
        <a:graphic>
          <a:graphicData uri="http://schemas.openxmlformats.org/drawingml/2006/table">
            <a:tbl>
              <a:tblPr/>
              <a:tblGrid>
                <a:gridCol w="573120"/>
              </a:tblGrid>
              <a:tr h="60300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1201680" y="5673600"/>
          <a:ext cx="3438720" cy="604800"/>
        </p:xfrm>
        <a:graphic>
          <a:graphicData uri="http://schemas.openxmlformats.org/drawingml/2006/table">
            <a:tbl>
              <a:tblPr/>
              <a:tblGrid>
                <a:gridCol w="573120"/>
                <a:gridCol w="573120"/>
                <a:gridCol w="573120"/>
                <a:gridCol w="573120"/>
                <a:gridCol w="573120"/>
                <a:gridCol w="573120"/>
              </a:tblGrid>
              <a:tr h="60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206360" y="5661000"/>
          <a:ext cx="3440160" cy="603360"/>
        </p:xfrm>
        <a:graphic>
          <a:graphicData uri="http://schemas.openxmlformats.org/drawingml/2006/table">
            <a:tbl>
              <a:tblPr/>
              <a:tblGrid>
                <a:gridCol w="573120"/>
                <a:gridCol w="573120"/>
                <a:gridCol w="573120"/>
                <a:gridCol w="574560"/>
                <a:gridCol w="573120"/>
                <a:gridCol w="573120"/>
              </a:tblGrid>
              <a:tr h="60336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Т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4" name="Прямоугольник 2" descr=""/>
          <p:cNvPicPr/>
          <p:nvPr/>
        </p:nvPicPr>
        <p:blipFill>
          <a:blip r:embed="rId2"/>
          <a:stretch/>
        </p:blipFill>
        <p:spPr>
          <a:xfrm>
            <a:off x="7315200" y="1474920"/>
            <a:ext cx="4535640" cy="165240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3" descr=""/>
          <p:cNvPicPr/>
          <p:nvPr/>
        </p:nvPicPr>
        <p:blipFill>
          <a:blip r:embed="rId3"/>
          <a:srcRect l="9154" t="0" r="14579" b="0"/>
          <a:stretch/>
        </p:blipFill>
        <p:spPr>
          <a:xfrm>
            <a:off x="0" y="0"/>
            <a:ext cx="697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Прямоугольник 2" descr=""/>
          <p:cNvPicPr/>
          <p:nvPr/>
        </p:nvPicPr>
        <p:blipFill>
          <a:blip r:embed="rId2"/>
          <a:stretch/>
        </p:blipFill>
        <p:spPr>
          <a:xfrm>
            <a:off x="7407360" y="1603440"/>
            <a:ext cx="4535280" cy="164628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4" descr=""/>
          <p:cNvPicPr/>
          <p:nvPr/>
        </p:nvPicPr>
        <p:blipFill>
          <a:blip r:embed="rId3"/>
          <a:srcRect l="1584" t="0" r="5151" b="0"/>
          <a:stretch/>
        </p:blipFill>
        <p:spPr>
          <a:xfrm>
            <a:off x="0" y="0"/>
            <a:ext cx="7159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Прямоугольник 2" descr=""/>
          <p:cNvPicPr/>
          <p:nvPr/>
        </p:nvPicPr>
        <p:blipFill>
          <a:blip r:embed="rId2"/>
          <a:stretch/>
        </p:blipFill>
        <p:spPr>
          <a:xfrm>
            <a:off x="7040520" y="1798560"/>
            <a:ext cx="4535640" cy="164628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5" descr=""/>
          <p:cNvPicPr/>
          <p:nvPr/>
        </p:nvPicPr>
        <p:blipFill>
          <a:blip r:embed="rId3"/>
          <a:stretch/>
        </p:blipFill>
        <p:spPr>
          <a:xfrm>
            <a:off x="0" y="0"/>
            <a:ext cx="6424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3" descr=""/>
          <p:cNvPicPr/>
          <p:nvPr/>
        </p:nvPicPr>
        <p:blipFill>
          <a:blip r:embed="rId2"/>
          <a:srcRect l="6319" t="18508" r="5474" b="10846"/>
          <a:stretch/>
        </p:blipFill>
        <p:spPr>
          <a:xfrm>
            <a:off x="0" y="0"/>
            <a:ext cx="806616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Прямоугольник 2" descr=""/>
          <p:cNvPicPr/>
          <p:nvPr/>
        </p:nvPicPr>
        <p:blipFill>
          <a:blip r:embed="rId3"/>
          <a:stretch/>
        </p:blipFill>
        <p:spPr>
          <a:xfrm>
            <a:off x="8053560" y="1438200"/>
            <a:ext cx="4035240" cy="16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6" name="Прямоугольник 2" descr=""/>
          <p:cNvPicPr/>
          <p:nvPr/>
        </p:nvPicPr>
        <p:blipFill>
          <a:blip r:embed="rId2"/>
          <a:stretch/>
        </p:blipFill>
        <p:spPr>
          <a:xfrm>
            <a:off x="7497720" y="1798560"/>
            <a:ext cx="4529160" cy="164628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3" descr=""/>
          <p:cNvPicPr/>
          <p:nvPr/>
        </p:nvPicPr>
        <p:blipFill>
          <a:blip r:embed="rId3"/>
          <a:stretch/>
        </p:blipFill>
        <p:spPr>
          <a:xfrm>
            <a:off x="0" y="146160"/>
            <a:ext cx="7334280" cy="65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pic>
        <p:nvPicPr>
          <p:cNvPr id="89" name="Прямоугольник 2" descr=""/>
          <p:cNvPicPr/>
          <p:nvPr/>
        </p:nvPicPr>
        <p:blipFill>
          <a:blip r:embed="rId2"/>
          <a:stretch/>
        </p:blipFill>
        <p:spPr>
          <a:xfrm>
            <a:off x="4218120" y="237960"/>
            <a:ext cx="7327800" cy="1444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0" name=""/>
          <p:cNvGraphicFramePr/>
          <p:nvPr/>
        </p:nvGraphicFramePr>
        <p:xfrm>
          <a:off x="1855800" y="1916280"/>
          <a:ext cx="8051760" cy="3840120"/>
        </p:xfrm>
        <a:graphic>
          <a:graphicData uri="http://schemas.openxmlformats.org/drawingml/2006/table">
            <a:tbl>
              <a:tblPr/>
              <a:tblGrid>
                <a:gridCol w="8051760"/>
              </a:tblGrid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РЕЖИМ ДНЯ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ГИГИЕН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4e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ИТА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ЗАКАЛИВАНИЕ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4e7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ФИЗИЧЕСКАЯ КЛЬТУРА И СПОРТ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40440">
                <a:tc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36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ПОЛОЖИТЕЛЬНЫЕ ЭМОЦ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c000"/>
                      </a:solidFill>
                    </a:lnL>
                    <a:lnR w="5760">
                      <a:solidFill>
                        <a:srgbClr val="ffc000"/>
                      </a:solidFill>
                    </a:lnR>
                    <a:lnT w="5760">
                      <a:solidFill>
                        <a:srgbClr val="ffc000"/>
                      </a:solidFill>
                    </a:lnT>
                    <a:lnB w="5760">
                      <a:solidFill>
                        <a:srgbClr val="ffc000"/>
                      </a:solidFill>
                    </a:lnB>
                    <a:solidFill>
                      <a:srgbClr val="fff4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2-25T06:58:16Z</dcterms:created>
  <dc:creator>Пользователь</dc:creator>
  <dc:description/>
  <dc:language>en-US</dc:language>
  <cp:lastModifiedBy>home</cp:lastModifiedBy>
  <dcterms:modified xsi:type="dcterms:W3CDTF">2020-07-09T12:05:25Z</dcterms:modified>
  <cp:revision>12</cp:revision>
  <dc:subject/>
  <dc:title>Презентация PowerPoint</dc:title>
</cp:coreProperties>
</file>