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ED9A-4F64-4B05-A8B4-2318D96F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C9C-BF62-4955-9F04-139A8588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1E5F-8BD4-48FA-AD7F-B625B6C2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E8ED-3B92-49AB-BDC1-25C6AC14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6F9A-2331-4603-A92A-54053D45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96CE-854A-449C-AF03-19C8732B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5DCD-B36E-434B-859B-038ACF77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B368-CF1D-4D7D-8958-D2556DC8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B1EC-5DFF-426F-90B3-F09C4D8D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4FCB-5964-4796-8CBE-AB9723F7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0699-67A2-49F5-81EF-36487D88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03F-9DB5-4E56-B0EC-FCED24D1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15DF-105B-4C1D-89D5-9DCC383C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3612-B239-4EED-8855-AACC6ED7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017E-10FB-48DB-8FDF-FEF5EA98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8F35-08BE-42EE-A52D-8C81681B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BDC7-404D-4F43-90F3-90DEF888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AA728-A277-4135-8590-B864136A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E61D9-9E57-45E3-A0DF-4FF485F6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568C3-4C5E-4866-A59A-97F81F3E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50E7A-DFB5-44D9-9AB4-CD9EB281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D6C07-BDA5-40E9-8936-A39D0F82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AFDF-4D48-4098-AD1A-8B236D13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5AEA9-1F9D-49A4-92EC-0A40CE05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F6410-5B29-4FDA-8733-3C7E2801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9E92C-CAA5-4955-9841-AB10862B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D733D-C646-4785-84D2-EA08F4A9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479D4-EE3B-4807-9139-47128419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53B47-118B-4D72-8122-AC473A1C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83F4C-2D8C-42FF-8E7A-97B86334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F0DB-9F7D-4C6A-842F-F06541B7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AF80-9E8C-479F-9234-CA8C845D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341E-62C2-4A09-BFEA-26F07F7D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66AA-FB7B-4AEC-B00E-BA2BEB45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5E16-FEE2-4D4F-AE11-0ADBA1BE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D0E-A6BD-48F2-9A93-E322A478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A96338-8F6B-4C39-9C2A-E650C5153FD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75FE16-275C-4353-8CA8-42AB7A36E15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1BA6D3-D3E8-47F6-86E2-4273E06C683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Группа 6"/>
          <p:cNvGrpSpPr/>
          <p:nvPr/>
        </p:nvGrpSpPr>
        <p:grpSpPr>
          <a:xfrm>
            <a:off x="285840" y="2357280"/>
            <a:ext cx="8572320" cy="2958480"/>
            <a:chOff x="285840" y="2357280"/>
            <a:chExt cx="8572320" cy="2958480"/>
          </a:xfrm>
        </p:grpSpPr>
        <p:sp>
          <p:nvSpPr>
            <p:cNvPr id="124" name="Прямоугольник 4"/>
            <p:cNvSpPr/>
            <p:nvPr/>
          </p:nvSpPr>
          <p:spPr>
            <a:xfrm>
              <a:off x="285840" y="2357280"/>
              <a:ext cx="8572320" cy="101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1" lang="ru-RU" sz="6000" spc="-1" strike="noStrike">
                <a:solidFill>
                  <a:srgbClr val="0819fb"/>
                </a:solidFill>
                <a:latin typeface="Monotype Corsiva"/>
              </a:endParaRPr>
            </a:p>
          </p:txBody>
        </p:sp>
        <p:sp>
          <p:nvSpPr>
            <p:cNvPr id="125" name="Прямоугольник 5"/>
            <p:cNvSpPr/>
            <p:nvPr/>
          </p:nvSpPr>
          <p:spPr>
            <a:xfrm>
              <a:off x="1567440" y="4946760"/>
              <a:ext cx="60829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Прямоугольник 6"/>
          <p:cNvSpPr/>
          <p:nvPr/>
        </p:nvSpPr>
        <p:spPr>
          <a:xfrm>
            <a:off x="747360" y="548640"/>
            <a:ext cx="7622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МАДОУ «Детский сад №6  «Светляч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7"/>
          <p:cNvSpPr/>
          <p:nvPr/>
        </p:nvSpPr>
        <p:spPr>
          <a:xfrm>
            <a:off x="683640" y="2205000"/>
            <a:ext cx="78483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ПРОЕКТ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«Тайна рисунка на вод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8"/>
          <p:cNvSpPr/>
          <p:nvPr/>
        </p:nvSpPr>
        <p:spPr>
          <a:xfrm>
            <a:off x="899640" y="5013000"/>
            <a:ext cx="67683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Подготовил: Плиско Кирилл -  6 л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Руководитель: педагог дополнительного образования Чернышева Жанна Владимиров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2"/>
          <p:cNvSpPr/>
          <p:nvPr/>
        </p:nvSpPr>
        <p:spPr>
          <a:xfrm>
            <a:off x="1043640" y="332640"/>
            <a:ext cx="6480360" cy="158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ГИПО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Я предположил, что для создания рисунка на воде нужны особые крас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827640" y="1989000"/>
            <a:ext cx="388908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ъект                      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194b3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755640" y="2997000"/>
            <a:ext cx="482256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заимодействие красок и воды на рисун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5" descr="IMG_0575.JPG"/>
          <p:cNvPicPr/>
          <p:nvPr/>
        </p:nvPicPr>
        <p:blipFill>
          <a:blip r:embed="rId1"/>
          <a:srcRect l="24013" t="18110" r="19287" b="24010"/>
          <a:stretch/>
        </p:blipFill>
        <p:spPr>
          <a:xfrm rot="8908800">
            <a:off x="5104800" y="3787200"/>
            <a:ext cx="297036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429840"/>
            <a:ext cx="8229240" cy="1236600"/>
          </a:xfrm>
          <a:prstGeom prst="rect">
            <a:avLst/>
          </a:prstGeom>
          <a:noFill/>
          <a:ln w="936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Цель работы: </a:t>
            </a:r>
            <a:br>
              <a:rPr sz="32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следовать технологию рисования на воде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640" y="2061000"/>
            <a:ext cx="8676000" cy="397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Познакомиться с техникой рисования на воде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Выяснить, какие материалы используют для рисования   на воде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Научиться  создавать красивые узоры, смешивая разные краски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Рисунок 5" descr="Без названия.jpg"/>
          <p:cNvPicPr/>
          <p:nvPr/>
        </p:nvPicPr>
        <p:blipFill>
          <a:blip r:embed="rId1"/>
          <a:stretch/>
        </p:blipFill>
        <p:spPr>
          <a:xfrm>
            <a:off x="3276000" y="4365000"/>
            <a:ext cx="3240000" cy="179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Другая 109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366092"/>
      </a:hlink>
      <a:folHlink>
        <a:srgbClr val="24406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Другая 109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366092"/>
      </a:hlink>
      <a:folHlink>
        <a:srgbClr val="24406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Другая 109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366092"/>
      </a:hlink>
      <a:folHlink>
        <a:srgbClr val="24406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  <Words>93</Words>
  <Paragraphs>1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3T07:22:26Z</dcterms:created>
  <dc:creator>User</dc:creator>
  <dc:description/>
  <dc:language>en-US</dc:language>
  <cp:lastModifiedBy>Наташа</cp:lastModifiedBy>
  <dcterms:modified xsi:type="dcterms:W3CDTF">2019-04-23T17:57:35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</vt:r8>
  </property>
</Properties>
</file>