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C738-2986-42C7-8872-447E91FC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9AB-95AF-45C0-B208-160F515A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EB0-D9D7-44DB-9770-D5B7A80F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BBB-D678-44EB-AF52-9FC92540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2AE8-7F65-490D-8DCC-CBC1AE22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BA6-DE98-4F66-85E5-C58C7858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040A-1434-43A5-9CFE-F0778789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14A-E247-4F29-9FF8-1B43340D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C096-830E-408A-8569-5544EBE9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311-6D72-4BBD-A273-873FE085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64E1-7A06-4EE2-8801-FB933097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BA41-9F11-4C10-A487-6B70874D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0204-DCEA-472B-9F70-639687D569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Волшебная библиот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762120" y="981000"/>
            <a:ext cx="761976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1835280" y="270000"/>
            <a:ext cx="5010120" cy="61261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2914560" y="1844640"/>
            <a:ext cx="2851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шляпе с круглыми пол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 штанишках до коле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нят разными делам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шь учиться ему л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– художник знаменит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– известный всем поэ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мечательно воспита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чень модно он од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о он, быстро отгадай-к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зовут его?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1835280" y="92160"/>
            <a:ext cx="51847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6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6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Н Е З Н А Й К 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3421080" y="1600200"/>
            <a:ext cx="2301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ложи картинки по схе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3971880" y="1046160"/>
            <a:ext cx="1814400" cy="1728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2"/>
          <a:stretch/>
        </p:blipFill>
        <p:spPr>
          <a:xfrm>
            <a:off x="2960640" y="1868400"/>
            <a:ext cx="1073160" cy="1071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"/>
          <p:cNvPicPr/>
          <p:nvPr/>
        </p:nvPicPr>
        <p:blipFill>
          <a:blip r:embed="rId3"/>
          <a:stretch/>
        </p:blipFill>
        <p:spPr>
          <a:xfrm>
            <a:off x="5919840" y="1849320"/>
            <a:ext cx="1239840" cy="1239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"/>
          <p:cNvPicPr/>
          <p:nvPr/>
        </p:nvPicPr>
        <p:blipFill>
          <a:blip r:embed="rId4"/>
          <a:stretch/>
        </p:blipFill>
        <p:spPr>
          <a:xfrm>
            <a:off x="741240" y="292572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9" descr=""/>
          <p:cNvPicPr/>
          <p:nvPr/>
        </p:nvPicPr>
        <p:blipFill>
          <a:blip r:embed="rId5"/>
          <a:stretch/>
        </p:blipFill>
        <p:spPr>
          <a:xfrm>
            <a:off x="3881520" y="3057480"/>
            <a:ext cx="1663560" cy="1508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0" descr=""/>
          <p:cNvPicPr/>
          <p:nvPr/>
        </p:nvPicPr>
        <p:blipFill>
          <a:blip r:embed="rId6"/>
          <a:stretch/>
        </p:blipFill>
        <p:spPr>
          <a:xfrm>
            <a:off x="6670800" y="2940120"/>
            <a:ext cx="1357200" cy="1658880"/>
          </a:xfrm>
          <a:prstGeom prst="rect">
            <a:avLst/>
          </a:prstGeom>
          <a:ln w="0">
            <a:noFill/>
          </a:ln>
        </p:spPr>
      </p:pic>
      <p:sp>
        <p:nvSpPr>
          <p:cNvPr id="59" name="Овал 11"/>
          <p:cNvSpPr/>
          <p:nvPr/>
        </p:nvSpPr>
        <p:spPr>
          <a:xfrm>
            <a:off x="1908000" y="4881600"/>
            <a:ext cx="6120000" cy="73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знайка хочет многое узн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2" descr=""/>
          <p:cNvPicPr/>
          <p:nvPr/>
        </p:nvPicPr>
        <p:blipFill>
          <a:blip r:embed="rId7"/>
          <a:stretch/>
        </p:blipFill>
        <p:spPr>
          <a:xfrm>
            <a:off x="4473720" y="5734080"/>
            <a:ext cx="8110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7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7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тгадай синквейн – загад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26640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"/>
          <p:cNvPicPr/>
          <p:nvPr/>
        </p:nvPicPr>
        <p:blipFill>
          <a:blip r:embed="rId2"/>
          <a:stretch/>
        </p:blipFill>
        <p:spPr>
          <a:xfrm>
            <a:off x="3203640" y="981000"/>
            <a:ext cx="3240000" cy="5229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"/>
          <p:cNvPicPr/>
          <p:nvPr/>
        </p:nvPicPr>
        <p:blipFill>
          <a:blip r:embed="rId3"/>
          <a:stretch/>
        </p:blipFill>
        <p:spPr>
          <a:xfrm>
            <a:off x="6156360" y="1415880"/>
            <a:ext cx="25923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6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6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6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5327640" cy="60483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" descr=""/>
          <p:cNvPicPr/>
          <p:nvPr/>
        </p:nvPicPr>
        <p:blipFill>
          <a:blip r:embed="rId2"/>
          <a:stretch/>
        </p:blipFill>
        <p:spPr>
          <a:xfrm>
            <a:off x="3213000" y="1706400"/>
            <a:ext cx="301464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8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колай Николаевич Носов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1908 — 1976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4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2597040" cy="34815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1547640" y="2276640"/>
            <a:ext cx="352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осов- детских книг твор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у, какой он молодец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колько книг смешных, чудес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писать он нам усп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Доброту, и смех, и юмо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оказать всем нам хотел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ерегите книги!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ниги – наши лучшие друзь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5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3730680" cy="3382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"/>
          <p:cNvPicPr/>
          <p:nvPr/>
        </p:nvPicPr>
        <p:blipFill>
          <a:blip r:embed="rId2"/>
          <a:stretch/>
        </p:blipFill>
        <p:spPr>
          <a:xfrm>
            <a:off x="250920" y="4797360"/>
            <a:ext cx="2438280" cy="1876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"/>
          <p:cNvPicPr/>
          <p:nvPr/>
        </p:nvPicPr>
        <p:blipFill>
          <a:blip r:embed="rId3"/>
          <a:stretch/>
        </p:blipFill>
        <p:spPr>
          <a:xfrm>
            <a:off x="6551640" y="4908600"/>
            <a:ext cx="25718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5" dur="6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0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06:10:59Z</dcterms:created>
  <dc:creator>Admin</dc:creator>
  <dc:description/>
  <dc:language>en-US</dc:language>
  <cp:lastModifiedBy>TOSHIBA</cp:lastModifiedBy>
  <dcterms:modified xsi:type="dcterms:W3CDTF">2020-07-09T17:24:07Z</dcterms:modified>
  <cp:revision>111</cp:revision>
  <dc:subject/>
  <dc:title>Слайд 1</dc:title>
</cp:coreProperties>
</file>