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7C3E-A0CE-4E90-9DBE-352DD253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3E8C-A5E6-4A41-8DC5-28C97CB8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2F8B-4A88-4504-9060-143F1D9A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F6B5-EC75-4C76-9112-F6D30161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2BAF-30C0-4041-88D3-D77C5A68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AB9A-A6A4-4021-A7AC-A3735962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8190-BD1A-4FAE-ACA6-6ADE4682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E3FE-E6EE-4400-979B-0B1CFF50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1A54-3BFF-4B1F-A0C3-2BFC9CFD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9872-9F07-4C62-B1A4-F8E4DC79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0250-4D89-4D1B-A7F5-36317644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D85B-0476-4038-BDFD-175A978A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1367-01EA-4E20-813C-7EF7B7B086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238560" y="22860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хнологическая к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147480" y="4287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000680" y="50004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астроение бывает разны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142920" y="92880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857160" y="928800"/>
            <a:ext cx="79297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ь определять эмоциональные состояния( радость, грусть, удивление, злость,  страх)  с использованием инструментов бережливого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166680" y="1357200"/>
            <a:ext cx="132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обходим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орудован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7"/>
          <p:cNvSpPr/>
          <p:nvPr/>
        </p:nvSpPr>
        <p:spPr>
          <a:xfrm>
            <a:off x="1500120" y="1357200"/>
            <a:ext cx="72867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упные схемы лица с разными выраж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363600" y="2714760"/>
            <a:ext cx="23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ланируемый результа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9"/>
          <p:cNvSpPr/>
          <p:nvPr/>
        </p:nvSpPr>
        <p:spPr>
          <a:xfrm>
            <a:off x="142920" y="3071880"/>
            <a:ext cx="2571840" cy="378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учатся обозначать словами различные эмоциональные состояния: (злой, веселый, удивленный, смешной); обогащать «эмоциональный» словарь; расширять представления об эмоц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Дети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 внешним признакам; учатся замечать изменения в настроении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бранного несоответствия в процессе последовательного повторения вопроса «почему?» и ответов, получаемых в ходе каждого повтор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4548240" y="1857240"/>
            <a:ext cx="30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горитм организации иг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3143160" y="2214720"/>
            <a:ext cx="578664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редложить детям рассмотреть картинк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редложить  выбрать один объект и разобрать его по схем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6176880" y="142920"/>
            <a:ext cx="37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втор: Халеева А.В., воспитатель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3"/>
          <p:cNvSpPr/>
          <p:nvPr/>
        </p:nvSpPr>
        <p:spPr>
          <a:xfrm>
            <a:off x="357120" y="1785960"/>
            <a:ext cx="219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нструмен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режливого управл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0" y="2214720"/>
            <a:ext cx="25718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 «5 почем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Группа 71"/>
          <p:cNvGrpSpPr/>
          <p:nvPr/>
        </p:nvGrpSpPr>
        <p:grpSpPr>
          <a:xfrm>
            <a:off x="3556080" y="2786040"/>
            <a:ext cx="4802040" cy="1986120"/>
            <a:chOff x="3556080" y="2786040"/>
            <a:chExt cx="4802040" cy="1986120"/>
          </a:xfrm>
        </p:grpSpPr>
        <p:sp>
          <p:nvSpPr>
            <p:cNvPr id="56" name="Скругленный прямоугольник 16"/>
            <p:cNvSpPr/>
            <p:nvPr/>
          </p:nvSpPr>
          <p:spPr>
            <a:xfrm>
              <a:off x="3556080" y="2800080"/>
              <a:ext cx="785520" cy="214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Calibri"/>
                </a:rPr>
                <a:t>Объек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46"/>
            <p:cNvGrpSpPr/>
            <p:nvPr/>
          </p:nvGrpSpPr>
          <p:grpSpPr>
            <a:xfrm>
              <a:off x="4341600" y="2786040"/>
              <a:ext cx="785520" cy="531720"/>
              <a:chOff x="4341600" y="2786040"/>
              <a:chExt cx="785520" cy="531720"/>
            </a:xfrm>
          </p:grpSpPr>
          <p:cxnSp>
            <p:nvCxnSpPr>
              <p:cNvPr id="58" name="Прямая со стрелкой 18"/>
              <p:cNvCxnSpPr>
                <a:stCxn id="56" idx="3"/>
                <a:endCxn id="59" idx="1"/>
              </p:cNvCxnSpPr>
              <p:nvPr/>
            </p:nvCxnSpPr>
            <p:spPr>
              <a:xfrm>
                <a:off x="4341600" y="2907000"/>
                <a:ext cx="138240" cy="252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59" name="TextBox 19"/>
              <p:cNvSpPr/>
              <p:nvPr/>
            </p:nvSpPr>
            <p:spPr>
              <a:xfrm>
                <a:off x="4479480" y="2786040"/>
                <a:ext cx="64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Calibri"/>
                  </a:rPr>
                  <a:t>почему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0" name="Прямая со стрелкой 21"/>
              <p:cNvCxnSpPr>
                <a:stCxn id="59" idx="2"/>
                <a:endCxn id="61" idx="0"/>
              </p:cNvCxnSpPr>
              <p:nvPr/>
            </p:nvCxnSpPr>
            <p:spPr>
              <a:xfrm>
                <a:off x="4803120" y="3032280"/>
                <a:ext cx="5040" cy="14292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61" name="Прямоугольник 23"/>
              <p:cNvSpPr/>
              <p:nvPr/>
            </p:nvSpPr>
            <p:spPr>
              <a:xfrm>
                <a:off x="4522320" y="3174840"/>
                <a:ext cx="571320" cy="142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Calibri"/>
                  </a:rPr>
                  <a:t>Отв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Группа 47"/>
            <p:cNvGrpSpPr/>
            <p:nvPr/>
          </p:nvGrpSpPr>
          <p:grpSpPr>
            <a:xfrm>
              <a:off x="5108040" y="3129120"/>
              <a:ext cx="785880" cy="531720"/>
              <a:chOff x="5108040" y="3129120"/>
              <a:chExt cx="785880" cy="531720"/>
            </a:xfrm>
          </p:grpSpPr>
          <p:cxnSp>
            <p:nvCxnSpPr>
              <p:cNvPr id="63" name="Прямая со стрелкой 48"/>
              <p:cNvCxnSpPr>
                <a:endCxn id="64" idx="1"/>
              </p:cNvCxnSpPr>
              <p:nvPr/>
            </p:nvCxnSpPr>
            <p:spPr>
              <a:xfrm>
                <a:off x="5108040" y="3251160"/>
                <a:ext cx="138600" cy="144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64" name="TextBox 49"/>
              <p:cNvSpPr/>
              <p:nvPr/>
            </p:nvSpPr>
            <p:spPr>
              <a:xfrm>
                <a:off x="5246280" y="3129120"/>
                <a:ext cx="64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Calibri"/>
                  </a:rPr>
                  <a:t>почему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5" name="Прямая со стрелкой 50"/>
              <p:cNvCxnSpPr>
                <a:stCxn id="64" idx="2"/>
                <a:endCxn id="66" idx="0"/>
              </p:cNvCxnSpPr>
              <p:nvPr/>
            </p:nvCxnSpPr>
            <p:spPr>
              <a:xfrm>
                <a:off x="5569920" y="3375360"/>
                <a:ext cx="5040" cy="14292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66" name="Прямоугольник 51"/>
              <p:cNvSpPr/>
              <p:nvPr/>
            </p:nvSpPr>
            <p:spPr>
              <a:xfrm>
                <a:off x="5289120" y="3517920"/>
                <a:ext cx="571320" cy="142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Calibri"/>
                  </a:rPr>
                  <a:t>Отв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Группа 52"/>
            <p:cNvGrpSpPr/>
            <p:nvPr/>
          </p:nvGrpSpPr>
          <p:grpSpPr>
            <a:xfrm>
              <a:off x="5866920" y="3467160"/>
              <a:ext cx="785880" cy="531720"/>
              <a:chOff x="5866920" y="3467160"/>
              <a:chExt cx="785880" cy="531720"/>
            </a:xfrm>
          </p:grpSpPr>
          <p:cxnSp>
            <p:nvCxnSpPr>
              <p:cNvPr id="68" name="Прямая со стрелкой 53"/>
              <p:cNvCxnSpPr>
                <a:endCxn id="69" idx="1"/>
              </p:cNvCxnSpPr>
              <p:nvPr/>
            </p:nvCxnSpPr>
            <p:spPr>
              <a:xfrm>
                <a:off x="5866920" y="3589200"/>
                <a:ext cx="138600" cy="144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69" name="TextBox 54"/>
              <p:cNvSpPr/>
              <p:nvPr/>
            </p:nvSpPr>
            <p:spPr>
              <a:xfrm>
                <a:off x="6005160" y="3467160"/>
                <a:ext cx="64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Calibri"/>
                  </a:rPr>
                  <a:t>почему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0" name="Прямая со стрелкой 55"/>
              <p:cNvCxnSpPr>
                <a:stCxn id="69" idx="2"/>
                <a:endCxn id="71" idx="0"/>
              </p:cNvCxnSpPr>
              <p:nvPr/>
            </p:nvCxnSpPr>
            <p:spPr>
              <a:xfrm>
                <a:off x="6328800" y="3713400"/>
                <a:ext cx="5040" cy="14292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1" name="Прямоугольник 56"/>
              <p:cNvSpPr/>
              <p:nvPr/>
            </p:nvSpPr>
            <p:spPr>
              <a:xfrm>
                <a:off x="6048000" y="3855960"/>
                <a:ext cx="571320" cy="142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Calibri"/>
                  </a:rPr>
                  <a:t>Отв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Группа 57"/>
            <p:cNvGrpSpPr/>
            <p:nvPr/>
          </p:nvGrpSpPr>
          <p:grpSpPr>
            <a:xfrm>
              <a:off x="6627600" y="3811680"/>
              <a:ext cx="785880" cy="531720"/>
              <a:chOff x="6627600" y="3811680"/>
              <a:chExt cx="785880" cy="531720"/>
            </a:xfrm>
          </p:grpSpPr>
          <p:cxnSp>
            <p:nvCxnSpPr>
              <p:cNvPr id="73" name="Прямая со стрелкой 58"/>
              <p:cNvCxnSpPr>
                <a:endCxn id="74" idx="1"/>
              </p:cNvCxnSpPr>
              <p:nvPr/>
            </p:nvCxnSpPr>
            <p:spPr>
              <a:xfrm>
                <a:off x="6627600" y="3933720"/>
                <a:ext cx="138600" cy="144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4" name="TextBox 59"/>
              <p:cNvSpPr/>
              <p:nvPr/>
            </p:nvSpPr>
            <p:spPr>
              <a:xfrm>
                <a:off x="6765840" y="3811680"/>
                <a:ext cx="64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Calibri"/>
                  </a:rPr>
                  <a:t>почему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5" name="Прямая со стрелкой 60"/>
              <p:cNvCxnSpPr>
                <a:stCxn id="74" idx="2"/>
                <a:endCxn id="76" idx="0"/>
              </p:cNvCxnSpPr>
              <p:nvPr/>
            </p:nvCxnSpPr>
            <p:spPr>
              <a:xfrm>
                <a:off x="7089480" y="4057920"/>
                <a:ext cx="5040" cy="14292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6" name="Прямоугольник 61"/>
              <p:cNvSpPr/>
              <p:nvPr/>
            </p:nvSpPr>
            <p:spPr>
              <a:xfrm>
                <a:off x="6808680" y="4200480"/>
                <a:ext cx="571320" cy="142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Calibri"/>
                  </a:rPr>
                  <a:t>Отв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Группа 62"/>
            <p:cNvGrpSpPr/>
            <p:nvPr/>
          </p:nvGrpSpPr>
          <p:grpSpPr>
            <a:xfrm>
              <a:off x="7372080" y="4156200"/>
              <a:ext cx="785880" cy="389160"/>
              <a:chOff x="7372080" y="4156200"/>
              <a:chExt cx="785880" cy="389160"/>
            </a:xfrm>
          </p:grpSpPr>
          <p:cxnSp>
            <p:nvCxnSpPr>
              <p:cNvPr id="78" name="Прямая со стрелкой 63"/>
              <p:cNvCxnSpPr>
                <a:endCxn id="79" idx="1"/>
              </p:cNvCxnSpPr>
              <p:nvPr/>
            </p:nvCxnSpPr>
            <p:spPr>
              <a:xfrm>
                <a:off x="7372080" y="4278240"/>
                <a:ext cx="138600" cy="144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9" name="TextBox 64"/>
              <p:cNvSpPr/>
              <p:nvPr/>
            </p:nvSpPr>
            <p:spPr>
              <a:xfrm>
                <a:off x="7510320" y="4156200"/>
                <a:ext cx="64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Calibri"/>
                  </a:rPr>
                  <a:t>почему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0" name="Прямая со стрелкой 65"/>
              <p:cNvCxnSpPr>
                <a:stCxn id="79" idx="2"/>
              </p:cNvCxnSpPr>
              <p:nvPr/>
            </p:nvCxnSpPr>
            <p:spPr>
              <a:xfrm>
                <a:off x="7833960" y="4402440"/>
                <a:ext cx="4680" cy="14328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sp>
          <p:nvSpPr>
            <p:cNvPr id="81" name="Скругленный прямоугольник 69"/>
            <p:cNvSpPr/>
            <p:nvPr/>
          </p:nvSpPr>
          <p:spPr>
            <a:xfrm>
              <a:off x="7318440" y="4557960"/>
              <a:ext cx="1039680" cy="214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Calibri"/>
                </a:rPr>
                <a:t>Первопричин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Box 70"/>
          <p:cNvSpPr/>
          <p:nvPr/>
        </p:nvSpPr>
        <p:spPr>
          <a:xfrm>
            <a:off x="3357720" y="5072040"/>
            <a:ext cx="550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286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редложить ребенку сформулировать вывод, содержащий поэтапное рассуждение по предлагаемой проблемной ситуации.  (Ориентировочно 5 предложений,  демонстрирующих понимание установленных причинно-следственных связей анализируемых объектов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3"/>
          <p:cNvSpPr/>
          <p:nvPr/>
        </p:nvSpPr>
        <p:spPr>
          <a:xfrm>
            <a:off x="2937600" y="5857920"/>
            <a:ext cx="119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спектив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5"/>
          <p:cNvSpPr/>
          <p:nvPr/>
        </p:nvSpPr>
        <p:spPr>
          <a:xfrm>
            <a:off x="4500720" y="5786280"/>
            <a:ext cx="4214520" cy="85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витие речи у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знавательное развитие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ложить детям описать свое настро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ртинки лиц с разным выражением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5" descr="стороны-евушки-и-ма-ьчиков-с-эмоциями-78293207.jpg"/>
          <p:cNvPicPr/>
          <p:nvPr/>
        </p:nvPicPr>
        <p:blipFill>
          <a:blip r:embed="rId1"/>
          <a:stretch/>
        </p:blipFill>
        <p:spPr>
          <a:xfrm>
            <a:off x="1071720" y="857160"/>
            <a:ext cx="692928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28T07:13:27Z</dcterms:created>
  <dc:creator>Елизавета</dc:creator>
  <dc:description/>
  <dc:language>en-US</dc:language>
  <cp:lastModifiedBy>орнепдша</cp:lastModifiedBy>
  <dcterms:modified xsi:type="dcterms:W3CDTF">2020-06-26T08:38:35Z</dcterms:modified>
  <cp:revision>26</cp:revision>
  <dc:subject/>
  <dc:title>Слайд 1</dc:title>
</cp:coreProperties>
</file>