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615-2D7B-4FD7-AE5F-F0D5DED3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7E7-1554-46FE-B2E4-6B99123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654-0D6D-444A-AC37-049EC550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0A7-A83F-4C99-8E1D-538E8AEB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957-837D-4648-800B-B23537EB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F75-DB03-4F60-B2C3-8BB7C48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87C-2FF9-4E26-94F7-7B83FE82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41A-B252-4390-9B4E-72452E0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338-CA7B-476A-BED1-9E6C172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752-BF05-4A08-A397-ACCFB659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828-04C0-4B02-8E46-6DC238A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A91-79F4-4D51-ADF5-E836ECA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8C9B-13DC-442A-99D3-543A74E10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788652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ворческий проект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Новогодняя игруш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7160" y="407196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готовила воспитат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ивенченко Е.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7120" y="500040"/>
            <a:ext cx="8329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 гимнастика «На елк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лка», «На елк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«Из чего делают новогодние игруш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Подбери игрушки по форм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тодическ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, стихи, песни, иллюстрации, компьютерные презент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отомате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1539-LENOVO-note-g50\Desktop\IMG_3456.JPG"/>
          <p:cNvPicPr/>
          <p:nvPr/>
        </p:nvPicPr>
        <p:blipFill>
          <a:blip r:embed="rId1"/>
          <a:stretch/>
        </p:blipFill>
        <p:spPr>
          <a:xfrm>
            <a:off x="357120" y="142884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1539-LENOVO-note-g50\Desktop\IMG_3444.JPG"/>
          <p:cNvPicPr/>
          <p:nvPr/>
        </p:nvPicPr>
        <p:blipFill>
          <a:blip r:embed="rId2"/>
          <a:stretch/>
        </p:blipFill>
        <p:spPr>
          <a:xfrm>
            <a:off x="4643280" y="3357720"/>
            <a:ext cx="4291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1539-LENOVO-note-g50\Desktop\IMG_3485.JPG"/>
          <p:cNvPicPr/>
          <p:nvPr/>
        </p:nvPicPr>
        <p:blipFill>
          <a:blip r:embed="rId1"/>
          <a:stretch/>
        </p:blipFill>
        <p:spPr>
          <a:xfrm>
            <a:off x="357120" y="64296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1539-LENOVO-note-g50\Desktop\IMG_3501.JPG"/>
          <p:cNvPicPr/>
          <p:nvPr/>
        </p:nvPicPr>
        <p:blipFill>
          <a:blip r:embed="rId2"/>
          <a:stretch/>
        </p:blipFill>
        <p:spPr>
          <a:xfrm>
            <a:off x="4500720" y="2928960"/>
            <a:ext cx="4290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1539-LENOVO-note-g50\Desktop\IMG_3540.JPG"/>
          <p:cNvPicPr/>
          <p:nvPr/>
        </p:nvPicPr>
        <p:blipFill>
          <a:blip r:embed="rId1"/>
          <a:stretch/>
        </p:blipFill>
        <p:spPr>
          <a:xfrm>
            <a:off x="1143000" y="1143000"/>
            <a:ext cx="679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57200" y="2214720"/>
            <a:ext cx="72835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214280" y="1643040"/>
            <a:ext cx="67154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ип проекта</a:t>
            </a:r>
            <a:r>
              <a:rPr b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ники</a:t>
            </a:r>
            <a:r>
              <a:rPr b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дети младшей групп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спитатель, 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рок реализации</a:t>
            </a:r>
            <a:r>
              <a:rPr b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19640" y="1196640"/>
            <a:ext cx="9396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03280" y="1700280"/>
            <a:ext cx="7283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чем изготавливать новогодние игрушки своими ру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3880" y="1412640"/>
            <a:ext cx="81997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этап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рганизацио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560" y="2349360"/>
            <a:ext cx="6697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вить знания детей по те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ь необходим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еализаци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.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 ре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2421000"/>
            <a:ext cx="712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формировать у детей знания о истории возникновения новогодних игруше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учить изготавливать новогодние игрушки своими рук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общить родителей к изготовлению новогодних игруш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8720" y="620640"/>
            <a:ext cx="1378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920" y="148428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эта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открыт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формить выставку новогодних игр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зентац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области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ют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огодние игрушки нужны для тог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крашать новогоднюю елку о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ются в магаз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тят узнат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ю возникнов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огодних игрушек; можно купить не толь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газине, но и сделать свои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3296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сание  продукт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ом нашего проекта явилась выставка новогодних игрушек, сделанных руками детей, совместно со взросл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и сотрудников дошкольного отделения было проведено открытое занятие «Путешествие в магазин игруше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840" y="428400"/>
            <a:ext cx="8286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образовательных обл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857240" y="1143000"/>
            <a:ext cx="574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готовление новогодних игр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лушивание новогодних пе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ение стихов на новогоднюю тема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357200" y="2857680"/>
            <a:ext cx="64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ставка игрушек сделанных своими р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«Из чего делают новогодние игр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428840" y="442908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гадывание загадок на новогоднюю 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ление рассказов про Новый год и новогодние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5:13:40Z</dcterms:created>
  <dc:creator>1</dc:creator>
  <dc:description/>
  <dc:language>en-US</dc:language>
  <cp:lastModifiedBy>1539-LENOVO-note-g50</cp:lastModifiedBy>
  <dcterms:modified xsi:type="dcterms:W3CDTF">2020-07-09T12:31:56Z</dcterms:modified>
  <cp:revision>49</cp:revision>
  <dc:subject/>
  <dc:title>Слайд 1</dc:title>
</cp:coreProperties>
</file>