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454-3859-404B-952F-C8237C39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B9D-D1F5-4F43-AB5A-02CD90B2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A10-2BC9-4E24-8436-BFCD5AF0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FCC-E266-45A1-9712-E3D89858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307-8773-4097-BECF-B22FCD87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ADD-789F-469D-B4E4-48EECF1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53A1-6F7A-4560-A537-24AD2FF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4C4-3C1F-421D-879D-CF8E1DEE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9D4-DCD7-44DE-A56C-D2B2A2C5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78FB-4B31-48DE-8F64-EC77339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9C4-8F4A-408F-9114-42D78D4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AA7-5D98-428B-97D2-24D4351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AC32-BDF1-498B-AFCD-B310FB8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9798-4CE7-4DEE-943A-93CB100C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B96-9E94-4D93-A405-5F84A31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226-2C65-4ADA-88E9-D129E9A4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5B73-F891-491C-9556-311163D7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FB3B-9364-4163-B1DA-24027DD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936D-DE08-4596-8681-D150A26D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DC0A-166A-41E1-9DB8-09B53BF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8B58-463B-458E-9C15-0952855E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DC8A-0020-42E3-8E0D-4045D9D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69C-DA02-4064-863E-A1AA645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3DFE-876C-4D63-9BCA-D01FA736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69BC-0784-4AE2-8613-9BCD50B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1CB5-7538-4089-94FC-D347CF5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93B4-E5FC-4CBE-B288-5FE16F4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66B6-F82E-468F-96B0-CA08F89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A1E6-FC88-48EF-A18B-1B4058D9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C4BC-35DF-41D9-919D-D2258828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621B-592E-48CA-A4C4-2EF8E042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6E0F-2F81-40CC-A735-61CEA89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F553-2230-4DE2-AD00-30053E2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04A-93E0-4172-89C1-4C4F998E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A396-BE16-47C4-85C6-93759E8A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9D2D-7C97-4DD8-A467-5FA4312D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9EBC-4A16-4C9F-9A49-78C7941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8389-468D-4F2B-A58E-AB3856B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EBF4-E504-43EB-A640-6067148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46DE-321F-4094-B17D-B8B55FE6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D0D5-F8F8-4960-8F9A-FDA5F83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C247-20D6-4900-8FEE-CDDF592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5FA5-98ED-4BAF-8D00-4D753A14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818-0BF7-4B8B-8E12-18712A9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9CF-B76E-4CF4-ABD4-F2E3936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5E5-BDD1-4CE0-BC50-E7B4AA9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FED-8229-459C-8587-95BD21B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FE8-5689-4471-A801-EE07160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705-6C70-459B-AD44-9479ECCA15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8CF-C0E3-4412-A0B7-8D063F0C20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391-FCAA-4ACE-B5CF-3C02B45881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C59E-6BDB-438E-8287-DF9E4FF66B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7200" y="1079640"/>
            <a:ext cx="9948960" cy="3359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250920" y="1159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КАЗЕННОЕ ОЩЕ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СКАЯ ОСНОВНАЯ ОБЩЕОБРАЗОВАТЕЛЬНАЯ ШКОЛА» МОШК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5219640" y="5097600"/>
            <a:ext cx="34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ЧЕВА АЛЕКСАНДР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АЯСЯ 6 КЛАСС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СОСНИН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514440"/>
            <a:ext cx="41036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Федя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969080" cy="4764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Это был стройный мальчик, с красивыми и тонкими, немного мелкими чертами лица, кудрявыми белокурыми волосами, светлыми глазами и постоянной полувеселой, полурассеянной улыбко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http://900igr.net/datai/literatura/Geroi-Bezhin-lug/0006-004-Fedja.jpg"/>
          <p:cNvPicPr/>
          <p:nvPr/>
        </p:nvPicPr>
        <p:blipFill>
          <a:blip r:embed="rId1"/>
          <a:stretch/>
        </p:blipFill>
        <p:spPr>
          <a:xfrm>
            <a:off x="5148360" y="1268280"/>
            <a:ext cx="3744720" cy="4824720"/>
          </a:xfrm>
          <a:prstGeom prst="rect">
            <a:avLst/>
          </a:prstGeom>
          <a:ln w="3816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514440"/>
            <a:ext cx="4608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4617b"/>
                </a:solidFill>
                <a:latin typeface="Calibri"/>
              </a:rPr>
              <a:t>Павлуша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2428"/>
                </a:solidFill>
                <a:latin typeface="Constantia"/>
              </a:rPr>
              <a:t>У Павлуши, волосы были всклоченные, черные, глаза серые, скулы широкие, лицо бледное, рябое, рот большой, но правильный, вся голова огромная, как говорится, с пивной котел, тело приземистое, неуклюжее. Малый был неказист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http://literatura5.narod.ru/paxomov6.JPG"/>
          <p:cNvPicPr/>
          <p:nvPr/>
        </p:nvPicPr>
        <p:blipFill>
          <a:blip r:embed="rId1"/>
          <a:stretch/>
        </p:blipFill>
        <p:spPr>
          <a:xfrm>
            <a:off x="4859280" y="1052640"/>
            <a:ext cx="3889440" cy="5329080"/>
          </a:xfrm>
          <a:prstGeom prst="rect">
            <a:avLst/>
          </a:prstGeom>
          <a:ln w="3816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514440"/>
            <a:ext cx="41050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4617b"/>
                </a:solidFill>
                <a:latin typeface="Calibri"/>
              </a:rPr>
              <a:t>Илюша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753080" cy="4764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2428"/>
                </a:solidFill>
                <a:latin typeface="Constantia"/>
              </a:rPr>
              <a:t>Лицо Илюши было довольно незначительно: горбоносое, вытянутое, подслеповатое, оно выражало какую-то тупую, болезненную заботливость. Его желтые волосы торчали из-под низенькой войлочной шапочки, которую он обеими руками то и дело надвигал себе на уш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http://www.booksite.ru/fulltext/1/001/010/001/263900043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19520" cy="5219640"/>
          </a:xfrm>
          <a:prstGeom prst="rect">
            <a:avLst/>
          </a:prstGeom>
          <a:ln w="2844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514440"/>
            <a:ext cx="38876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Костя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897440" cy="4619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Все лицо его было невелико, худо, в веснушках, книзу заострено, как у белки; губы едва было можно различить; но странное впечатление производили его большие, черные, жидким блеском блестевшие глаза: они, казалось, хотели что-то высказать, для чего на языке, — на его языке по крайней мере, — не было сл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illustrators.ru/illustrations/512635_original.JPG"/>
          <p:cNvPicPr/>
          <p:nvPr/>
        </p:nvPicPr>
        <p:blipFill>
          <a:blip r:embed="rId1"/>
          <a:stretch/>
        </p:blipFill>
        <p:spPr>
          <a:xfrm>
            <a:off x="5292720" y="1197000"/>
            <a:ext cx="3381480" cy="5184720"/>
          </a:xfrm>
          <a:prstGeom prst="rect">
            <a:avLst/>
          </a:prstGeom>
          <a:ln w="3816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514440"/>
            <a:ext cx="27352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Ваня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41036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72428"/>
                </a:solidFill>
                <a:latin typeface="Constantia"/>
              </a:rPr>
              <a:t>Этому мальчику было всего семь  лет. Он лежал на земле, смирнехонько прикорнув под угловатой рогожей, и только изредка выставлял из-под нее свою русую кудрявую голову.</a:t>
            </a:r>
            <a:r>
              <a:rPr b="0" lang="ru-RU" sz="2800" spc="-1" strike="noStrike">
                <a:solidFill>
                  <a:srgbClr val="072428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www.booksite.ru/pahomov/images/image_3_283.jpg"/>
          <p:cNvPicPr/>
          <p:nvPr/>
        </p:nvPicPr>
        <p:blipFill>
          <a:blip r:embed="rId1"/>
          <a:stretch/>
        </p:blipFill>
        <p:spPr>
          <a:xfrm>
            <a:off x="4788000" y="1052640"/>
            <a:ext cx="3887640" cy="519588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50920" y="2287800"/>
            <a:ext cx="849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ованные матери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тература. 6 кл. Учеб.-хрестоматия для общеобразоват. учреждений. В 4 ч./ В. П. Полухина; под ред. В. Я. Коровиной.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415800" y="3573360"/>
            <a:ext cx="554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000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4:09:30Z</dcterms:created>
  <dc:creator>Евгений</dc:creator>
  <dc:description/>
  <dc:language>en-US</dc:language>
  <cp:lastModifiedBy>Илья Соснин</cp:lastModifiedBy>
  <dcterms:modified xsi:type="dcterms:W3CDTF">2020-07-10T08:01:00Z</dcterms:modified>
  <cp:revision>41</cp:revision>
  <dc:subject/>
  <dc:title>И.С. Тургенев рассказ «Бежин луг»</dc:title>
</cp:coreProperties>
</file>