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FFA8-E643-489C-939C-D1D54C28E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AEA9-3CCA-44ED-BBA1-A3482E6EF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6D60-BBB4-4E1C-B581-76E53D25F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5E71-C5EF-48C2-A37D-E7025974D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0F8F-7611-4030-A443-4A8D3BD5C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88A5-A9B4-4277-88E2-C9CDB054A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2497-A8D9-4944-874D-151B4BB75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8989-0D7C-445C-8F8B-A72E5F7A6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8342-0587-4ED8-9DD2-A6DBE41C0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82EA-9617-4776-97C3-68AAF4559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3156-EB70-4132-A90E-89DF12DC1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3E25-B781-47D9-993C-499846D3E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41713-7CDE-45EA-9339-409E1A3594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1066320"/>
            <a:ext cx="762012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Деятельностный подход в образовательной деятельности с дошкольник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42640" y="4267080"/>
            <a:ext cx="7543800" cy="18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바탕"/>
                <a:ea typeface="바탕"/>
              </a:rPr>
              <a:t>Подготов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바탕"/>
                <a:ea typeface="바탕"/>
              </a:rPr>
              <a:t>Багрянцева Т.Н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바탕"/>
                <a:ea typeface="바탕"/>
              </a:rPr>
              <a:t>старший воспит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바탕"/>
                <a:ea typeface="바탕"/>
              </a:rPr>
              <a:t>МБДОУ «Малышо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914400" y="1066680"/>
          <a:ext cx="7391520" cy="4989600"/>
        </p:xfrm>
        <a:graphic>
          <a:graphicData uri="http://schemas.openxmlformats.org/drawingml/2006/table">
            <a:tbl>
              <a:tblPr/>
              <a:tblGrid>
                <a:gridCol w="1066680"/>
                <a:gridCol w="6324840"/>
              </a:tblGrid>
              <a:tr h="688680">
                <a:tc>
                  <a:txBody>
                    <a:bodyPr lIns="24480" rIns="24480" tIns="24480" bIns="24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Droid Sans Fallback"/>
                        </a:rPr>
                        <a:t>1. Создание проблемной ситу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4480" rIns="24480" tIns="24480" bIns="24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Droid Sans Fallback"/>
                        </a:rPr>
                        <a:t>Процесс вовлечения в деятельност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Droid Sans Fallback"/>
                        </a:rPr>
                        <a:t>1. Что-то внести, чтобы большинство детей заинтересовалос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Droid Sans Fallback"/>
                        </a:rPr>
                        <a:t>2. Что-то убрать, оставив пустое место (в группе не осталось кукол или машин или др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Droid Sans Fallback"/>
                        </a:rPr>
                        <a:t>3. Приходит кто-то в гости или игруш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Droid Sans Fallback"/>
                        </a:rPr>
                        <a:t>4. Эффект неожиданности (шум, треск, стук..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Droid Sans Fallback"/>
                        </a:rPr>
                        <a:t>5. Делать в присутствии детей что-то необычное с просьбой отойти и не мешать (смотреть пристально в окно, играть с мл. воспитателем в шашки и д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Droid Sans Fallback"/>
                        </a:rPr>
                        <a:t>6. Интрига (подождите, после зарядки скажу; не смотрите, после завтрака покажу; не трогайте, это очень хрупкое, испортите; например, выпал снег, до прихода детей повесить на окно простынь «Ребята, пока не смотрите, у меня там такая красивая картина, попозже о ней поговорим»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Droid Sans Fallback"/>
                        </a:rPr>
                        <a:t>7. Договориться с родителями одеть ребенка во что-то определенного цвета; повар приглашает в гости и просит сделать то-то; муз.рук. обещает интересное развлечение, но надо помочь в том-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Droid Sans Fallback"/>
                        </a:rPr>
                        <a:t>8. Специально организованная ситуация (все мыло заменить камушками, мелок кусочком сахар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Droid Sans Fallback"/>
                        </a:rPr>
                        <a:t>9. День рождения у ребенка (воспитатель: «Ребята, фантики от конфет кладите в коробочку, они мне нужны для сюрприза». Дети заинтересованы : «Какого?»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Droid Sans Fallback"/>
                        </a:rPr>
                        <a:t>10.Воспитателю нужна помощь детей в чем-то конкретном, он обращается с просьбой к детя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Droid Sans Fallback"/>
                        </a:rPr>
                        <a:t>Если хочет что-то сказать мальчик или застенчивый ребенок, сначала спросить их, а уж потом давать высказываться девочк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24480" rIns="24480" tIns="24480" bIns="24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Droid Sans Fallback"/>
                        </a:rPr>
                        <a:t>2. Целевая установ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51080">
                <a:tc>
                  <a:txBody>
                    <a:bodyPr lIns="24480" rIns="24480" tIns="24480" bIns="24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Droid Sans Fallback"/>
                        </a:rPr>
                        <a:t>3. Мотивирование к деятельно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Droid Sans Fallback"/>
                        </a:rPr>
                        <a:t>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914400" y="228600"/>
          <a:ext cx="7391520" cy="1096920"/>
        </p:xfrm>
        <a:graphic>
          <a:graphicData uri="http://schemas.openxmlformats.org/drawingml/2006/table">
            <a:tbl>
              <a:tblPr/>
              <a:tblGrid>
                <a:gridCol w="1066680"/>
                <a:gridCol w="6324840"/>
              </a:tblGrid>
              <a:tr h="1096920">
                <a:tc>
                  <a:txBody>
                    <a:bodyPr lIns="14760" rIns="14760" tIns="14760" bIns="14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Droid Sans Fallback"/>
                        </a:rPr>
                        <a:t>Этапы деятельно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Droid Sans Fallback"/>
                        </a:rPr>
                        <a:t>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760" marR="14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760" rIns="14760" tIns="14760" bIns="14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Droid Sans Fallback"/>
                        </a:rPr>
                        <a:t>Содержа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760" marR="14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143000" y="1066680"/>
          <a:ext cx="4648320" cy="4923000"/>
        </p:xfrm>
        <a:graphic>
          <a:graphicData uri="http://schemas.openxmlformats.org/drawingml/2006/table">
            <a:tbl>
              <a:tblPr/>
              <a:tblGrid>
                <a:gridCol w="1155600"/>
                <a:gridCol w="3492720"/>
              </a:tblGrid>
              <a:tr h="1127880">
                <a:tc>
                  <a:txBody>
                    <a:bodyPr lIns="30960" rIns="30960" tIns="30960" bIns="30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Droid Sans Fallback"/>
                        </a:rPr>
                        <a:t>4. Проектирование решений проблемной ситу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0960" rIns="30960" tIns="30960" bIns="30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Droid Sans Fallback"/>
                        </a:rPr>
                        <a:t>Выдвижение различных вариантов, что сделать, чтобы разрешить проблему. Ответы детей не оценивать, принимать любые, не предлагать что-то делать или не делать, а предлагать что-то сделать на выбор. Опираться на личный опыт детей, выбирая помощников или консультантов. В процессе деятельности воспитатель всегда спрашивает детей: «Зачем, почему ты это делаешь?», чтоб ребенок осмысливал каждый шаг. Если ребенок делает что-то не так, дать ему возможность самому понять что именно, можно на помощь отправить более смышленого ребен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960">
                <a:tc>
                  <a:txBody>
                    <a:bodyPr lIns="30960" rIns="30960" tIns="30960" bIns="30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Droid Sans Fallback"/>
                        </a:rPr>
                        <a:t>5. Выполнение действ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4760">
                <a:tc>
                  <a:txBody>
                    <a:bodyPr lIns="30960" rIns="30960" tIns="30960" bIns="30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Droid Sans Fallback"/>
                        </a:rPr>
                        <a:t>6. Анализ результатов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30960" bIns="30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Droid Sans Fallback"/>
                        </a:rPr>
                        <a:t>Не спрашивать у детей: понравилось или нет. Спросить надо: «Зачем вы все это сделали?», чтоб понять, осознал ли ребенок ц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520">
                <a:tc>
                  <a:txBody>
                    <a:bodyPr lIns="30960" rIns="30960" tIns="30960" bIns="30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Droid Sans Fallback"/>
                        </a:rPr>
                        <a:t>7. Подведение итог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30960" bIns="30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Droid Sans Fallback"/>
                        </a:rPr>
                        <a:t>Найти кого за что похвалить (не только за результат, но и за деятельность в процесс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838080" y="1143000"/>
          <a:ext cx="7467840" cy="5486400"/>
        </p:xfrm>
        <a:graphic>
          <a:graphicData uri="http://schemas.openxmlformats.org/drawingml/2006/table">
            <a:tbl>
              <a:tblPr/>
              <a:tblGrid>
                <a:gridCol w="1382760"/>
                <a:gridCol w="1817640"/>
                <a:gridCol w="4267440"/>
              </a:tblGrid>
              <a:tr h="898560"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диционный процесс обуч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тельная деятельность при деятельностном подход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4240"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ействованная сторона мыш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роизводящая сторона мышления (репродуктивн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ворческая сторона мышления (продуктивна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5920"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 педаго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формация знаний и истин в готовом виде от педагога ребен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 мыслить путем создания и разрешения проблемных ситуаций, организации исследовательской, поисковой деятельности детей, направленной на открытие нового в процессе решения пробл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7680"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 ребе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риятие и запоминание знаний в готовом виде как истин в последней инстан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обретает поисковый, исследовательский характер в процессе решения проблем, открытия новых знаний и способов действи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Rectangle 1"/>
          <p:cNvSpPr/>
          <p:nvPr/>
        </p:nvSpPr>
        <p:spPr>
          <a:xfrm>
            <a:off x="1219320" y="292680"/>
            <a:ext cx="6933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Сравнительный анализ традиционного процесса обучения и деятельностного подх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"/>
          <p:cNvSpPr/>
          <p:nvPr/>
        </p:nvSpPr>
        <p:spPr>
          <a:xfrm>
            <a:off x="990720" y="1360080"/>
            <a:ext cx="541008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Times New Roman"/>
              </a:rPr>
              <a:t>Методы и формы, используемые при деятельностном подходе:</a:t>
            </a:r>
            <a:r>
              <a:rPr b="0" lang="ru-RU" sz="1600" spc="-1" strike="noStrike">
                <a:solidFill>
                  <a:srgbClr val="c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диалога, проекта, игровые мотивирования, целеполагания, создание ситуации выбора, рефлексивные педагогической поддержки, создания ситуации успеха, обеспечение самореализации де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Times New Roman"/>
              </a:rPr>
              <a:t>Формы самореализации дошкольников</a:t>
            </a:r>
            <a:r>
              <a:rPr b="0" lang="ru-RU" sz="1600" spc="-1" strike="noStrike">
                <a:solidFill>
                  <a:srgbClr val="c00000"/>
                </a:solidFill>
                <a:latin typeface="Arial"/>
                <a:ea typeface="Times New Roman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ыставки (тематические и авторские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сональные выставки детских работ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зентации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Игровые проекты (обязательным условием самореализации ребенка является его участие в проекте и продукт детской деятельности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Коллекц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"/>
          <p:cNvSpPr/>
          <p:nvPr/>
        </p:nvSpPr>
        <p:spPr>
          <a:xfrm>
            <a:off x="1219320" y="1323360"/>
            <a:ext cx="41148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Times New Roman"/>
              </a:rPr>
              <a:t>Итак, золотые правила деятельностного подход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ари ребенку радость творчества, осознание авторского голос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еди  ребенка от собственного опыта к общественному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Будь не «НАД», а «РЯДОМ»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адуйся вопросу, но отвечать не спеш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Учи анализировать каждый этап работы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Не критикуй, а стимулируй активность ребен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  <a:ea typeface="바탕"/>
              </a:rPr>
              <a:t>Деятельнос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바탕"/>
              </a:rPr>
              <a:t> можно определить как специфиче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바탕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바탕"/>
              </a:rPr>
              <a:t>вид активности человека, направленный на познание и творческое превращение окружающего мира, включая самого себя и условия своего существов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  <a:ea typeface="바탕"/>
              </a:rPr>
              <a:t>Деятельнос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바탕"/>
              </a:rPr>
              <a:t> – активное отношение к окружающей действительности, выражающееся в воздействии на нее. Складывается из действ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  <a:ea typeface="바탕"/>
              </a:rPr>
              <a:t>Деятельнос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바탕"/>
              </a:rPr>
              <a:t> – система действий человек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바탕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바탕"/>
              </a:rPr>
              <a:t>направленная на достиж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바탕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바탕"/>
              </a:rPr>
              <a:t>определенной цели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914400" y="1295280"/>
            <a:ext cx="6858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haroni"/>
              </a:rPr>
              <a:t>     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Aharoni"/>
              </a:rPr>
              <a:t>Деятельностный подход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haroni"/>
              </a:rPr>
              <a:t>- эт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haroni"/>
              </a:rPr>
              <a:t>Субъектно ориентированная организация и управление педагогом         деятельностью ребенка при решении им специально организованных учебных задач разной сложности и проблематики. Эти задачи развивают не только предметную, коммуникативную и другие виды  компетентностей ребенка, но и его самого как лич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haron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haroni"/>
              </a:rPr>
              <a:t>Предполагает  открытие перед ребенком все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haron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haroni"/>
              </a:rPr>
              <a:t>спектра возможностей и создание у н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haron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haroni"/>
              </a:rPr>
              <a:t>установки на свободный, но ответстве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haron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haroni"/>
              </a:rPr>
              <a:t>выбор той или иной возмож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"/>
          <p:cNvSpPr/>
          <p:nvPr/>
        </p:nvSpPr>
        <p:spPr>
          <a:xfrm>
            <a:off x="1295280" y="1232280"/>
            <a:ext cx="5486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Деятельностный подход ставит следующие задачи перед педагог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оздать условия  для того, чтобы сделать процесс приобретения знаний ребенком  мотивированны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Учить ребенка самостоятельно ставить перед собой цель и находить пути, в том числе средства, ее достиж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могать ребенку сформировать у себ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умения контроля и самоконтроля, оцен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 самооцен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1143000" y="1464480"/>
            <a:ext cx="4267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уть воспитания с точки зрения деятельностного подхода заключается в том, что в центре внимания стоит не просто деятельность, а совместная деятельность детей с взрослыми, в реализации вместе выработанных целей и задач. Педагог не подает готовые образцы, а создает, вырабатывает их вместе с детьми, организует совместный поиск норм и законов жизни в процессе деятельности и составляет содержание воспитательного процесса, реализуемого в контексте деятельностного подх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990720" y="1088280"/>
            <a:ext cx="73152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нципы деятельностного подход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70000" algn="just">
              <a:buClr>
                <a:srgbClr val="000000"/>
              </a:buClr>
              <a:buFont typeface="Arial"/>
              <a:buChar char="•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нцип субъектности воспитания: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Воспитанник  - не объект воспитательно образовательного процесса, не просто исполнитель, он – субъект деятельности, посредством которой осуществляется его самореализация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2"/>
          <p:cNvSpPr/>
          <p:nvPr/>
        </p:nvSpPr>
        <p:spPr>
          <a:xfrm>
            <a:off x="990720" y="2369520"/>
            <a:ext cx="73152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нцип учета ведущих видов деятельности и законов их смен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Учитывает характер и законы смены типов ведущей деятельности в формировании личности ребенка как основания периодизации детского развития. Подход в своих теоретических и практических основаниях учитывает научно обоснованные положения о том, что все психологические новообразования определяемой осуществляемой ребенком ведущей деятельностью и потребностью смены этой деяте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914400" y="4169160"/>
            <a:ext cx="75438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нцип учета сензитивных периодов развит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Ориентируется на сенезитивные периоды развития дошкольников как на периоды, в которые они наиболее «чувствительны» к усвоению языка, освоению способов общения и деятельности, предметных и умственных действий. Например, до 3 лет - сензитивный период речевого развития, 4,5- 5 лет - развития фонематического слуха. Эта ориентация обуславливает необходимость непрерывного поиска соответствующего содержания обучения и воспитания, как предметного, так и одинакового, символического характера, а также соответствующих методов обучения и воспит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914400" y="990720"/>
            <a:ext cx="78487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нцип преодоления зоны ближайшего развития и организация в ней совместной деятельности детей и взросл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обое значение имеет положение, сформулированное Л.С. Выготским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 … исследуя, что ребенок выполнит самостоятельно, мы исследуем развитие вчерашнего дня, исследуя, что ребенок способен выполнить в сотрудничестве, мы определяем развитие завтрашнего дн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нцип обогащения, усиления, углубления детского развит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гласно  теории о самоценности дошкольного периода жизни человека (теория А.В.Запорожца),  основной путь развития ребёнка в период дошкольного детства – это амплификация развития, то есть обогащение, наполнение наиболее значимыми для ребёнка, специфически детскими дошкольными формами, видами и способами деятельности. Наиболее близкие и естественные для ребёнка-дошкольника виды деятельности – игра, общение со взрослыми и сверстниками, экспериментирование, предметная, изобразительная, художественно-театральная деятельность, детский труд и самообслуживание – занимают особое место в систе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1143000" y="1150560"/>
            <a:ext cx="71629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нцип проектирования, конструирования и создания ситуации воспитывающей деятельност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Деятельность должна быть социально - значимой и общественно - полезн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нцип обязательной  результативности каждого вида деятельност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нцип высокой  мотивированности любых видов деятельност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нцип обязательной рефлективности всякой деятельност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флексия - процесс самопознания субъектом внутренних психических актов и состояний, анализ субъекта  собственных пережива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1143000" y="3116880"/>
            <a:ext cx="44956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133200"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нцип нравственного обогащения используемых в качестве средства видов деятельност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133200"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нцип сотрудничества при организации и управлении различными видами деятельност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133200"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нцип активности ребенка в образовательном процессе, который заключается в целенаправленном активном восприятии  ребенком изучаемых явлений, их осмыслении, переработке и применен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1066680" y="1153800"/>
            <a:ext cx="6400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Структура образовательной деятельности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на основании деятельностного подх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оздание проблемной ситуа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Целевая установ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отивирование к деятель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ектирование решений проблемной ситу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ыполнение действий (задан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нализ результатов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ведение итог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etodist</dc:creator>
  <dc:description/>
  <dc:language>en-US</dc:language>
  <cp:lastModifiedBy>Metodist</cp:lastModifiedBy>
  <dcterms:modified xsi:type="dcterms:W3CDTF">2016-11-17T03:47:21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